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58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74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14.png" ContentType="image/png"/>
  <Override PartName="/ppt/media/image69.wmf" ContentType="image/x-wmf"/>
  <Override PartName="/ppt/media/image29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71.wmf" ContentType="image/x-wmf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3778-439E-4BBE-8786-B52249FF7B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3A45-BCC6-4281-97DE-1C288491EA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70D8-9EC9-4FFF-812D-E516EB989D4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878D-16E1-44BD-8886-16703A242B1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606B-3F93-42FC-AE86-1D2CDBABFEA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5693-B965-4490-9F7F-1AD5FFEA7B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2833-233A-4F4B-A180-A8C45117A9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6A70-3DBB-4A3A-A0B6-853561141C5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D138-2364-4822-8BE8-ECD1B957E7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C52E-4258-46C2-8499-B53E18D403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1151-B0EB-4542-BA68-010DF6AA776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229A-1A54-4BE3-B0C8-79D1D86B586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9BE6-89A8-4F58-AC2C-D38468C2B11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067E-D3E0-4058-961A-6188D21777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9F19-34C6-4935-B912-335BC26B5E7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5CA2-D550-4EBA-889C-42D10F5885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24C5-857E-4DAB-8F75-6574DEDD7C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728A-B7F5-4009-9BF1-8ED073DBBF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6F50-D4DB-49DA-9355-D05BF188DB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DEC6-392B-43E2-9803-42FAA5C42F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DDB3-683C-40BD-A380-5E1D226D52C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AE9A-3CF1-4846-8C38-4B741BFE8F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9A7B-1F8F-49FB-8D99-360A4F7A46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FF97-B33B-4707-85AA-F81FBCCA84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92E6-5223-4F62-8C4D-3EE5AB38C4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899A-8A56-4CDF-9948-36B127FE99D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3AD1-9F39-4CAF-92E4-D075C2333C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39C5-E050-4957-B73C-5D89F9740F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C36E-3042-44AC-8D5D-BDED011DAC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583E-7431-41FD-895A-46AA589941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6476-2DA0-422E-A39E-ED1E219F3E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831C-862C-444C-9142-15199F1612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81A6-C3D3-4652-B45A-9E20EC2507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0633-97BE-48FD-8774-A1AD980D01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715E-785A-4FCB-930C-133A656246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BAF9-9BE9-49B8-8557-061985889A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2DC7-0BF6-4008-BCE1-459BBD285A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7C6A-7F66-45FB-8804-23D15DB7EF1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2E86-9C59-499B-81A1-DE8A1C8E292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FDFE-B67F-47C5-B8C3-CEB36D3051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51EC-8F17-45E3-9BAF-CEB33C09DC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AFA4-2B73-4A28-82FC-8FB72B598A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EFE4-9B39-4348-9A0E-4A245BCE3D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FD92-C5D7-4978-8E29-0770E56EA0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A1B1-542A-4EE3-BD52-F6C5F83F6A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AFE4-2371-469F-82AB-1C6DD6C757D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96A4-8E7C-465E-95E6-EA7728E617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EA82-5386-434E-A586-B01B04A4E00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49B9-9CD0-4976-A326-9CA72990F0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63A6-F66E-4876-8D24-F12D48C829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8AD0-C824-496B-A592-3CFCD99798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B6F3-5CD6-4F28-8EFB-56F1BC7EC7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4148-2493-4001-A88F-CD932DCF7E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C2A0-FF28-471E-9D99-542EDF00CB7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064F-939D-4E52-929A-EBBA386EAE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0C4C-8400-4632-B9D8-9B4F038664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745D-F548-43E1-A27E-4DF9932868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1934-73B6-4255-9988-38AA6678445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E11C-8C7E-4872-85DB-E0B43D19B7E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5504-9C64-4FDD-AD3E-088E9A4F803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064C-C4D3-4085-9431-C2AA733196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C8C6-93BF-40E1-B181-7576EF237A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8604000" y="6536880"/>
            <a:ext cx="539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footer&gt;</a:t>
            </a:r>
            <a:fld id="{C8846FEA-4DB1-443F-AAB7-AF7BAC595088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9600" y="41400"/>
            <a:ext cx="1219320" cy="12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2" name="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9360" y="2747880"/>
              <a:ext cx="9183600" cy="1420920"/>
            </a:xfrm>
            <a:custGeom>
              <a:avLst/>
              <a:gdLst/>
              <a:ahLst/>
              <a:rect l="l" t="t" r="r" b="b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8.png"/><Relationship Id="rId3" Type="http://schemas.openxmlformats.org/officeDocument/2006/relationships/image" Target="../media/image2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280" y="622440"/>
            <a:ext cx="6696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楷体_GB2312"/>
              </a:rPr>
              <a:t>Data Processing of Resting-State fMRI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楷体_GB2312"/>
              </a:rPr>
              <a:t>(Part 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9480" y="3068640"/>
            <a:ext cx="636192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AN Chao-Gan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严超赣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Ph. D.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ycg.yan@gmail.com</a:t>
            </a:r>
            <a:br>
              <a:rPr sz="2400"/>
            </a:b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State Key Laboratory of Cognitive Neuroscience and Learning,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Beijing Normal University, China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600360" cy="3016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47640" y="3933720"/>
            <a:ext cx="136872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7280" y="191628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 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5371920" cy="1342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692360" y="1844640"/>
            <a:ext cx="3238560" cy="3840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692360" y="5300640"/>
            <a:ext cx="187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195640" y="1628640"/>
            <a:ext cx="3281400" cy="3816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132000" y="3141720"/>
            <a:ext cx="273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3635280" y="2708280"/>
            <a:ext cx="4681800" cy="1760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27640" y="3284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3635280" y="2708280"/>
            <a:ext cx="4897440" cy="1436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00720" y="335772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371628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1280" y="5661000"/>
            <a:ext cx="799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HeightthresholdT = </a:t>
            </a:r>
            <a:r>
              <a:rPr b="1" lang="zh-CN" sz="2000" spc="-1" strike="noStrike">
                <a:solidFill>
                  <a:srgbClr val="ffff00"/>
                </a:solidFill>
                <a:latin typeface="Verdana"/>
                <a:ea typeface="宋体"/>
              </a:rPr>
              <a:t>2.687659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{p&lt;0.05(FDR)}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Extentthresholdk = 10 voxel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5184720" cy="3865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4360" y="4581360"/>
            <a:ext cx="223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3500280"/>
            <a:ext cx="27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pmT_0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700360" y="2205000"/>
            <a:ext cx="5616720" cy="2654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659640" y="3213000"/>
            <a:ext cx="1512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1628640"/>
            <a:ext cx="720108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repara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ALFF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：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LF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FF: mfALF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Ho: smReHo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C: zFC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sk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920" y="1052640"/>
            <a:ext cx="8066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Mask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Brain Mask 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Mask=Patient_1T.img + CON_1T.img&gt;0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5472360" cy="2604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3573360"/>
            <a:ext cx="2374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Patient_1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CON_1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6000" y="3789360"/>
            <a:ext cx="1656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4508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00720" y="436572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Mask_2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515772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501336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i1+i2&gt;0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76720" y="765000"/>
            <a:ext cx="3396960" cy="5688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836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5734080"/>
            <a:ext cx="352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 or zFC*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or the two group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32720" y="5950080"/>
            <a:ext cx="22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Directory for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saving SPM.ma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80000" y="1773360"/>
            <a:ext cx="2376360" cy="79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5950080"/>
            <a:ext cx="16556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35280" y="400536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3933720"/>
            <a:ext cx="21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 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Mask_2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321080" cy="3686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356000" y="378936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708360" y="3141720"/>
            <a:ext cx="3384720" cy="1185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708360" y="3573360"/>
            <a:ext cx="331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20000" y="35733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332000" y="1700280"/>
            <a:ext cx="3895560" cy="4903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600360" cy="3016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47640" y="3933720"/>
            <a:ext cx="136872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07280" y="220500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5371920" cy="1342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692360" y="1844640"/>
            <a:ext cx="3238560" cy="3840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692360" y="5300640"/>
            <a:ext cx="187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2124000" y="1916280"/>
            <a:ext cx="3487680" cy="4032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348000" y="3429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 -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3851280" y="2997360"/>
            <a:ext cx="4932360" cy="1155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516720" y="364500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3924360" y="3357720"/>
            <a:ext cx="4895640" cy="1114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588000" y="4005360"/>
            <a:ext cx="215928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11280" y="5661000"/>
            <a:ext cx="799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HeightthresholdT = </a:t>
            </a:r>
            <a:r>
              <a:rPr b="1" lang="zh-CN" sz="2000" spc="-1" strike="noStrike">
                <a:solidFill>
                  <a:srgbClr val="ffff00"/>
                </a:solidFill>
                <a:latin typeface="Verdana"/>
                <a:ea typeface="宋体"/>
              </a:rPr>
              <a:t>Inf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{p&lt;0.05(FDR)}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Extentthresholdk = 0 voxel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3500280"/>
            <a:ext cx="27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pmT_0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5184720" cy="38592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4360" y="4581360"/>
            <a:ext cx="223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48360" y="242100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3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5833800" cy="5905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300720" y="2133720"/>
            <a:ext cx="284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 or zFC*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or each pai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1197000"/>
            <a:ext cx="719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4867200"/>
            <a:ext cx="1655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40464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6720" y="5084640"/>
            <a:ext cx="21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1844640"/>
            <a:ext cx="143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1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2920" y="184464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5977080" cy="51832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63640" y="3282840"/>
            <a:ext cx="280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6360" y="2854440"/>
            <a:ext cx="194472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31399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1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300480" cy="6669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292720" y="1989000"/>
            <a:ext cx="107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03280" y="1484280"/>
            <a:ext cx="719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03280" y="4292640"/>
            <a:ext cx="12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2133720"/>
            <a:ext cx="93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03640" y="4149720"/>
            <a:ext cx="309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Corresponding leve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3716280"/>
            <a:ext cx="1440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34920" y="476280"/>
            <a:ext cx="4751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465300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932360" y="4581360"/>
            <a:ext cx="345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Images for this group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9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87280" y="1612800"/>
            <a:ext cx="6048720" cy="5245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763640" y="3141720"/>
            <a:ext cx="280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47516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9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2920" y="263700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9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1484280"/>
            <a:ext cx="720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SPM5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xjview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RIcr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Slice Viewer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5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40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SPM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465800" cy="2044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995640" y="256536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580000" y="2060640"/>
            <a:ext cx="1616040" cy="1655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5580000" y="242100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042920" y="2133720"/>
            <a:ext cx="5362560" cy="42764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619280" y="2421000"/>
            <a:ext cx="39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80000" y="3068640"/>
            <a:ext cx="936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2556000" y="333360"/>
            <a:ext cx="4743360" cy="6200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1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759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SPM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1616040" cy="16556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84360" y="2205000"/>
            <a:ext cx="122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635280" y="1484280"/>
            <a:ext cx="3457800" cy="30672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84360" y="2492280"/>
            <a:ext cx="122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3348000" y="1844640"/>
            <a:ext cx="4591080" cy="332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5" dur="1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241800" cy="27828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759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xj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73080" y="378936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5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结果呈现—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xj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76360" y="100080"/>
            <a:ext cx="8099280" cy="67485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195640" y="5589720"/>
            <a:ext cx="576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0360" y="5950080"/>
            <a:ext cx="863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68360" y="5805360"/>
            <a:ext cx="935280" cy="14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124000" y="2997360"/>
            <a:ext cx="511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3284640"/>
            <a:ext cx="1657080" cy="165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5" dur="1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tatistical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One sample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Two Sample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aired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NOVA analysi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23640" y="40428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MRIc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2060640"/>
            <a:ext cx="1584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48000" y="2060640"/>
            <a:ext cx="719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-36360" y="1628640"/>
            <a:ext cx="3752640" cy="15908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835280" y="227664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9075600" cy="36417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9" dur="1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13" name=""/>
          <p:cNvSpPr/>
          <p:nvPr/>
        </p:nvSpPr>
        <p:spPr>
          <a:xfrm>
            <a:off x="-108000" y="2781360"/>
            <a:ext cx="19796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ST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Slic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Viewer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156360" y="836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0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3" dur="1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8066160" cy="63594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976320" y="0"/>
            <a:ext cx="1724040" cy="22766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71640" y="3500280"/>
            <a:ext cx="187164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08000" y="6424560"/>
            <a:ext cx="1079640" cy="244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71640" y="4005360"/>
            <a:ext cx="187164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71640" y="765000"/>
            <a:ext cx="1512720" cy="2890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42920" y="5300640"/>
            <a:ext cx="576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835280" y="4797360"/>
            <a:ext cx="936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19280" y="5300640"/>
            <a:ext cx="43164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916360" y="1557360"/>
            <a:ext cx="5472000" cy="39304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987640" y="249408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987640" y="328464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87640" y="3860640"/>
            <a:ext cx="1152720" cy="287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87640" y="465300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0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5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5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5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5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5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5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5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5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1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1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1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921440" cy="62467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35" name=""/>
          <p:cNvSpPr/>
          <p:nvPr/>
        </p:nvSpPr>
        <p:spPr>
          <a:xfrm>
            <a:off x="1187280" y="5589720"/>
            <a:ext cx="863640" cy="4330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3059280" y="1916280"/>
            <a:ext cx="5329080" cy="37954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132000" y="2565360"/>
            <a:ext cx="79236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32000" y="3284640"/>
            <a:ext cx="64800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4869000"/>
            <a:ext cx="79236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3" dur="1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3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9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9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900000" y="1557360"/>
          <a:ext cx="181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181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2987640" y="476280"/>
            <a:ext cx="396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For Voxel size = 3*3*3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900000" y="3284640"/>
          <a:ext cx="2171880" cy="14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284640"/>
                    <a:ext cx="217188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900000" y="4941720"/>
          <a:ext cx="2273400" cy="152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4941720"/>
                    <a:ext cx="22734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3348000" y="1773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 touch rmm=4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03640" y="3429000"/>
            <a:ext cx="57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 or edges touch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rmm=5; </a:t>
            </a:r>
            <a:r>
              <a:rPr b="1" lang="zh-CN" sz="1800" spc="-1" strike="noStrike">
                <a:solidFill>
                  <a:srgbClr val="b1e2fb"/>
                </a:solidFill>
                <a:latin typeface="Tahoma"/>
              </a:rPr>
              <a:t>SPM_Criterion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03640" y="5157720"/>
            <a:ext cx="57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, edges, or corners touch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rmm=6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0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1" dur="1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611280" y="189000"/>
            <a:ext cx="7705440" cy="6408360"/>
            <a:chOff x="611280" y="189000"/>
            <a:chExt cx="7705440" cy="6408360"/>
          </a:xfrm>
        </p:grpSpPr>
        <p:pic>
          <p:nvPicPr>
            <p:cNvPr id="353" name="" descr=""/>
            <p:cNvPicPr/>
            <p:nvPr/>
          </p:nvPicPr>
          <p:blipFill>
            <a:blip r:embed="rId1"/>
            <a:stretch/>
          </p:blipFill>
          <p:spPr>
            <a:xfrm>
              <a:off x="611280" y="189000"/>
              <a:ext cx="7705440" cy="58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2"/>
            <a:stretch/>
          </p:blipFill>
          <p:spPr>
            <a:xfrm>
              <a:off x="829080" y="5186520"/>
              <a:ext cx="2408400" cy="141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"/>
          <p:cNvSpPr/>
          <p:nvPr/>
        </p:nvSpPr>
        <p:spPr>
          <a:xfrm>
            <a:off x="826920" y="6308640"/>
            <a:ext cx="23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9372600" cy="57722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79280" y="1125360"/>
            <a:ext cx="2808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16000" y="1700280"/>
            <a:ext cx="1440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84360" y="765000"/>
            <a:ext cx="439272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0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7" dur="1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611280" y="189000"/>
            <a:ext cx="7705440" cy="6408360"/>
            <a:chOff x="611280" y="189000"/>
            <a:chExt cx="7705440" cy="640836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611280" y="189000"/>
              <a:ext cx="7705440" cy="58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2"/>
            <a:stretch/>
          </p:blipFill>
          <p:spPr>
            <a:xfrm>
              <a:off x="829080" y="5186520"/>
              <a:ext cx="2408400" cy="141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"/>
          <p:cNvSpPr/>
          <p:nvPr/>
        </p:nvSpPr>
        <p:spPr>
          <a:xfrm>
            <a:off x="826920" y="5877000"/>
            <a:ext cx="23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2411280" y="2133720"/>
            <a:ext cx="5185080" cy="27525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2484360" y="4076640"/>
            <a:ext cx="1150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0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7" dur="1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3995640" y="2708280"/>
            <a:ext cx="289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00000" y="2565360"/>
            <a:ext cx="86364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00000" y="1773360"/>
            <a:ext cx="180036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71640" y="1413000"/>
            <a:ext cx="64764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35280" y="141300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00000" y="2133720"/>
            <a:ext cx="9352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63640" y="2133720"/>
            <a:ext cx="9352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1835280" y="2421000"/>
            <a:ext cx="2016000" cy="7110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835280" y="2637000"/>
            <a:ext cx="2016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332000" y="1197000"/>
            <a:ext cx="1008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9" dur="1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268360" y="5300640"/>
            <a:ext cx="2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0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3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835280" y="580536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95640" y="2708280"/>
            <a:ext cx="2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00720" y="2637000"/>
            <a:ext cx="647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95640" y="4653000"/>
            <a:ext cx="2890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7777080" cy="61326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763640" y="4724280"/>
            <a:ext cx="935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826920" y="549360"/>
            <a:ext cx="7632720" cy="60181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971640" y="2637000"/>
            <a:ext cx="504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24720" y="378936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0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9" dur="1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6800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1628640"/>
            <a:ext cx="720108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repara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ALFF: mALFF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FF: mfALFF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Ho: smReHo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C: zFC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971640" y="609300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835280" y="609300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79280" y="115920"/>
            <a:ext cx="8506080" cy="691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his report is based on CUI Xu's xjview. (http://www.alivelearn.net/xjview/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Revised by YAN Chao-Gan and ZHU Wei-Xuan 20091108: suitable for different Cluster Connectivity Criterion: surface connected, edge connected, corner connected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clusters found: 7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------------------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uster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voxels: 59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: 27   6 -4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 region:  // Right Cerebrum // Temporal Lobe // Superior Temporal Gyrus // White Matter // undefined // Temporal_Inf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intensity: 3.502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# voxels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TOTAL # VOXELS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Right Cerebrum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 Lob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White Matter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_Inf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Gray Matter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uperior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Fusiform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brodmann area 38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Inferior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Middle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Limbic Lob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Unc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_Pole_Mid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brodmann area 2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ub-Gyral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------------------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uster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voxels: 98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: -9 -78 -5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411280" y="69228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835280" y="126828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95640" y="1484280"/>
            <a:ext cx="115236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9280" y="1773360"/>
            <a:ext cx="8280360" cy="4464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19280" y="2133720"/>
            <a:ext cx="7920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0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9" dur="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018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619280" y="256536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2771640" y="1268280"/>
            <a:ext cx="4824720" cy="4167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2843280" y="2133720"/>
            <a:ext cx="5763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43280" y="2852640"/>
            <a:ext cx="57636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43280" y="3645000"/>
            <a:ext cx="5763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43280" y="4437000"/>
            <a:ext cx="57636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2781360"/>
            <a:ext cx="503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0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1" dur="1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1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rcRect l="0" t="1023" r="0" b="2245"/>
          <a:stretch/>
        </p:blipFill>
        <p:spPr>
          <a:xfrm>
            <a:off x="900000" y="115920"/>
            <a:ext cx="7626600" cy="67676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547640" y="3716280"/>
            <a:ext cx="576360" cy="21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71640" y="6354720"/>
            <a:ext cx="647640" cy="2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1042920" y="5686560"/>
            <a:ext cx="1924200" cy="11714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042920" y="6453360"/>
            <a:ext cx="1225440" cy="242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0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1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971640" y="1357200"/>
            <a:ext cx="6769080" cy="55008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3059280" y="2492280"/>
            <a:ext cx="5256000" cy="3002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6048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Create Brodmann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042920" y="4653000"/>
            <a:ext cx="172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42920" y="6381720"/>
            <a:ext cx="230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2000" y="3141720"/>
            <a:ext cx="64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00720" y="3789360"/>
            <a:ext cx="4140000" cy="1465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\brodmann.nii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\Brodmann_61x73x61.nii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9" dur="1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769440" cy="55008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6048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Create Brodmann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564000" y="378936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484360" y="6093000"/>
            <a:ext cx="792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0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5" dur="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6624720" cy="64659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771640" y="220500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16720" y="5734080"/>
            <a:ext cx="115236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37" name=""/>
          <p:cNvSpPr/>
          <p:nvPr/>
        </p:nvSpPr>
        <p:spPr>
          <a:xfrm>
            <a:off x="-18108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Data Resampl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708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708360" y="4365720"/>
            <a:ext cx="388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08360" y="4797360"/>
            <a:ext cx="1727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24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443640" y="4869000"/>
            <a:ext cx="792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645000"/>
            <a:ext cx="2987640" cy="1465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 – Nearest Neighb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– Trilinea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2- 2nd degree b-spline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708360" y="5300640"/>
            <a:ext cx="107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08360" y="5877000"/>
            <a:ext cx="266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0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1" dur="1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2920" y="350028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fill="hold">
                      <p:stCondLst>
                        <p:cond delay="0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3" dur="1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19528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740200" cy="43005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76364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77164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40360" y="4508640"/>
            <a:ext cx="23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29272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340000" y="4797360"/>
            <a:ext cx="56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.95      0.95           0.95           0.95         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.95</a:t>
            </a:r>
            <a:r>
              <a:rPr b="1" lang="fr-FR" sz="2000" spc="-1" strike="noStrike" baseline="30000">
                <a:solidFill>
                  <a:srgbClr val="ffff00"/>
                </a:solidFill>
                <a:latin typeface="Times New Roman"/>
                <a:ea typeface="隶书"/>
              </a:rPr>
              <a:t>5</a:t>
            </a: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=0.774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43640" y="443700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0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9" dur="1" fill="hold"/>
                                        <p:tgtEl>
                                          <p:spTgt spid="4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6920" y="1125360"/>
            <a:ext cx="8066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onferroni correction: 0.05/5=0.0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se Discovery Rates (FDR) correc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mily-Wise Error (FWE) correc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b1e2fb"/>
                </a:solidFill>
                <a:latin typeface="Times New Roman"/>
                <a:ea typeface="隶书"/>
              </a:rPr>
              <a:t>Monte Carlo simulations (AlphaSim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2" dur="indefinite" restart="never" nodeType="tmRoot">
          <p:childTnLst>
            <p:seq>
              <p:cTn id="1673" dur="indefinite" nodeType="mainSeq">
                <p:childTnLst>
                  <p:par>
                    <p:cTn id="1674" fill="hold">
                      <p:stCondLst>
                        <p:cond delay="0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7" dur="1" fill="hold"/>
                                        <p:tgtEl>
                                          <p:spTgt spid="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26920" y="1452600"/>
            <a:ext cx="806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onte Carlo simulations (AlphaSim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3527640" cy="26416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4572000" y="2403360"/>
            <a:ext cx="3579840" cy="26812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4067280" y="5300640"/>
            <a:ext cx="574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?</a:t>
            </a:r>
            <a:endParaRPr b="0" lang="en-US" sz="4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6" dur="indefinite" restart="never" nodeType="tmRoot">
          <p:childTnLst>
            <p:seq>
              <p:cTn id="1697" dur="indefinite" nodeType="mainSeq">
                <p:childTnLst>
                  <p:par>
                    <p:cTn id="1698" fill="hold">
                      <p:stCondLst>
                        <p:cond delay="0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1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05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One sample T test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56360" y="234936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2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REST AlphaSim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6156360" y="1628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8" dur="indefinite" restart="never" nodeType="tmRoot">
          <p:childTnLst>
            <p:seq>
              <p:cTn id="1709" dur="indefinite" nodeType="mainSeq">
                <p:childTnLst>
                  <p:par>
                    <p:cTn id="1710" fill="hold">
                      <p:stCondLst>
                        <p:cond delay="0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3" dur="1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560000" cy="49737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3276720" y="1484280"/>
            <a:ext cx="9349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76720" y="2060640"/>
            <a:ext cx="934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372360" y="3357720"/>
            <a:ext cx="1079280" cy="50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88000" y="1484280"/>
            <a:ext cx="8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588000" y="2060640"/>
            <a:ext cx="8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348000" y="2708280"/>
            <a:ext cx="403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276720" y="4149720"/>
            <a:ext cx="41749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76720" y="4797360"/>
            <a:ext cx="172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fill="hold">
                      <p:stCondLst>
                        <p:cond delay="0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5" dur="1" fill="hold"/>
                                        <p:tgtEl>
                                          <p:spTgt spid="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14280" y="907920"/>
            <a:ext cx="8505720" cy="542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 Size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Frequency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um Prop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/Voxe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Max Freq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Alpha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597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6198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96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615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81994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628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229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0478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413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594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4666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27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47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6893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8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78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150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26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76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877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86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0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299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58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564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40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2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29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8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718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27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80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9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82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19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7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67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883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13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498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26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9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35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5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24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70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4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167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7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2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106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85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76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1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54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4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1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33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6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2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7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1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8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1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9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786280" y="907920"/>
            <a:ext cx="792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14280" y="907920"/>
            <a:ext cx="792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4280" y="4941720"/>
            <a:ext cx="835344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fill="hold">
                      <p:stCondLst>
                        <p:cond delay="0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7" dur="1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2920" y="436392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fill="hold">
                      <p:stCondLst>
                        <p:cond delay="0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5" dur="1" fill="hold"/>
                                        <p:tgtEl>
                                          <p:spTgt spid="4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98" name=""/>
          <p:cNvSpPr/>
          <p:nvPr/>
        </p:nvSpPr>
        <p:spPr>
          <a:xfrm>
            <a:off x="-108000" y="2781360"/>
            <a:ext cx="19796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S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Image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alculator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156360" y="234936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0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1" dur="1" fill="hold"/>
                                        <p:tgtEl>
                                          <p:spTgt spid="5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T Image Calcul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6481440" cy="659772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2411280" y="5084640"/>
            <a:ext cx="410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1557360"/>
            <a:ext cx="1800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411280" y="1916280"/>
            <a:ext cx="41054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411280" y="5589720"/>
            <a:ext cx="316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11280" y="6093000"/>
            <a:ext cx="122400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58920" y="3284640"/>
            <a:ext cx="172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40000" y="3645000"/>
            <a:ext cx="41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796000" y="558972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8" dur="indefinite" restart="never" nodeType="tmRoot">
          <p:childTnLst>
            <p:seq>
              <p:cTn id="1829" dur="indefinite" nodeType="mainSeq">
                <p:childTnLst>
                  <p:par>
                    <p:cTn id="1830" fill="hold">
                      <p:stCondLst>
                        <p:cond delay="0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3" dur="1" fill="hold"/>
                                        <p:tgtEl>
                                          <p:spTgt spid="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T Image Calcul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4360" y="1407960"/>
            <a:ext cx="806580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Example expressions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a)      g1-1     Subtract 1 from each image in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b)      g1-g2    Subtract each image in group 2 from each corresponding image in group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c)      i1-i2    Subtract image 2 from image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d)      i1&gt;100    Make a binary mask image at threshold of 100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e)      g1.*(i1&gt;100)   Make a mask and then apply to each image in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f)      mean(g1)   Calculate the mean image of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g)      corr(g1,g2,''temporal'')    Calculate the temporal correlation between two groups, i.e. one correlation coefficient between two ''time courses'' for each voxel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h)      corr(g1,g2,''spatial'')     Calculate the spatial correlation between two groups, i.e. one correlation coefficient between two images for each ''time point''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0" dur="indefinite" restart="never" nodeType="tmRoot">
          <p:childTnLst>
            <p:seq>
              <p:cTn id="1881" dur="indefinite" nodeType="mainSeq">
                <p:childTnLst>
                  <p:par>
                    <p:cTn id="1882" fill="hold">
                      <p:stCondLst>
                        <p:cond delay="0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5" dur="1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2920" y="515772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6" dur="indefinite" restart="never" nodeType="tmRoot">
          <p:childTnLst>
            <p:seq>
              <p:cTn id="1887" dur="indefinite" nodeType="mainSeq">
                <p:childTnLst>
                  <p:par>
                    <p:cTn id="1888" fill="hold">
                      <p:stCondLst>
                        <p:cond delay="0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1" dur="1" fill="hold"/>
                                        <p:tgtEl>
                                          <p:spTgt spid="5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23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NIfTI nii to NIfTI pair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6156360" y="537372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2" dur="indefinite" restart="never" nodeType="tmRoot">
          <p:childTnLst>
            <p:seq>
              <p:cTn id="1893" dur="indefinite" nodeType="mainSeq">
                <p:childTnLst>
                  <p:par>
                    <p:cTn id="1894" fill="hold">
                      <p:stCondLst>
                        <p:cond delay="0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7" dur="1" fill="hold"/>
                                        <p:tgtEl>
                                          <p:spTgt spid="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626920" y="802800"/>
            <a:ext cx="43196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NIfTI .nii to NIfTI pai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6408720" cy="51498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124000" y="2781360"/>
            <a:ext cx="4392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843280" y="4292640"/>
            <a:ext cx="3816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843280" y="4797360"/>
            <a:ext cx="1081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076720" y="4869000"/>
            <a:ext cx="9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4" dur="indefinite" restart="never" nodeType="tmRoot">
          <p:childTnLst>
            <p:seq>
              <p:cTn id="1915" dur="indefinite" nodeType="mainSeq">
                <p:childTnLst>
                  <p:par>
                    <p:cTn id="1916" fill="hold">
                      <p:stCondLst>
                        <p:cond delay="0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9" dur="1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6481440" cy="6597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11280" y="5084640"/>
            <a:ext cx="410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6000" y="2276640"/>
            <a:ext cx="16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mReH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ALFF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1557360"/>
            <a:ext cx="1800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1916280"/>
            <a:ext cx="41054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1280" y="5589720"/>
            <a:ext cx="316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6093000"/>
            <a:ext cx="122400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5516640"/>
            <a:ext cx="16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g1-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6165720"/>
            <a:ext cx="107928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ading and Writing fun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4360" y="1407960"/>
            <a:ext cx="806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Read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[Data Vox Head]=rest_readfile('brodmann.nii'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– 181*217*181 doubl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Vox – 1 1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Head - Structur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Process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BA20Data=(Data==20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Writ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rest_WriteNiftiImage(BA20Data,Head,'BA20.img'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2" dur="indefinite" restart="never" nodeType="tmRoot">
          <p:childTnLst>
            <p:seq>
              <p:cTn id="1943" dur="indefinite" nodeType="mainSeq">
                <p:childTnLst>
                  <p:par>
                    <p:cTn id="1944" fill="hold">
                      <p:stCondLst>
                        <p:cond delay="0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7" dur="1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olve Problem "Out Of Memory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1887480"/>
            <a:ext cx="8065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1. Reboot your computer and do not run any other programs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2. Enlarge your memory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3. MATLAB Version 7.1 or above is suggested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4. You can turn on the 3GB switch of Windows XP!!! Please see more details in http://www.microsoft.com/whdc/system/platform/server/PAE/PAEmem.mspx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5. If this problem remains, please install Linux, especially 64 bit Linux and Matlab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fill="hold">
                      <p:stCondLst>
                        <p:cond delay="0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3" dur="1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484360" y="191628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ww.restfmri.ne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Hel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26920" y="138096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questions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2749680"/>
            <a:ext cx="79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professional data analysis service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484360" y="3446640"/>
            <a:ext cx="64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rain Imaging Data Analysis and Consultation Section (BIDACS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idacs@gmail.com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4" dur="indefinite" restart="never" nodeType="tmRoot">
          <p:childTnLst>
            <p:seq>
              <p:cTn id="1995" dur="indefinite" nodeType="mainSeq">
                <p:childTnLst>
                  <p:par>
                    <p:cTn id="1996" fill="hold">
                      <p:stCondLst>
                        <p:cond delay="0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9" dur="1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hank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331640" y="1412640"/>
            <a:ext cx="287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DONG Zhang-Y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GUO Xiao-Ju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HE Y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LONG Xiang-Yu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ONG Xiao-We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YAO L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ANG Yu-Fe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ANG H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U Chao-Zh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OU Qi-H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UO Xi-Ni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"/>
          <p:cNvSpPr/>
          <p:nvPr/>
        </p:nvSpPr>
        <p:spPr>
          <a:xfrm>
            <a:off x="5003640" y="5084640"/>
            <a:ext cx="345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All the group members!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076720" y="1341360"/>
            <a:ext cx="35989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PM Team: Wellcome Department of Imaging Neuroscience, UCL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MRIcroN Team: Chris RORDEN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Xjview Team: CUI Xu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0" dur="indefinite" restart="never" nodeType="tmRoot">
          <p:childTnLst>
            <p:seq>
              <p:cTn id="2001" dur="indefinite" nodeType="mainSeq">
                <p:childTnLst>
                  <p:par>
                    <p:cTn id="2002" fill="hold">
                      <p:stCondLst>
                        <p:cond delay="0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5" dur="1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71640" y="2997000"/>
            <a:ext cx="77976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Thanks for your attention!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6" dur="indefinite" restart="never" nodeType="tmRoot">
          <p:childTnLst>
            <p:seq>
              <p:cTn id="2007" dur="indefinite" nodeType="mainSeq">
                <p:childTnLst>
                  <p:par>
                    <p:cTn id="2008" fill="hold">
                      <p:stCondLst>
                        <p:cond delay="0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1" dur="1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09080" cy="4356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6720" y="2708280"/>
            <a:ext cx="21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2349360"/>
            <a:ext cx="122400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91280" y="2349360"/>
            <a:ext cx="158436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835280" y="1484280"/>
            <a:ext cx="3905280" cy="4897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2852640"/>
            <a:ext cx="31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-1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zFC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277956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661000"/>
            <a:ext cx="288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Directory for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aving 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594828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8000" y="472428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724280"/>
            <a:ext cx="31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898800" cy="5003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4321080" cy="3686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356000" y="378936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708360" y="3141720"/>
            <a:ext cx="3384720" cy="1185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708360" y="3573360"/>
            <a:ext cx="331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35733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3:17:48Z</dcterms:created>
  <dc:creator>ibm</dc:creator>
  <dc:description/>
  <dc:language>en-US</dc:language>
  <cp:lastModifiedBy>YAN Chao-Gan</cp:lastModifiedBy>
  <dcterms:modified xsi:type="dcterms:W3CDTF">2012-10-21T04:00:19Z</dcterms:modified>
  <cp:revision>1933</cp:revision>
  <dc:subject/>
  <dc:title>幻灯片 1</dc:title>
</cp:coreProperties>
</file>