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58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74.png" ContentType="image/png"/>
  <Override PartName="/ppt/media/image25.png" ContentType="image/png"/>
  <Override PartName="/ppt/media/image62.png" ContentType="image/png"/>
  <Override PartName="/ppt/media/image73.png" ContentType="image/png"/>
  <Override PartName="/ppt/media/image24.png" ContentType="image/png"/>
  <Override PartName="/ppt/media/image61.png" ContentType="image/png"/>
  <Override PartName="/ppt/media/image35.png" ContentType="image/png"/>
  <Override PartName="/ppt/media/image17.png" ContentType="image/png"/>
  <Override PartName="/ppt/media/image5.png" ContentType="image/png"/>
  <Override PartName="/ppt/media/image72.png" ContentType="image/png"/>
  <Override PartName="/ppt/media/image23.png" ContentType="image/png"/>
  <Override PartName="/ppt/media/image60.png" ContentType="image/png"/>
  <Override PartName="/ppt/media/image14.png" ContentType="image/png"/>
  <Override PartName="/ppt/media/image69.wmf" ContentType="image/x-wmf"/>
  <Override PartName="/ppt/media/image29.png" ContentType="image/png"/>
  <Override PartName="/ppt/media/image68.png" ContentType="image/png"/>
  <Override PartName="/ppt/media/image2.jpeg" ContentType="image/jpe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28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71.wmf" ContentType="image/x-wmf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AFF0-E030-4129-ADDA-18F6A8FC53B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312D-0BCA-4AA0-AF14-C501ECABDA8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FF90-BC7E-4F82-A0C7-42CDE0B2720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07F1-AD02-45B4-9625-891AD8E3F49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E288-9F71-42FD-85CF-473ADF3E0DD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8984-976A-438E-AE33-F397C7F9410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F4A0-13B7-403E-9E19-F6910F89849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C5FD-5CBB-4713-BFD0-344ADA0DD5A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3EE3-1516-470B-957F-4F3E893D506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A851-D940-49E4-813B-CF5C0E14511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D585-39C4-435C-95E4-6AF980968BD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C967-DB18-476F-B122-35655F02F25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4F22-F271-4E13-9891-B42ABB29D2C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A3CB-BC15-46CB-B81E-71CA93FDBE3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C533-664E-43CC-AC0D-3FE3ED32326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529C-6D41-48CA-924B-61CC8115175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46AC-20D4-4268-840A-2704F3FF012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D029-1BBA-4741-A64B-F24ACD4AAD0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BCA4-0207-4BDA-B2B6-A2375B0B59B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A296-8B2B-4B35-908F-3DE9B4F0612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A991-A046-42AC-B907-84647BD5C28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0ED1-2816-49E6-84E3-89852497938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5E1B-7752-4421-AE75-A8890BDFC39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47C6-023B-447E-9B57-1546B3114E8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1D62-CA2C-4B81-8446-2A9CB6555D5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00C1-2FD8-4BE4-93D8-256F78E1F4B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9CB1-3231-4B6B-9137-D562AE81B9E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7CC2-345F-457C-BA58-8F7C4909455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187A-2189-4501-9152-F3FE254D7CF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476C-9438-46D5-AA9C-2EF18A44EE5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90C7-1353-4A52-B095-5B682DB54EB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1F28-B3CD-4125-8452-47013491073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2576-2080-4424-8CDB-21186E31503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1954-2BEA-4086-9A49-5334F2CB00B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ED48-A198-41ED-9A8E-31FDC524A5B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CB61-5DC2-4BBE-B187-06DD9866FDC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535D-4CD9-43B5-9980-7234B40B3B1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F76A-7821-45BB-8880-9CDE5F01971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32EE-4E29-446A-8526-E8C718E6847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DA79-B207-45C9-BB9B-1C58FA090CC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44A3-8F3A-4584-9437-B53428EA6B0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9286-52FA-4C80-8CD1-3FFD591C774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C3FA-679B-4E3D-A1D7-4DA85C26ABB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DBA6-4C8C-437D-BF26-C47ED5D49E7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3B18-1FEC-4022-8B50-9BC980DB1A9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43B1-F35B-432B-B6DD-D50B7C1A95A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E1CA-2C09-43E3-A04E-2908BD46A00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ABDE-68A4-4127-8DAC-0C3DFE7DA01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68A3-4EA4-406A-95DD-B734A5405FD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42EE-DAEC-4873-9CAF-53455080F24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8D57-F865-4C2C-8009-D4F6DBD43D0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C072-CA00-4CA1-8DDE-194B14749A0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16C0-34C8-476E-9EF1-FDEEDC930F0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3E33-CE86-42C4-BE6F-896A203FE09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A671-FAA7-4754-B74F-9E321F9818D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9249-BF65-4FAA-81E3-C92D0E4186E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95E6-9C72-41DC-8AD6-80746B13BC9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CE87-2CB8-43C7-9DB5-5CA7ECE56DD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5EB6-22F9-4E4F-B358-7B998FE5B5F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B4BB-0F10-400C-9A8C-2EE9DCFD7AD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5F91-9F3D-4994-B7DE-23C7361202F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96D3-F7AC-448F-B003-881083BF8B0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08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452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64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08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452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53316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2208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452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964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2208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452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53316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baaf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b1e2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b1e2f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1e2fb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8604000" y="6536880"/>
            <a:ext cx="5396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b1e2f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1e2fb"/>
                </a:solidFill>
                <a:latin typeface="Arial"/>
              </a:rPr>
              <a:t>&lt;footer&gt;</a:t>
            </a:r>
            <a:fld id="{00BF879A-B3C8-4FFD-8EEB-33948217DC8D}" type="slidenum">
              <a:rPr b="0" lang="zh-CN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9600" y="41400"/>
            <a:ext cx="1219320" cy="122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360" y="2708280"/>
            <a:ext cx="9183600" cy="1501920"/>
            <a:chOff x="-9360" y="2708280"/>
            <a:chExt cx="9183600" cy="1501920"/>
          </a:xfrm>
        </p:grpSpPr>
        <p:sp>
          <p:nvSpPr>
            <p:cNvPr id="42" name=""/>
            <p:cNvSpPr/>
            <p:nvPr/>
          </p:nvSpPr>
          <p:spPr>
            <a:xfrm>
              <a:off x="-4680" y="2708280"/>
              <a:ext cx="9151920" cy="1501920"/>
            </a:xfrm>
            <a:custGeom>
              <a:avLst/>
              <a:gdLst/>
              <a:ahLst/>
              <a:rect l="l" t="t" r="r" b="b"/>
              <a:pathLst>
                <a:path w="5779" h="946">
                  <a:moveTo>
                    <a:pt x="6" y="454"/>
                  </a:moveTo>
                  <a:lnTo>
                    <a:pt x="355" y="454"/>
                  </a:lnTo>
                  <a:lnTo>
                    <a:pt x="757" y="1"/>
                  </a:lnTo>
                  <a:lnTo>
                    <a:pt x="2511" y="0"/>
                  </a:lnTo>
                  <a:lnTo>
                    <a:pt x="2646" y="144"/>
                  </a:lnTo>
                  <a:lnTo>
                    <a:pt x="5779" y="137"/>
                  </a:lnTo>
                  <a:lnTo>
                    <a:pt x="5779" y="772"/>
                  </a:lnTo>
                  <a:lnTo>
                    <a:pt x="2899" y="765"/>
                  </a:lnTo>
                  <a:lnTo>
                    <a:pt x="2757" y="946"/>
                  </a:lnTo>
                  <a:lnTo>
                    <a:pt x="1883" y="946"/>
                  </a:lnTo>
                  <a:lnTo>
                    <a:pt x="1663" y="687"/>
                  </a:lnTo>
                  <a:lnTo>
                    <a:pt x="0" y="687"/>
                  </a:lnTo>
                  <a:lnTo>
                    <a:pt x="35" y="48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77353" dir="4837521" blurRad="0" rotWithShape="0">
                <a:srgbClr val="000066">
                  <a:alpha val="1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-9360" y="2747880"/>
              <a:ext cx="9183600" cy="1420920"/>
            </a:xfrm>
            <a:custGeom>
              <a:avLst/>
              <a:gdLst/>
              <a:ahLst/>
              <a:rect l="l" t="t" r="r" b="b"/>
              <a:pathLst>
                <a:path w="5799" h="895">
                  <a:moveTo>
                    <a:pt x="0" y="455"/>
                  </a:moveTo>
                  <a:lnTo>
                    <a:pt x="369" y="454"/>
                  </a:lnTo>
                  <a:lnTo>
                    <a:pt x="776" y="0"/>
                  </a:lnTo>
                  <a:lnTo>
                    <a:pt x="2496" y="0"/>
                  </a:lnTo>
                  <a:lnTo>
                    <a:pt x="2632" y="136"/>
                  </a:lnTo>
                  <a:lnTo>
                    <a:pt x="5799" y="136"/>
                  </a:lnTo>
                  <a:lnTo>
                    <a:pt x="5788" y="727"/>
                  </a:lnTo>
                  <a:lnTo>
                    <a:pt x="2883" y="708"/>
                  </a:lnTo>
                  <a:lnTo>
                    <a:pt x="2747" y="895"/>
                  </a:lnTo>
                  <a:lnTo>
                    <a:pt x="1899" y="895"/>
                  </a:lnTo>
                  <a:lnTo>
                    <a:pt x="1681" y="635"/>
                  </a:lnTo>
                  <a:lnTo>
                    <a:pt x="7" y="635"/>
                  </a:lnTo>
                  <a:lnTo>
                    <a:pt x="7" y="454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304920" y="3049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8.png"/><Relationship Id="rId3" Type="http://schemas.openxmlformats.org/officeDocument/2006/relationships/image" Target="../media/image2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2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image" Target="../media/image7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7280" y="622440"/>
            <a:ext cx="669636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楷体_GB2312"/>
              </a:rPr>
              <a:t>Data Processing of Resting-State fMRI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楷体_GB2312"/>
              </a:rPr>
              <a:t>(Part 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89480" y="3068640"/>
            <a:ext cx="636192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YAN Chao-Gan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严超赣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Ph. D.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ycg.yan@gmail.com</a:t>
            </a:r>
            <a:br>
              <a:rPr sz="2400"/>
            </a:b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State Key Laboratory of Cognitive Neuroscience and Learning,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Beijing Normal University, China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3600360" cy="3016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547640" y="3933720"/>
            <a:ext cx="136872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07280" y="1916280"/>
            <a:ext cx="27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The generated spm.ma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971640" y="1773360"/>
            <a:ext cx="5371920" cy="1342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692360" y="1844640"/>
            <a:ext cx="3238560" cy="38401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692360" y="5300640"/>
            <a:ext cx="187164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2195640" y="1628640"/>
            <a:ext cx="3281400" cy="3816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132000" y="3141720"/>
            <a:ext cx="273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3635280" y="2708280"/>
            <a:ext cx="4681800" cy="17604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227640" y="328464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3635280" y="2708280"/>
            <a:ext cx="4897440" cy="14367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00720" y="3357720"/>
            <a:ext cx="2158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00720" y="3716280"/>
            <a:ext cx="2158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48960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One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0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11280" y="5661000"/>
            <a:ext cx="7993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HeightthresholdT = </a:t>
            </a:r>
            <a:r>
              <a:rPr b="1" lang="zh-CN" sz="2000" spc="-1" strike="noStrike">
                <a:solidFill>
                  <a:srgbClr val="ffff00"/>
                </a:solidFill>
                <a:latin typeface="Verdana"/>
                <a:ea typeface="宋体"/>
              </a:rPr>
              <a:t>2.687659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 {p&lt;0.05(FDR)}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Extentthresholdk = 10 voxel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5184720" cy="38656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84360" y="4581360"/>
            <a:ext cx="2232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84720" y="3500280"/>
            <a:ext cx="2735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spmT_0001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700360" y="2205000"/>
            <a:ext cx="5616720" cy="26542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659640" y="3213000"/>
            <a:ext cx="1512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48960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One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0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wo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6920" y="1628640"/>
            <a:ext cx="720108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reparation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ALFF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：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mALF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fALFF: mfALF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ReHo: smReHo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FC: zFC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Mask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" dur="1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826920" y="1052640"/>
            <a:ext cx="80661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Mask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Brain Mask 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Mask=Patient_1T.img + CON_1T.img&gt;0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39640" y="3429000"/>
            <a:ext cx="5472360" cy="26049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300720" y="3573360"/>
            <a:ext cx="2374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Patient_1T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CON_1T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56000" y="3789360"/>
            <a:ext cx="1656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1640" y="450864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00720" y="4365720"/>
            <a:ext cx="208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Mask_2T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71640" y="515772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00720" y="5013360"/>
            <a:ext cx="208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i1+i2&gt;0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wo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6" dur="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wo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276720" y="765000"/>
            <a:ext cx="3396960" cy="5688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4390920" cy="3673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1547640" y="1700280"/>
            <a:ext cx="6913800" cy="3730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187280" y="3789360"/>
            <a:ext cx="122580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19280" y="2133720"/>
            <a:ext cx="3024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48360" y="2133720"/>
            <a:ext cx="3024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5734080"/>
            <a:ext cx="3527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m* or zFC* image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for the two group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732720" y="5950080"/>
            <a:ext cx="223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Directory for 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188640" indent="-188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saving SPM.ma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780000" y="1773360"/>
            <a:ext cx="2376360" cy="79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64000" y="5950080"/>
            <a:ext cx="1655640" cy="433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635280" y="4005360"/>
            <a:ext cx="1081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2720" y="3933720"/>
            <a:ext cx="2158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Brain Mask or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Mask_2T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8" dur="1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321080" cy="36860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356000" y="3789360"/>
            <a:ext cx="1368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708360" y="3141720"/>
            <a:ext cx="3384720" cy="11858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708360" y="3573360"/>
            <a:ext cx="331164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020000" y="3573360"/>
            <a:ext cx="273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The generated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spm.ma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1332000" y="1700280"/>
            <a:ext cx="3895560" cy="49035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wo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0" dur="1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3600360" cy="30160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547640" y="3933720"/>
            <a:ext cx="136872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07280" y="2205000"/>
            <a:ext cx="273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The generated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spm.ma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971640" y="1773360"/>
            <a:ext cx="5371920" cy="13428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1692360" y="1844640"/>
            <a:ext cx="3238560" cy="38401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692360" y="5300640"/>
            <a:ext cx="187164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2124000" y="1916280"/>
            <a:ext cx="3487680" cy="4032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348000" y="3429000"/>
            <a:ext cx="27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1 -1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3851280" y="2997360"/>
            <a:ext cx="4932360" cy="11556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6516720" y="3645000"/>
            <a:ext cx="2158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6"/>
          <a:stretch/>
        </p:blipFill>
        <p:spPr>
          <a:xfrm>
            <a:off x="3924360" y="3357720"/>
            <a:ext cx="4895640" cy="11142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588000" y="4005360"/>
            <a:ext cx="215928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wo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4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11280" y="5661000"/>
            <a:ext cx="7993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HeightthresholdT = </a:t>
            </a:r>
            <a:r>
              <a:rPr b="1" lang="zh-CN" sz="2000" spc="-1" strike="noStrike">
                <a:solidFill>
                  <a:srgbClr val="ffff00"/>
                </a:solidFill>
                <a:latin typeface="Verdana"/>
                <a:ea typeface="宋体"/>
              </a:rPr>
              <a:t>Inf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 {p&lt;0.05(FDR)}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Extentthresholdk = 0 voxel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84720" y="3500280"/>
            <a:ext cx="2735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spmT_0001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5184720" cy="38592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684360" y="4581360"/>
            <a:ext cx="2232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wo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1" dur="1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aired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4390920" cy="36734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1547640" y="1700280"/>
            <a:ext cx="6913800" cy="37306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187280" y="3789360"/>
            <a:ext cx="122580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19280" y="2133720"/>
            <a:ext cx="3024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148360" y="2421000"/>
            <a:ext cx="3024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3" dur="1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1600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aired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5833800" cy="59058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6300720" y="2133720"/>
            <a:ext cx="284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m* or zFC* image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for each pair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00000" y="1197000"/>
            <a:ext cx="71928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1280" y="4867200"/>
            <a:ext cx="165564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74920" y="404640"/>
            <a:ext cx="1081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516720" y="5084640"/>
            <a:ext cx="2158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Brain Mask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332000" y="1844640"/>
            <a:ext cx="1439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1" dur="1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1557360"/>
            <a:ext cx="7696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tatistical Analysi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ults View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Multiple Comparis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T Image Calculator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ther Functi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2920" y="1844640"/>
            <a:ext cx="46836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5977080" cy="518328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aired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63640" y="3282840"/>
            <a:ext cx="2808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16360" y="2854440"/>
            <a:ext cx="194472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5" dur="1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ANOVA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4390920" cy="36734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1547640" y="1700280"/>
            <a:ext cx="6913800" cy="37306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187280" y="3789360"/>
            <a:ext cx="122580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619280" y="2133720"/>
            <a:ext cx="3024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3139920"/>
            <a:ext cx="3024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1" dur="1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3300480" cy="6669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5292720" y="1989000"/>
            <a:ext cx="1079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03280" y="1484280"/>
            <a:ext cx="71928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403280" y="4292640"/>
            <a:ext cx="1224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47640" y="2133720"/>
            <a:ext cx="936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003640" y="4149720"/>
            <a:ext cx="3097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Corresponding level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16000" y="3716280"/>
            <a:ext cx="1440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634920" y="476280"/>
            <a:ext cx="47516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ANOVA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403280" y="4653000"/>
            <a:ext cx="1368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932360" y="4581360"/>
            <a:ext cx="3456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Images for this group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9" dur="1" fill="hold"/>
                                        <p:tgtEl>
                                          <p:spTgt spid="2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187280" y="1612800"/>
            <a:ext cx="6048720" cy="52452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763640" y="3141720"/>
            <a:ext cx="2808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475164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ANOVA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0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9" dur="1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00000" y="1557360"/>
            <a:ext cx="7696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tatistical Analysi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ults View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Multiple Comparis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T Image Calculator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ther Functi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2920" y="2637000"/>
            <a:ext cx="46836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9" dur="1" fill="hold"/>
                                        <p:tgtEl>
                                          <p:spTgt spid="2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Results View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26920" y="1484280"/>
            <a:ext cx="7201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SPM5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xjview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MRIcroN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REST Slice Viewer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0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5" dur="1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540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Results Viewing - SPM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4465800" cy="2044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3995640" y="2565360"/>
            <a:ext cx="1224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5580000" y="2060640"/>
            <a:ext cx="1616040" cy="16556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5580000" y="2421000"/>
            <a:ext cx="1224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1042920" y="2133720"/>
            <a:ext cx="5362560" cy="42764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619280" y="2421000"/>
            <a:ext cx="3960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80000" y="3068640"/>
            <a:ext cx="93636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2556000" y="333360"/>
            <a:ext cx="4743360" cy="62006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5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0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1" dur="1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5759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Results Viewing - SPM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1616040" cy="16556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684360" y="2205000"/>
            <a:ext cx="1223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3635280" y="1484280"/>
            <a:ext cx="3457800" cy="30672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684360" y="2492280"/>
            <a:ext cx="1223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3348000" y="1844640"/>
            <a:ext cx="4591080" cy="332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5" dur="1" fill="hold"/>
                                        <p:tgtEl>
                                          <p:spTgt spid="2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3241800" cy="278280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5759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Results Viewing - xj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73080" y="3789360"/>
            <a:ext cx="1224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0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5" dur="1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结果呈现—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xj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76360" y="100080"/>
            <a:ext cx="8099280" cy="67485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2195640" y="5589720"/>
            <a:ext cx="57600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700360" y="5950080"/>
            <a:ext cx="8636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68360" y="5805360"/>
            <a:ext cx="935280" cy="14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124000" y="2997360"/>
            <a:ext cx="5112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11280" y="3284640"/>
            <a:ext cx="1657080" cy="1657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0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5" dur="1" fill="hold"/>
                                        <p:tgtEl>
                                          <p:spTgt spid="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Statistical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162864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One sample T test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Two Sample T test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aired T test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ANOVA analysis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42480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123640" y="40428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Results Viewing - MRIc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55640" y="2060640"/>
            <a:ext cx="1584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348000" y="2060640"/>
            <a:ext cx="7192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-36360" y="1628640"/>
            <a:ext cx="3752640" cy="15908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1835280" y="2276640"/>
            <a:ext cx="14414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0" y="1700280"/>
            <a:ext cx="9075600" cy="36417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0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9" dur="1" fill="hold"/>
                                        <p:tgtEl>
                                          <p:spTgt spid="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543640" cy="39718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4572000" y="465300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13" name=""/>
          <p:cNvSpPr/>
          <p:nvPr/>
        </p:nvSpPr>
        <p:spPr>
          <a:xfrm>
            <a:off x="-108000" y="2781360"/>
            <a:ext cx="197964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REST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Slice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Viewer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5796000" y="0"/>
            <a:ext cx="2743200" cy="68580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6156360" y="83664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0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3" dur="1" fill="hold"/>
                                        <p:tgtEl>
                                          <p:spTgt spid="3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8066160" cy="63594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976320" y="0"/>
            <a:ext cx="1724040" cy="22766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971640" y="3500280"/>
            <a:ext cx="1871640" cy="4334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08000" y="6424560"/>
            <a:ext cx="1079640" cy="2444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71640" y="4005360"/>
            <a:ext cx="1871640" cy="4334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71640" y="765000"/>
            <a:ext cx="1512720" cy="2890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042920" y="5300640"/>
            <a:ext cx="57636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835280" y="4797360"/>
            <a:ext cx="93636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619280" y="5300640"/>
            <a:ext cx="43164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916360" y="1557360"/>
            <a:ext cx="5472000" cy="393048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2987640" y="2494080"/>
            <a:ext cx="1152720" cy="2872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987640" y="3284640"/>
            <a:ext cx="1152720" cy="2872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987640" y="3860640"/>
            <a:ext cx="1152720" cy="2876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987640" y="4653000"/>
            <a:ext cx="1152720" cy="2872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0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5" dur="1" fill="hold"/>
                                        <p:tgtEl>
                                          <p:spTgt spid="3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5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5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5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5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5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5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35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5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1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1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1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971640" y="260280"/>
            <a:ext cx="7921440" cy="624672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35" name=""/>
          <p:cNvSpPr/>
          <p:nvPr/>
        </p:nvSpPr>
        <p:spPr>
          <a:xfrm>
            <a:off x="1187280" y="5589720"/>
            <a:ext cx="863640" cy="4330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3059280" y="1916280"/>
            <a:ext cx="5329080" cy="379548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3132000" y="2565360"/>
            <a:ext cx="792360" cy="3589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132000" y="3284640"/>
            <a:ext cx="648000" cy="4334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32000" y="4869000"/>
            <a:ext cx="792360" cy="4316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0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3" dur="1" fill="hold"/>
                                        <p:tgtEl>
                                          <p:spTgt spid="3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3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9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9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"/>
          <p:cNvGraphicFramePr/>
          <p:nvPr/>
        </p:nvGraphicFramePr>
        <p:xfrm>
          <a:off x="900000" y="1557360"/>
          <a:ext cx="1816200" cy="15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557360"/>
                    <a:ext cx="181620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"/>
          <p:cNvSpPr/>
          <p:nvPr/>
        </p:nvSpPr>
        <p:spPr>
          <a:xfrm>
            <a:off x="2987640" y="476280"/>
            <a:ext cx="3960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Tahoma"/>
              </a:rPr>
              <a:t>For Voxel size = 3*3*3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900000" y="3284640"/>
          <a:ext cx="2171880" cy="148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3284640"/>
                    <a:ext cx="2171880" cy="14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900000" y="4941720"/>
          <a:ext cx="2273400" cy="152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0000" y="4941720"/>
                    <a:ext cx="227340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3348000" y="1773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Voxels are connected if their faces touch rmm=4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203640" y="3429000"/>
            <a:ext cx="579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Voxels are connected if their faces or edges touch 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rmm=5; </a:t>
            </a:r>
            <a:r>
              <a:rPr b="1" lang="zh-CN" sz="1800" spc="-1" strike="noStrike">
                <a:solidFill>
                  <a:srgbClr val="b1e2fb"/>
                </a:solidFill>
                <a:latin typeface="Tahoma"/>
              </a:rPr>
              <a:t>SPM_Criterion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03640" y="5157720"/>
            <a:ext cx="579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Voxels are connected if their faces, edges, or corners touch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rmm=6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7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fill="hold">
                      <p:stCondLst>
                        <p:cond delay="0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1" dur="1" fill="hold"/>
                                        <p:tgtEl>
                                          <p:spTgt spid="3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"/>
          <p:cNvGrpSpPr/>
          <p:nvPr/>
        </p:nvGrpSpPr>
        <p:grpSpPr>
          <a:xfrm>
            <a:off x="611280" y="189000"/>
            <a:ext cx="7705440" cy="6408360"/>
            <a:chOff x="611280" y="189000"/>
            <a:chExt cx="7705440" cy="6408360"/>
          </a:xfrm>
        </p:grpSpPr>
        <p:pic>
          <p:nvPicPr>
            <p:cNvPr id="353" name="" descr=""/>
            <p:cNvPicPr/>
            <p:nvPr/>
          </p:nvPicPr>
          <p:blipFill>
            <a:blip r:embed="rId1"/>
            <a:stretch/>
          </p:blipFill>
          <p:spPr>
            <a:xfrm>
              <a:off x="611280" y="189000"/>
              <a:ext cx="7705440" cy="581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" descr=""/>
            <p:cNvPicPr/>
            <p:nvPr/>
          </p:nvPicPr>
          <p:blipFill>
            <a:blip r:embed="rId2"/>
            <a:stretch/>
          </p:blipFill>
          <p:spPr>
            <a:xfrm>
              <a:off x="829080" y="5186520"/>
              <a:ext cx="2408400" cy="141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5" name=""/>
          <p:cNvSpPr/>
          <p:nvPr/>
        </p:nvSpPr>
        <p:spPr>
          <a:xfrm>
            <a:off x="826920" y="6308640"/>
            <a:ext cx="2376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3"/>
          <a:stretch/>
        </p:blipFill>
        <p:spPr>
          <a:xfrm>
            <a:off x="0" y="260280"/>
            <a:ext cx="9372600" cy="577224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179280" y="1125360"/>
            <a:ext cx="2808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116000" y="1700280"/>
            <a:ext cx="1440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484360" y="765000"/>
            <a:ext cx="4392720" cy="142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fill="hold">
                      <p:stCondLst>
                        <p:cond delay="0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7" dur="1" fill="hold"/>
                                        <p:tgtEl>
                                          <p:spTgt spid="3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"/>
          <p:cNvGrpSpPr/>
          <p:nvPr/>
        </p:nvGrpSpPr>
        <p:grpSpPr>
          <a:xfrm>
            <a:off x="611280" y="189000"/>
            <a:ext cx="7705440" cy="6408360"/>
            <a:chOff x="611280" y="189000"/>
            <a:chExt cx="7705440" cy="6408360"/>
          </a:xfrm>
        </p:grpSpPr>
        <p:pic>
          <p:nvPicPr>
            <p:cNvPr id="362" name="" descr=""/>
            <p:cNvPicPr/>
            <p:nvPr/>
          </p:nvPicPr>
          <p:blipFill>
            <a:blip r:embed="rId1"/>
            <a:stretch/>
          </p:blipFill>
          <p:spPr>
            <a:xfrm>
              <a:off x="611280" y="189000"/>
              <a:ext cx="7705440" cy="581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" descr=""/>
            <p:cNvPicPr/>
            <p:nvPr/>
          </p:nvPicPr>
          <p:blipFill>
            <a:blip r:embed="rId2"/>
            <a:stretch/>
          </p:blipFill>
          <p:spPr>
            <a:xfrm>
              <a:off x="829080" y="5186520"/>
              <a:ext cx="2408400" cy="141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4" name=""/>
          <p:cNvSpPr/>
          <p:nvPr/>
        </p:nvSpPr>
        <p:spPr>
          <a:xfrm>
            <a:off x="826920" y="5877000"/>
            <a:ext cx="2376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2411280" y="2133720"/>
            <a:ext cx="5185080" cy="27525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2484360" y="4076640"/>
            <a:ext cx="1150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0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7" dur="1" fill="hold"/>
                                        <p:tgtEl>
                                          <p:spTgt spid="3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848720" cy="6188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3995640" y="2708280"/>
            <a:ext cx="289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900000" y="2565360"/>
            <a:ext cx="863640" cy="358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900000" y="1773360"/>
            <a:ext cx="1800360" cy="358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971640" y="1413000"/>
            <a:ext cx="64764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35280" y="1413000"/>
            <a:ext cx="792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900000" y="2133720"/>
            <a:ext cx="9352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763640" y="2133720"/>
            <a:ext cx="9352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1835280" y="2421000"/>
            <a:ext cx="2016000" cy="7110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1835280" y="2637000"/>
            <a:ext cx="2016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332000" y="1197000"/>
            <a:ext cx="1008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4" dur="indefinite" restart="never" nodeType="tmRoot">
          <p:childTnLst>
            <p:seq>
              <p:cTn id="1195" dur="indefinite" nodeType="mainSeq">
                <p:childTnLst>
                  <p:par>
                    <p:cTn id="1196" fill="hold">
                      <p:stCondLst>
                        <p:cond delay="0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9" dur="1" fill="hold"/>
                                        <p:tgtEl>
                                          <p:spTgt spid="3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848720" cy="61880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2268360" y="5300640"/>
            <a:ext cx="216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755640" y="476280"/>
            <a:ext cx="7848720" cy="618804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fill="hold">
                      <p:stCondLst>
                        <p:cond delay="0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3" dur="1" fill="hold"/>
                                        <p:tgtEl>
                                          <p:spTgt spid="3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848720" cy="61880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1835280" y="5805360"/>
            <a:ext cx="865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995640" y="2708280"/>
            <a:ext cx="216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300720" y="2637000"/>
            <a:ext cx="647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995640" y="4653000"/>
            <a:ext cx="28908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755640" y="476280"/>
            <a:ext cx="7777080" cy="61326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1763640" y="4724280"/>
            <a:ext cx="93528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826920" y="549360"/>
            <a:ext cx="7632720" cy="601812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971640" y="2637000"/>
            <a:ext cx="50472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524720" y="3789360"/>
            <a:ext cx="86364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4" dur="indefinite" restart="never" nodeType="tmRoot">
          <p:childTnLst>
            <p:seq>
              <p:cTn id="1275" dur="indefinite" nodeType="mainSeq">
                <p:childTnLst>
                  <p:par>
                    <p:cTn id="1276" fill="hold">
                      <p:stCondLst>
                        <p:cond delay="0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9" dur="1" fill="hold"/>
                                        <p:tgtEl>
                                          <p:spTgt spid="3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6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1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1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1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6800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One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6920" y="1628640"/>
            <a:ext cx="720108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reparation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ALFF: mALFF-1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fALFF: mfALFF-1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ReHo: smReHo-1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FC: zFC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848720" cy="61880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971640" y="6093000"/>
            <a:ext cx="865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835280" y="6093000"/>
            <a:ext cx="865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79280" y="115920"/>
            <a:ext cx="8506080" cy="691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This report is based on CUI Xu's xjview. (http://www.alivelearn.net/xjview/)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Revised by YAN Chao-Gan and ZHU Wei-Xuan 20091108: suitable for different Cluster Connectivity Criterion: surface connected, edge connected, corner connected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Number of clusters found: 7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----------------------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Cluster 1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Number of voxels: 59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Peak MNI coordinate: 27   6 -45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Peak MNI coordinate region:  // Right Cerebrum // Temporal Lobe // Superior Temporal Gyrus // White Matter // undefined // Temporal_Inf_R (aal)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Peak intensity: 3.5023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# voxels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--TOTAL # VOXELS--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4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Right Cerebrum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3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Temporal Lobe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White Matter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Temporal_Inf_R (aal)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Gray Matter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Superior Temporal Gyrus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Fusiform_R (aal)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brodmann area 38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Inferior Temporal Gyrus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Middle Temporal Gyrus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Limbic Lobe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Uncus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Temporal_Pole_Mid_R (aal)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brodmann area 2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Sub-Gyral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----------------------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Cluster 2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Number of voxels: 98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Peak MNI coordinate: -9 -78 -51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411280" y="692280"/>
            <a:ext cx="86364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835280" y="1268280"/>
            <a:ext cx="86364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95640" y="1484280"/>
            <a:ext cx="115236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79280" y="1773360"/>
            <a:ext cx="8280360" cy="4464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619280" y="2133720"/>
            <a:ext cx="79200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4" dur="indefinite" restart="never" nodeType="tmRoot">
          <p:childTnLst>
            <p:seq>
              <p:cTn id="1345" dur="indefinite" nodeType="mainSeq">
                <p:childTnLst>
                  <p:par>
                    <p:cTn id="1346" fill="hold">
                      <p:stCondLst>
                        <p:cond delay="0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9" dur="1" fill="hold"/>
                                        <p:tgtEl>
                                          <p:spTgt spid="4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632720" cy="6018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1619280" y="2565360"/>
            <a:ext cx="792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2771640" y="1268280"/>
            <a:ext cx="4824720" cy="41673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2843280" y="2133720"/>
            <a:ext cx="57636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843280" y="2852640"/>
            <a:ext cx="57636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843280" y="3645000"/>
            <a:ext cx="57636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843280" y="4437000"/>
            <a:ext cx="57636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2781360"/>
            <a:ext cx="50328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6" dur="indefinite" restart="never" nodeType="tmRoot">
          <p:childTnLst>
            <p:seq>
              <p:cTn id="1397" dur="indefinite" nodeType="mainSeq">
                <p:childTnLst>
                  <p:par>
                    <p:cTn id="1398" fill="hold">
                      <p:stCondLst>
                        <p:cond delay="0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1" dur="1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41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2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1"/>
          <a:srcRect l="0" t="1023" r="0" b="2245"/>
          <a:stretch/>
        </p:blipFill>
        <p:spPr>
          <a:xfrm>
            <a:off x="900000" y="115920"/>
            <a:ext cx="7626600" cy="676764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1547640" y="3716280"/>
            <a:ext cx="576360" cy="217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971640" y="6354720"/>
            <a:ext cx="647640" cy="2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1042920" y="5686560"/>
            <a:ext cx="1924200" cy="117144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042920" y="6453360"/>
            <a:ext cx="1225440" cy="242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6" dur="indefinite" restart="never" nodeType="tmRoot">
          <p:childTnLst>
            <p:seq>
              <p:cTn id="1447" dur="indefinite" nodeType="mainSeq">
                <p:childTnLst>
                  <p:par>
                    <p:cTn id="1448" fill="hold">
                      <p:stCondLst>
                        <p:cond delay="0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1" dur="1" fill="hold"/>
                                        <p:tgtEl>
                                          <p:spTgt spid="4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971640" y="1357200"/>
            <a:ext cx="6769080" cy="550080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3059280" y="2492280"/>
            <a:ext cx="5256000" cy="300204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123640" y="189000"/>
            <a:ext cx="60483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Create Brodmann Mas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042920" y="4653000"/>
            <a:ext cx="1728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042920" y="6381720"/>
            <a:ext cx="23050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32000" y="3141720"/>
            <a:ext cx="648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500720" y="3789360"/>
            <a:ext cx="4140000" cy="14655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Template\brodmann.nii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Or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Template\Brodmann_61x73x61.nii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4" dur="indefinite" restart="never" nodeType="tmRoot">
          <p:childTnLst>
            <p:seq>
              <p:cTn id="1475" dur="indefinite" nodeType="mainSeq">
                <p:childTnLst>
                  <p:par>
                    <p:cTn id="1476" fill="hold">
                      <p:stCondLst>
                        <p:cond delay="0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9" dur="1" fill="hold"/>
                                        <p:tgtEl>
                                          <p:spTgt spid="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769440" cy="550080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123640" y="189000"/>
            <a:ext cx="60483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Create Brodmann Mas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564000" y="3789360"/>
            <a:ext cx="576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484360" y="6093000"/>
            <a:ext cx="79236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0" dur="indefinite" restart="never" nodeType="tmRoot">
          <p:childTnLst>
            <p:seq>
              <p:cTn id="1511" dur="indefinite" nodeType="mainSeq">
                <p:childTnLst>
                  <p:par>
                    <p:cTn id="1512" fill="hold">
                      <p:stCondLst>
                        <p:cond delay="0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5" dur="1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1763640" y="333360"/>
            <a:ext cx="6624720" cy="646596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2771640" y="2205000"/>
            <a:ext cx="5040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516720" y="5734080"/>
            <a:ext cx="115236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37" name=""/>
          <p:cNvSpPr/>
          <p:nvPr/>
        </p:nvSpPr>
        <p:spPr>
          <a:xfrm>
            <a:off x="-181080" y="2205000"/>
            <a:ext cx="197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Data Resample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708360" y="3860640"/>
            <a:ext cx="1943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708360" y="4365720"/>
            <a:ext cx="388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708360" y="4797360"/>
            <a:ext cx="1727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724360" y="3860640"/>
            <a:ext cx="1943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443640" y="4869000"/>
            <a:ext cx="79236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645000"/>
            <a:ext cx="2987640" cy="14655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0 – Nearest Neighbor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1 – Trilinear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2- 2nd degree b-spline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708360" y="5300640"/>
            <a:ext cx="10796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708360" y="5877000"/>
            <a:ext cx="2664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6" dur="indefinite" restart="never" nodeType="tmRoot">
          <p:childTnLst>
            <p:seq>
              <p:cTn id="1527" dur="indefinite" nodeType="mainSeq">
                <p:childTnLst>
                  <p:par>
                    <p:cTn id="1528" fill="hold">
                      <p:stCondLst>
                        <p:cond delay="0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1" dur="1" fill="hold"/>
                                        <p:tgtEl>
                                          <p:spTgt spid="4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900000" y="1557360"/>
            <a:ext cx="7696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tatistical Analysi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ults View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Multiple Comparis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T Image Calculator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ther Functi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42920" y="3500280"/>
            <a:ext cx="46836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8" dur="indefinite" restart="never" nodeType="tmRoot">
          <p:childTnLst>
            <p:seq>
              <p:cTn id="1599" dur="indefinite" nodeType="mainSeq">
                <p:childTnLst>
                  <p:par>
                    <p:cTn id="1600" fill="hold">
                      <p:stCondLst>
                        <p:cond delay="0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3" dur="1" fill="hold"/>
                                        <p:tgtEl>
                                          <p:spTgt spid="4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195280" y="476280"/>
            <a:ext cx="53276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Multiple Comparis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5740200" cy="430056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1763640" y="4508640"/>
            <a:ext cx="230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=0.0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robability of not getting a false positive result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1 - 0.05 = 0.9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771640" y="4508640"/>
            <a:ext cx="230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=0.0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robability of not getting a false positive result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1 - 0.05 = 0.9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140360" y="4508640"/>
            <a:ext cx="230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=0.0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robability of not getting a false positive result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1 - 0.05 = 0.9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292720" y="4508640"/>
            <a:ext cx="230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=0.0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robability of not getting a false positive result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1 - 0.05 = 0.9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340000" y="4797360"/>
            <a:ext cx="568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0.95      0.95           0.95           0.95          0.9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0.95</a:t>
            </a:r>
            <a:r>
              <a:rPr b="1" lang="fr-FR" sz="2000" spc="-1" strike="noStrike" baseline="30000">
                <a:solidFill>
                  <a:srgbClr val="ffff00"/>
                </a:solidFill>
                <a:latin typeface="Times New Roman"/>
                <a:ea typeface="隶书"/>
              </a:rPr>
              <a:t>5</a:t>
            </a: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=0.774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443640" y="4437000"/>
            <a:ext cx="230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=0.0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robability of not getting a false positive result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1 - 0.05 = 0.9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4" dur="indefinite" restart="never" nodeType="tmRoot">
          <p:childTnLst>
            <p:seq>
              <p:cTn id="1605" dur="indefinite" nodeType="mainSeq">
                <p:childTnLst>
                  <p:par>
                    <p:cTn id="1606" fill="hold">
                      <p:stCondLst>
                        <p:cond delay="0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9" dur="1" fill="hold"/>
                                        <p:tgtEl>
                                          <p:spTgt spid="4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050560" y="476280"/>
            <a:ext cx="53276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Multiple Comparis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26920" y="1125360"/>
            <a:ext cx="8066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Bonferroni correction: 0.05/5=0.01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False Discovery Rates (FDR) correction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Family-Wise Error (FWE) correction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b1e2fb"/>
                </a:solidFill>
                <a:latin typeface="Times New Roman"/>
                <a:ea typeface="隶书"/>
              </a:rPr>
              <a:t>Monte Carlo simulations (AlphaSim)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2" dur="indefinite" restart="never" nodeType="tmRoot">
          <p:childTnLst>
            <p:seq>
              <p:cTn id="1673" dur="indefinite" nodeType="mainSeq">
                <p:childTnLst>
                  <p:par>
                    <p:cTn id="1674" fill="hold">
                      <p:stCondLst>
                        <p:cond delay="0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7" dur="1" fill="hold"/>
                                        <p:tgtEl>
                                          <p:spTgt spid="4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050560" y="476280"/>
            <a:ext cx="53276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Multiple Comparis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26920" y="1452600"/>
            <a:ext cx="806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Monte Carlo simulations (AlphaSim)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3527640" cy="264168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2"/>
          <a:stretch/>
        </p:blipFill>
        <p:spPr>
          <a:xfrm>
            <a:off x="4572000" y="2403360"/>
            <a:ext cx="3579840" cy="268128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4067280" y="5300640"/>
            <a:ext cx="574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?</a:t>
            </a:r>
            <a:endParaRPr b="0" lang="en-US" sz="4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6" dur="indefinite" restart="never" nodeType="tmRoot">
          <p:childTnLst>
            <p:seq>
              <p:cTn id="1697" dur="indefinite" nodeType="mainSeq">
                <p:childTnLst>
                  <p:par>
                    <p:cTn id="1698" fill="hold">
                      <p:stCondLst>
                        <p:cond delay="0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1" dur="1" fill="hold"/>
                                        <p:tgtEl>
                                          <p:spTgt spid="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543640" cy="3971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72000" y="465300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05" name=""/>
          <p:cNvSpPr/>
          <p:nvPr/>
        </p:nvSpPr>
        <p:spPr>
          <a:xfrm>
            <a:off x="-108000" y="2781360"/>
            <a:ext cx="197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One sample T test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796000" y="0"/>
            <a:ext cx="27432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156360" y="234936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543640" cy="397188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4572000" y="465300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72" name=""/>
          <p:cNvSpPr/>
          <p:nvPr/>
        </p:nvSpPr>
        <p:spPr>
          <a:xfrm>
            <a:off x="-108000" y="2781360"/>
            <a:ext cx="197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Tahoma"/>
              </a:rPr>
              <a:t>REST AlphaSim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5796000" y="0"/>
            <a:ext cx="274320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6156360" y="162864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8" dur="indefinite" restart="never" nodeType="tmRoot">
          <p:childTnLst>
            <p:seq>
              <p:cTn id="1709" dur="indefinite" nodeType="mainSeq">
                <p:childTnLst>
                  <p:par>
                    <p:cTn id="1710" fill="hold">
                      <p:stCondLst>
                        <p:cond delay="0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3" dur="1" fill="hold"/>
                                        <p:tgtEl>
                                          <p:spTgt spid="4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fill="hold">
                      <p:stCondLst>
                        <p:cond delay="indefinite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560000" cy="497376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3276720" y="1484280"/>
            <a:ext cx="93492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276720" y="2060640"/>
            <a:ext cx="934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372360" y="3357720"/>
            <a:ext cx="1079280" cy="502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588000" y="1484280"/>
            <a:ext cx="863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588000" y="2060640"/>
            <a:ext cx="863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348000" y="2708280"/>
            <a:ext cx="4032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276720" y="4149720"/>
            <a:ext cx="417492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276720" y="4797360"/>
            <a:ext cx="1726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0" dur="indefinite" restart="never" nodeType="tmRoot">
          <p:childTnLst>
            <p:seq>
              <p:cTn id="1731" dur="indefinite" nodeType="mainSeq">
                <p:childTnLst>
                  <p:par>
                    <p:cTn id="1732" fill="hold">
                      <p:stCondLst>
                        <p:cond delay="0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5" dur="1" fill="hold"/>
                                        <p:tgtEl>
                                          <p:spTgt spid="4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14280" y="907920"/>
            <a:ext cx="8505720" cy="542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Cl Size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Frequency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Cum Prop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p/Voxel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Max Freq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Alpha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3597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619898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961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.00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7615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81994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628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.00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3229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0478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413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.00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594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4666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276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.00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847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6893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186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.00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478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8150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126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.00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76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8877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86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60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299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58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8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01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564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40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2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29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8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718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27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3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802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39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821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19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7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67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3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883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13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4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498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6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26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9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0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352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98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51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6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78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245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6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70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4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6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167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3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798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2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106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85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2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76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8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91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1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54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94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1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33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96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0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22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97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0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15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98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0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1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99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0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5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.00000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0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1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786280" y="907920"/>
            <a:ext cx="79236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14280" y="907920"/>
            <a:ext cx="79236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14280" y="4941720"/>
            <a:ext cx="8353440" cy="28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2" dur="indefinite" restart="never" nodeType="tmRoot">
          <p:childTnLst>
            <p:seq>
              <p:cTn id="1783" dur="indefinite" nodeType="mainSeq">
                <p:childTnLst>
                  <p:par>
                    <p:cTn id="1784" fill="hold">
                      <p:stCondLst>
                        <p:cond delay="0"/>
                      </p:stCondLst>
                      <p:childTnLst>
                        <p:par>
                          <p:cTn id="1785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7" dur="1" fill="hold"/>
                                        <p:tgtEl>
                                          <p:spTgt spid="4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900000" y="1557360"/>
            <a:ext cx="7696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tatistical Analysi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ults View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Multiple Comparis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T Image Calculator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ther Functi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42920" y="4363920"/>
            <a:ext cx="46836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0" dur="indefinite" restart="never" nodeType="tmRoot">
          <p:childTnLst>
            <p:seq>
              <p:cTn id="1801" dur="indefinite" nodeType="mainSeq">
                <p:childTnLst>
                  <p:par>
                    <p:cTn id="1802" fill="hold">
                      <p:stCondLst>
                        <p:cond delay="0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5" dur="1" fill="hold"/>
                                        <p:tgtEl>
                                          <p:spTgt spid="4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543640" cy="397188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4572000" y="465300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98" name=""/>
          <p:cNvSpPr/>
          <p:nvPr/>
        </p:nvSpPr>
        <p:spPr>
          <a:xfrm>
            <a:off x="-108000" y="2781360"/>
            <a:ext cx="197964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REST 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Image 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Calculator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2"/>
          <a:stretch/>
        </p:blipFill>
        <p:spPr>
          <a:xfrm>
            <a:off x="5796000" y="0"/>
            <a:ext cx="2743200" cy="685800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6156360" y="234936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6" dur="indefinite" restart="never" nodeType="tmRoot">
          <p:childTnLst>
            <p:seq>
              <p:cTn id="1807" dur="indefinite" nodeType="mainSeq">
                <p:childTnLst>
                  <p:par>
                    <p:cTn id="1808" fill="hold">
                      <p:stCondLst>
                        <p:cond delay="0"/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1" dur="1" fill="hold"/>
                                        <p:tgtEl>
                                          <p:spTgt spid="5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fill="hold">
                      <p:stCondLst>
                        <p:cond delay="indefinite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700000" y="476280"/>
            <a:ext cx="43196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REST Image Calculat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6481440" cy="659772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2411280" y="5084640"/>
            <a:ext cx="41054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258920" y="1557360"/>
            <a:ext cx="1800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411280" y="1916280"/>
            <a:ext cx="4105440" cy="433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411280" y="5589720"/>
            <a:ext cx="3168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411280" y="6093000"/>
            <a:ext cx="122400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258920" y="3284640"/>
            <a:ext cx="1728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340000" y="3645000"/>
            <a:ext cx="4176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796000" y="5589720"/>
            <a:ext cx="792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8" dur="indefinite" restart="never" nodeType="tmRoot">
          <p:childTnLst>
            <p:seq>
              <p:cTn id="1829" dur="indefinite" nodeType="mainSeq">
                <p:childTnLst>
                  <p:par>
                    <p:cTn id="1830" fill="hold">
                      <p:stCondLst>
                        <p:cond delay="0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3" dur="1" fill="hold"/>
                                        <p:tgtEl>
                                          <p:spTgt spid="5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4" fill="hold">
                      <p:stCondLst>
                        <p:cond delay="indefinite"/>
                      </p:stCondLst>
                      <p:childTnLst>
                        <p:par>
                          <p:cTn id="1835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fill="hold">
                      <p:stCondLst>
                        <p:cond delay="indefinite"/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4" fill="hold">
                      <p:stCondLst>
                        <p:cond delay="indefinite"/>
                      </p:stCondLst>
                      <p:childTnLst>
                        <p:par>
                          <p:cTn id="1875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050560" y="476280"/>
            <a:ext cx="53276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REST Image Calculat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84360" y="1407960"/>
            <a:ext cx="806580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Example expressions: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(a)      g1-1     Subtract 1 from each image in group 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(b)      g1-g2    Subtract each image in group 2 from each corresponding image in group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(c)      i1-i2    Subtract image 2 from image 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(d)      i1&gt;100    Make a binary mask image at threshold of 100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(e)      g1.*(i1&gt;100)   Make a mask and then apply to each image in group 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(f)      mean(g1)   Calculate the mean image of group 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(g)      corr(g1,g2,''temporal'')    Calculate the temporal correlation between two groups, i.e. one correlation coefficient between two ''time courses'' for each voxel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(h)      corr(g1,g2,''spatial'')     Calculate the spatial correlation between two groups, i.e. one correlation coefficient between two images for each ''time point''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0" dur="indefinite" restart="never" nodeType="tmRoot">
          <p:childTnLst>
            <p:seq>
              <p:cTn id="1881" dur="indefinite" nodeType="mainSeq">
                <p:childTnLst>
                  <p:par>
                    <p:cTn id="1882" fill="hold">
                      <p:stCondLst>
                        <p:cond delay="0"/>
                      </p:stCondLst>
                      <p:childTnLst>
                        <p:par>
                          <p:cTn id="1883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5" dur="1" fill="hold"/>
                                        <p:tgtEl>
                                          <p:spTgt spid="5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900000" y="1557360"/>
            <a:ext cx="7696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tatistical Analysi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ults View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Multiple Comparis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T Image Calculator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ther Functi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42920" y="5157720"/>
            <a:ext cx="46836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6" dur="indefinite" restart="never" nodeType="tmRoot">
          <p:childTnLst>
            <p:seq>
              <p:cTn id="1887" dur="indefinite" nodeType="mainSeq">
                <p:childTnLst>
                  <p:par>
                    <p:cTn id="1888" fill="hold">
                      <p:stCondLst>
                        <p:cond delay="0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1" dur="1" fill="hold"/>
                                        <p:tgtEl>
                                          <p:spTgt spid="5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543640" cy="397188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4572000" y="465300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23" name=""/>
          <p:cNvSpPr/>
          <p:nvPr/>
        </p:nvSpPr>
        <p:spPr>
          <a:xfrm>
            <a:off x="-108000" y="2781360"/>
            <a:ext cx="197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Tahoma"/>
              </a:rPr>
              <a:t>NIfTI nii to NIfTI pairs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5796000" y="0"/>
            <a:ext cx="2743200" cy="685800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6156360" y="537372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2" dur="indefinite" restart="never" nodeType="tmRoot">
          <p:childTnLst>
            <p:seq>
              <p:cTn id="1893" dur="indefinite" nodeType="mainSeq">
                <p:childTnLst>
                  <p:par>
                    <p:cTn id="1894" fill="hold">
                      <p:stCondLst>
                        <p:cond delay="0"/>
                      </p:stCondLst>
                      <p:childTnLst>
                        <p:par>
                          <p:cTn id="1895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7" dur="1" fill="hold"/>
                                        <p:tgtEl>
                                          <p:spTgt spid="5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626920" y="802800"/>
            <a:ext cx="431964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NIfTI .nii to NIfTI pai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6408720" cy="514980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2124000" y="2781360"/>
            <a:ext cx="439272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843280" y="4292640"/>
            <a:ext cx="381636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843280" y="4797360"/>
            <a:ext cx="10810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076720" y="4869000"/>
            <a:ext cx="935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4" dur="indefinite" restart="never" nodeType="tmRoot">
          <p:childTnLst>
            <p:seq>
              <p:cTn id="1915" dur="indefinite" nodeType="mainSeq">
                <p:childTnLst>
                  <p:par>
                    <p:cTn id="1916" fill="hold">
                      <p:stCondLst>
                        <p:cond delay="0"/>
                      </p:stCondLst>
                      <p:childTnLst>
                        <p:par>
                          <p:cTn id="1917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9" dur="1" fill="hold"/>
                                        <p:tgtEl>
                                          <p:spTgt spid="5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4" fill="hold">
                      <p:stCondLst>
                        <p:cond delay="indefinite"/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fill="hold">
                      <p:stCondLst>
                        <p:cond delay="indefinite"/>
                      </p:stCondLst>
                      <p:childTnLst>
                        <p:par>
                          <p:cTn id="1931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fill="hold">
                      <p:stCondLst>
                        <p:cond delay="indefinite"/>
                      </p:stCondLst>
                      <p:childTnLst>
                        <p:par>
                          <p:cTn id="1937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0000" y="476280"/>
            <a:ext cx="43196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One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6481440" cy="6597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411280" y="5084640"/>
            <a:ext cx="41054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236000" y="2276640"/>
            <a:ext cx="165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smReHo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mALFF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58920" y="1557360"/>
            <a:ext cx="1800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11280" y="1916280"/>
            <a:ext cx="4105440" cy="433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11280" y="5589720"/>
            <a:ext cx="3168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11280" y="6093000"/>
            <a:ext cx="122400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36000" y="5516640"/>
            <a:ext cx="165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g1-1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6165720"/>
            <a:ext cx="1079280" cy="358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7272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Reading and Writing func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84360" y="1407960"/>
            <a:ext cx="8065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Reading: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[Data Vox Head]=rest_readfile('brodmann.nii');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       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Data – 181*217*181 double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       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Vox – 1 1 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        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Head - Structure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Processing: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BA20Data=(Data==20);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Writing: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rest_WriteNiftiImage(BA20Data,Head,'BA20.img');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42" dur="indefinite" restart="never" nodeType="tmRoot">
          <p:childTnLst>
            <p:seq>
              <p:cTn id="1943" dur="indefinite" nodeType="mainSeq">
                <p:childTnLst>
                  <p:par>
                    <p:cTn id="1944" fill="hold">
                      <p:stCondLst>
                        <p:cond delay="0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7" dur="1" fill="hold"/>
                                        <p:tgtEl>
                                          <p:spTgt spid="5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8" fill="hold">
                      <p:stCondLst>
                        <p:cond delay="indefinite"/>
                      </p:stCondLst>
                      <p:childTnLst>
                        <p:par>
                          <p:cTn id="1949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3" dur="5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4" fill="hold">
                      <p:stCondLst>
                        <p:cond delay="indefinite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9" dur="500" fill="hold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6" dur="500" fill="hold"/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fill="hold">
                      <p:stCondLst>
                        <p:cond delay="indefinite"/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2" dur="500" fill="hold"/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6" dur="500" fill="hold"/>
                                        <p:tgtEl>
                                          <p:spTgt spid="5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5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8" fill="hold">
                      <p:stCondLst>
                        <p:cond delay="indefinite"/>
                      </p:stCondLst>
                      <p:childTnLst>
                        <p:par>
                          <p:cTn id="1979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2" dur="500" fill="hold"/>
                                        <p:tgtEl>
                                          <p:spTgt spid="5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5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5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5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7272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Solve Problem "Out Of Memory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84360" y="1887480"/>
            <a:ext cx="80658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1. Reboot your computer and do not run any other programs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2. Enlarge your memory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3. MATLAB Version 7.1 or above is suggested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4. You can turn on the 3GB switch of Windows XP!!! Please see more details in http://www.microsoft.com/whdc/system/platform/server/PAE/PAEmem.mspx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5. If this problem remains, please install Linux, especially 64 bit Linux and Matlab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8" dur="indefinite" restart="never" nodeType="tmRoot">
          <p:childTnLst>
            <p:seq>
              <p:cTn id="1989" dur="indefinite" nodeType="mainSeq">
                <p:childTnLst>
                  <p:par>
                    <p:cTn id="1990" fill="hold">
                      <p:stCondLst>
                        <p:cond delay="0"/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3" dur="1" fill="hold"/>
                                        <p:tgtEl>
                                          <p:spTgt spid="5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2484360" y="1916280"/>
            <a:ext cx="46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www.restfmri.net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Further Hel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26920" y="138096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Further questions: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826920" y="2749680"/>
            <a:ext cx="792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Further professional data analysis service: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484360" y="3446640"/>
            <a:ext cx="6480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Brain Imaging Data Analysis and Consultation Section (BIDACS)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bidacs@gmail.com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4" dur="indefinite" restart="never" nodeType="tmRoot">
          <p:childTnLst>
            <p:seq>
              <p:cTn id="1995" dur="indefinite" nodeType="mainSeq">
                <p:childTnLst>
                  <p:par>
                    <p:cTn id="1996" fill="hold">
                      <p:stCondLst>
                        <p:cond delay="0"/>
                      </p:stCondLst>
                      <p:childTnLst>
                        <p:par>
                          <p:cTn id="1997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9" dur="1" fill="hold"/>
                                        <p:tgtEl>
                                          <p:spTgt spid="5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Thanks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331640" y="1412640"/>
            <a:ext cx="2879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DONG Zhang-Y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GUO Xiao-Ju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HE Yo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LONG Xiang-Yu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SONG Xiao-Wei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YAO Li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ZANG Yu-Fe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ZHANG H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ZHU Chao-Zh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ZOU Qi-Ho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ZUO Xi-Ni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……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"/>
          <p:cNvSpPr/>
          <p:nvPr/>
        </p:nvSpPr>
        <p:spPr>
          <a:xfrm>
            <a:off x="5003640" y="5084640"/>
            <a:ext cx="3457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All the group members!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076720" y="1341360"/>
            <a:ext cx="359892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SPM Team: Wellcome Department of Imaging Neuroscience, UCL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MRIcroN Team: Chris RORDEN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Xjview Team: CUI Xu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……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0" dur="indefinite" restart="never" nodeType="tmRoot">
          <p:childTnLst>
            <p:seq>
              <p:cTn id="2001" dur="indefinite" nodeType="mainSeq">
                <p:childTnLst>
                  <p:par>
                    <p:cTn id="2002" fill="hold">
                      <p:stCondLst>
                        <p:cond delay="0"/>
                      </p:stCondLst>
                      <p:childTnLst>
                        <p:par>
                          <p:cTn id="2003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5" dur="1" fill="hold"/>
                                        <p:tgtEl>
                                          <p:spTgt spid="5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71640" y="2997000"/>
            <a:ext cx="7797600" cy="35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Thanks for your attention!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6" dur="indefinite" restart="never" nodeType="tmRoot">
          <p:childTnLst>
            <p:seq>
              <p:cTn id="2007" dur="indefinite" nodeType="mainSeq">
                <p:childTnLst>
                  <p:par>
                    <p:cTn id="2008" fill="hold">
                      <p:stCondLst>
                        <p:cond delay="0"/>
                      </p:stCondLst>
                      <p:childTnLst>
                        <p:par>
                          <p:cTn id="2009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1" dur="1" fill="hold"/>
                                        <p:tgtEl>
                                          <p:spTgt spid="5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209080" cy="4356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00000" y="476280"/>
            <a:ext cx="43196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One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16720" y="2708280"/>
            <a:ext cx="2160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40360" y="2349360"/>
            <a:ext cx="1224000" cy="28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91280" y="2349360"/>
            <a:ext cx="1584360" cy="28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4390920" cy="3673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835280" y="1484280"/>
            <a:ext cx="3905280" cy="48974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48960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One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3789360"/>
            <a:ext cx="122580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12000" y="2852640"/>
            <a:ext cx="3132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m*-1 image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zFC image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08000" y="2779560"/>
            <a:ext cx="3816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5661000"/>
            <a:ext cx="2881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Directory for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saving SPM.ma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08000" y="5948280"/>
            <a:ext cx="3816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8000" y="4724280"/>
            <a:ext cx="3816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2000" y="4724280"/>
            <a:ext cx="3132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Brain Mask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3898800" cy="5003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979640" y="1844640"/>
            <a:ext cx="4321080" cy="36860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356000" y="3789360"/>
            <a:ext cx="1368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3708360" y="3141720"/>
            <a:ext cx="3384720" cy="1185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708360" y="3573360"/>
            <a:ext cx="331164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20000" y="3573360"/>
            <a:ext cx="273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The generated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spm.ma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48960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One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8T13:17:48Z</dcterms:created>
  <dc:creator>ibm</dc:creator>
  <dc:description/>
  <dc:language>en-US</dc:language>
  <cp:lastModifiedBy>YAN Chao-Gan</cp:lastModifiedBy>
  <dcterms:modified xsi:type="dcterms:W3CDTF">2012-10-21T04:00:19Z</dcterms:modified>
  <cp:revision>1933</cp:revision>
  <dc:subject/>
  <dc:title>幻灯片 1</dc:title>
</cp:coreProperties>
</file>