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58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74.png" ContentType="image/png"/>
  <Override PartName="/ppt/media/image25.png" ContentType="image/png"/>
  <Override PartName="/ppt/media/image62.png" ContentType="image/png"/>
  <Override PartName="/ppt/media/image73.png" ContentType="image/png"/>
  <Override PartName="/ppt/media/image24.png" ContentType="image/png"/>
  <Override PartName="/ppt/media/image61.png" ContentType="image/png"/>
  <Override PartName="/ppt/media/image35.png" ContentType="image/png"/>
  <Override PartName="/ppt/media/image17.png" ContentType="image/png"/>
  <Override PartName="/ppt/media/image5.png" ContentType="image/png"/>
  <Override PartName="/ppt/media/image72.png" ContentType="image/png"/>
  <Override PartName="/ppt/media/image23.png" ContentType="image/png"/>
  <Override PartName="/ppt/media/image60.png" ContentType="image/png"/>
  <Override PartName="/ppt/media/image14.png" ContentType="image/png"/>
  <Override PartName="/ppt/media/image69.wmf" ContentType="image/x-wmf"/>
  <Override PartName="/ppt/media/image29.png" ContentType="image/png"/>
  <Override PartName="/ppt/media/image68.png" ContentType="image/png"/>
  <Override PartName="/ppt/media/image2.jpeg" ContentType="image/jpe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28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0.wmf" ContentType="image/x-wmf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71.wmf" ContentType="image/x-wmf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5FB7D-C58B-45A4-8B32-27519989F13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87517-CF17-43C3-ADF8-93472D95C45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D8C04-3806-4831-B61A-AC7B8C6707F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D9452-A702-4476-A800-65264D329F4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F010C-05CC-4A64-9EB5-EDE3C6AB537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FC4C1-039B-46EA-80F5-89E220CD195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0F28A-B1E3-4331-BB8B-AB5E3BA43F0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CCB0D-2FA5-436E-9998-3A633768913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0AC67-59C2-40A7-AC9D-510A18398B1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0DC7D-7AB4-49FE-8767-D23CEA25B2A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78EE5-309D-4B8B-BD39-381508741B5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43B40-C61C-4BB3-A982-619A6AF44C3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5B8D1-B52D-4D72-9255-1BA7BAE009F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1E7D6-37F5-4AA2-9A47-63555ADA838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68298-506D-458A-A7A2-0049ED7C669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6D701-18B2-4E24-8D18-90B87CAF088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9E453-D99A-4360-A5AD-9C4EF091F7A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8987A-934A-46DB-AAD0-355F11EAAFC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07606-7CB2-482E-BF99-B495FCA8A52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531EF-41CE-43A6-B5AD-1817CCCFBF4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11813-167D-42C0-9159-F3227ED3352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74439-55E3-4FBF-913C-D03198B1137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CE002-FF9B-43D8-BD5F-6CF740785B4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7F279-83DB-4AC5-95E3-C9F8D9010B4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5127E-5DC1-4AC0-B00E-FB576CB5748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1D6C3-C28C-4B9C-A0AF-59BF113CFB2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F313F-6BFE-4452-8A67-0496BB951EC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B3E63-68A1-45C9-AF44-C1C2A740C28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05B52-331B-480A-A64C-521D8EE1A83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DBB5A-15B2-4A42-8D8F-F16BDAFE724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A0AC5-FE0F-4138-AFC8-385146429DD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35DFE-9A7C-4E01-8FB2-4B947E5077B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F5A42-BDCB-43A5-820E-862782E5476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EBA79-E52F-44CD-81C6-C281F56473D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A1E14-E650-4BD9-8976-5B3045AD751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B42CF-19C6-46E7-9011-4A63CB85583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09B6F-2BF7-45D4-B695-39BBC88BADE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EFDE3-328C-47A3-9921-83D5B12C1EE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2573-91FC-4258-9246-48394ECC782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7160E-B16F-4162-A4D0-6BE26469E5D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87B91-3BD0-4241-B650-97DC50EAFA0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5FBC6-84E8-4E28-8393-8479BD59618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D3600-BBED-4DD1-8D43-3F2EF73E647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81685-0C48-4E27-855F-77BDF961A73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6DC5A-7533-422D-ADCC-79F82C4131B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DE7B1-1488-4C0F-9A80-042954C59E3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A051A-550A-4C71-B794-8FFC32F6D79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8BF82-88E5-491E-92AD-01E6FD26515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CE9FF-F475-484D-A6D1-48C66E3E5DF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B729C-E1AB-4E90-BCC9-E4F6370638E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EB29E-325A-40B6-9AE7-0032E7A67BF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F35D5-445B-49BE-8742-98571E0E8B9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E2341-E6BF-44B2-8508-09F91F25A79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26147-0A0F-4427-8456-AFD131A0BF9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3B191-4904-4907-92FF-AA2A06A75A5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BAFB9-F06F-4AE3-9E98-894DAF11AE4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665E5-3848-4F47-817D-C88454D46DC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543E3-3979-458B-8F49-F36E1B611E6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9AB5E-7755-45F4-BAB5-55C0E620401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ABA37-9489-4071-A842-811996EF442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0C1F7-B0BE-42B2-9CA1-524A1E65DDF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531DF-1D39-4A5D-B8B2-32D8848317C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640" y="4082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668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08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452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64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08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452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533160"/>
            <a:ext cx="73915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5668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9640" y="4082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5668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2208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452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964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2208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452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533160"/>
            <a:ext cx="73915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668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ae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baaf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b1e2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b1e2fb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1e2fb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8604000" y="6536880"/>
            <a:ext cx="5396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b1e2fb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1e2fb"/>
                </a:solidFill>
                <a:latin typeface="Arial"/>
              </a:rPr>
              <a:t>&lt;footer&gt;</a:t>
            </a:r>
            <a:fld id="{678B1D0A-1B03-415E-AB16-576076B4B541}" type="slidenum">
              <a:rPr b="0" lang="zh-CN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9600" y="41400"/>
            <a:ext cx="1219320" cy="122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9360" y="2708280"/>
            <a:ext cx="9183600" cy="1501920"/>
            <a:chOff x="-9360" y="2708280"/>
            <a:chExt cx="9183600" cy="1501920"/>
          </a:xfrm>
        </p:grpSpPr>
        <p:sp>
          <p:nvSpPr>
            <p:cNvPr id="42" name=""/>
            <p:cNvSpPr/>
            <p:nvPr/>
          </p:nvSpPr>
          <p:spPr>
            <a:xfrm>
              <a:off x="-4680" y="2708280"/>
              <a:ext cx="9151920" cy="1501920"/>
            </a:xfrm>
            <a:custGeom>
              <a:avLst/>
              <a:gdLst/>
              <a:ahLst/>
              <a:rect l="l" t="t" r="r" b="b"/>
              <a:pathLst>
                <a:path w="5779" h="946">
                  <a:moveTo>
                    <a:pt x="6" y="454"/>
                  </a:moveTo>
                  <a:lnTo>
                    <a:pt x="355" y="454"/>
                  </a:lnTo>
                  <a:lnTo>
                    <a:pt x="757" y="1"/>
                  </a:lnTo>
                  <a:lnTo>
                    <a:pt x="2511" y="0"/>
                  </a:lnTo>
                  <a:lnTo>
                    <a:pt x="2646" y="144"/>
                  </a:lnTo>
                  <a:lnTo>
                    <a:pt x="5779" y="137"/>
                  </a:lnTo>
                  <a:lnTo>
                    <a:pt x="5779" y="772"/>
                  </a:lnTo>
                  <a:lnTo>
                    <a:pt x="2899" y="765"/>
                  </a:lnTo>
                  <a:lnTo>
                    <a:pt x="2757" y="946"/>
                  </a:lnTo>
                  <a:lnTo>
                    <a:pt x="1883" y="946"/>
                  </a:lnTo>
                  <a:lnTo>
                    <a:pt x="1663" y="687"/>
                  </a:lnTo>
                  <a:lnTo>
                    <a:pt x="0" y="687"/>
                  </a:lnTo>
                  <a:lnTo>
                    <a:pt x="35" y="48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77353" dir="4837521" blurRad="0" rotWithShape="0">
                <a:srgbClr val="000066">
                  <a:alpha val="1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-9360" y="2747880"/>
              <a:ext cx="9183600" cy="1420920"/>
            </a:xfrm>
            <a:custGeom>
              <a:avLst/>
              <a:gdLst/>
              <a:ahLst/>
              <a:rect l="l" t="t" r="r" b="b"/>
              <a:pathLst>
                <a:path w="5799" h="895">
                  <a:moveTo>
                    <a:pt x="0" y="455"/>
                  </a:moveTo>
                  <a:lnTo>
                    <a:pt x="369" y="454"/>
                  </a:lnTo>
                  <a:lnTo>
                    <a:pt x="776" y="0"/>
                  </a:lnTo>
                  <a:lnTo>
                    <a:pt x="2496" y="0"/>
                  </a:lnTo>
                  <a:lnTo>
                    <a:pt x="2632" y="136"/>
                  </a:lnTo>
                  <a:lnTo>
                    <a:pt x="5799" y="136"/>
                  </a:lnTo>
                  <a:lnTo>
                    <a:pt x="5788" y="727"/>
                  </a:lnTo>
                  <a:lnTo>
                    <a:pt x="2883" y="708"/>
                  </a:lnTo>
                  <a:lnTo>
                    <a:pt x="2747" y="895"/>
                  </a:lnTo>
                  <a:lnTo>
                    <a:pt x="1899" y="895"/>
                  </a:lnTo>
                  <a:lnTo>
                    <a:pt x="1681" y="635"/>
                  </a:lnTo>
                  <a:lnTo>
                    <a:pt x="7" y="635"/>
                  </a:lnTo>
                  <a:lnTo>
                    <a:pt x="7" y="454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304920" y="30492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5280" y="1700280"/>
            <a:ext cx="7777080" cy="79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8.png"/><Relationship Id="rId3" Type="http://schemas.openxmlformats.org/officeDocument/2006/relationships/image" Target="../media/image2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2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1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8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9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0.wmf"/><Relationship Id="rId2" Type="http://schemas.openxmlformats.org/officeDocument/2006/relationships/image" Target="../media/image71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7280" y="622440"/>
            <a:ext cx="669636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楷体_GB2312"/>
              </a:rPr>
              <a:t>Data Processing of Resting-State fMRI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楷体_GB2312"/>
              </a:rPr>
              <a:t>(Part 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89480" y="3068640"/>
            <a:ext cx="636192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YAN Chao-Gan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严超赣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Ph. D.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ycg.yan@gmail.com</a:t>
            </a:r>
            <a:br>
              <a:rPr sz="2400"/>
            </a:b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</a:rPr>
              <a:t>State Key Laboratory of Cognitive Neuroscience and Learning,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</a:rPr>
              <a:t>Beijing Normal University, China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3600360" cy="30160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547640" y="3933720"/>
            <a:ext cx="136872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07280" y="1916280"/>
            <a:ext cx="273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The generated spm.mat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971640" y="1773360"/>
            <a:ext cx="5371920" cy="13428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1692360" y="1844640"/>
            <a:ext cx="3238560" cy="38401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692360" y="5300640"/>
            <a:ext cx="187164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2195640" y="1628640"/>
            <a:ext cx="3281400" cy="38163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132000" y="3141720"/>
            <a:ext cx="2737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3635280" y="2708280"/>
            <a:ext cx="4681800" cy="17604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227640" y="3284640"/>
            <a:ext cx="1944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3635280" y="2708280"/>
            <a:ext cx="4897440" cy="14367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300720" y="3357720"/>
            <a:ext cx="21589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300720" y="3716280"/>
            <a:ext cx="21589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00360" y="259920"/>
            <a:ext cx="489600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One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7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0" dur="1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11280" y="5661000"/>
            <a:ext cx="7993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HeightthresholdT = </a:t>
            </a:r>
            <a:r>
              <a:rPr b="1" lang="zh-CN" sz="2000" spc="-1" strike="noStrike">
                <a:solidFill>
                  <a:srgbClr val="ffff00"/>
                </a:solidFill>
                <a:latin typeface="Verdana"/>
                <a:ea typeface="宋体"/>
              </a:rPr>
              <a:t>2.687659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 {p&lt;0.05(FDR)}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Extentthresholdk = 10 voxels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5184720" cy="38656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684360" y="4581360"/>
            <a:ext cx="2232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84720" y="3500280"/>
            <a:ext cx="2735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spmT_0001.img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700360" y="2205000"/>
            <a:ext cx="5616720" cy="26542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659640" y="3213000"/>
            <a:ext cx="1512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700360" y="259920"/>
            <a:ext cx="489600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One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0" dur="1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4751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Two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26920" y="1628640"/>
            <a:ext cx="720108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reparation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ALFF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：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mALF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fALFF: mfALF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ReHo: smReHo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FC: zFC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Mask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0" dur="1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826920" y="1052640"/>
            <a:ext cx="80661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Mask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Brain Mask 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Mask=Patient_1T.img + CON_1T.img&gt;0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39640" y="3429000"/>
            <a:ext cx="5472360" cy="26049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300720" y="3573360"/>
            <a:ext cx="2374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Patient_1T.img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CON_1T.img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56000" y="3789360"/>
            <a:ext cx="1656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71640" y="4508640"/>
            <a:ext cx="1944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300720" y="4365720"/>
            <a:ext cx="208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Mask_2T.img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71640" y="5157720"/>
            <a:ext cx="1944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00720" y="5013360"/>
            <a:ext cx="208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i1+i2&gt;0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4751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Two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6" dur="1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4751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Two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276720" y="765000"/>
            <a:ext cx="3396960" cy="56883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68360" y="1844640"/>
            <a:ext cx="4390920" cy="3673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1547640" y="1700280"/>
            <a:ext cx="6913800" cy="37306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187280" y="3789360"/>
            <a:ext cx="122580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619280" y="2133720"/>
            <a:ext cx="302400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148360" y="2133720"/>
            <a:ext cx="302400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5734080"/>
            <a:ext cx="3527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m* or zFC* images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for the two groups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732720" y="5950080"/>
            <a:ext cx="2232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Directory for 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188640" indent="-188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saving SPM.ma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780000" y="1773360"/>
            <a:ext cx="2376360" cy="79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64000" y="5950080"/>
            <a:ext cx="1655640" cy="433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635280" y="4005360"/>
            <a:ext cx="1081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32720" y="3933720"/>
            <a:ext cx="2158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Brain Mask or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Mask_2T.img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8" dur="1" fill="hold"/>
                                        <p:tgtEl>
                                          <p:spTgt spid="1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321080" cy="36860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356000" y="3789360"/>
            <a:ext cx="136836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3708360" y="3141720"/>
            <a:ext cx="3384720" cy="11858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708360" y="3573360"/>
            <a:ext cx="331164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020000" y="3573360"/>
            <a:ext cx="2736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The generated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spm.mat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1332000" y="1700280"/>
            <a:ext cx="3895560" cy="490356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4751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Two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0" dur="1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3600360" cy="30160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547640" y="3933720"/>
            <a:ext cx="136872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07280" y="2205000"/>
            <a:ext cx="2736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The generated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spm.mat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971640" y="1773360"/>
            <a:ext cx="5371920" cy="13428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1692360" y="1844640"/>
            <a:ext cx="3238560" cy="38401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1692360" y="5300640"/>
            <a:ext cx="187164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2124000" y="1916280"/>
            <a:ext cx="3487680" cy="4032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3348000" y="3429000"/>
            <a:ext cx="273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1 -1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3851280" y="2997360"/>
            <a:ext cx="4932360" cy="11556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6516720" y="3645000"/>
            <a:ext cx="21589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6"/>
          <a:stretch/>
        </p:blipFill>
        <p:spPr>
          <a:xfrm>
            <a:off x="3924360" y="3357720"/>
            <a:ext cx="4895640" cy="11142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6588000" y="4005360"/>
            <a:ext cx="2159280" cy="43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4751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Two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4" dur="1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11280" y="5661000"/>
            <a:ext cx="7993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HeightthresholdT = </a:t>
            </a:r>
            <a:r>
              <a:rPr b="1" lang="zh-CN" sz="2000" spc="-1" strike="noStrike">
                <a:solidFill>
                  <a:srgbClr val="ffff00"/>
                </a:solidFill>
                <a:latin typeface="Verdana"/>
                <a:ea typeface="宋体"/>
              </a:rPr>
              <a:t>Inf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 {p&lt;0.05(FDR)}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Extentthresholdk = 0 voxels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84720" y="3500280"/>
            <a:ext cx="2735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spmT_0001.img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5184720" cy="38592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684360" y="4581360"/>
            <a:ext cx="2232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4751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Two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0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1" dur="1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4751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aired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4390920" cy="36734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1547640" y="1700280"/>
            <a:ext cx="6913800" cy="37306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187280" y="3789360"/>
            <a:ext cx="122580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19280" y="2133720"/>
            <a:ext cx="302400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148360" y="2421000"/>
            <a:ext cx="302400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0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3" dur="1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16000" y="476280"/>
            <a:ext cx="4751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aired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5833800" cy="59058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6300720" y="2133720"/>
            <a:ext cx="2843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m* or zFC* images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for each pair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00000" y="1197000"/>
            <a:ext cx="71928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11280" y="4867200"/>
            <a:ext cx="165564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274920" y="404640"/>
            <a:ext cx="1081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516720" y="5084640"/>
            <a:ext cx="2158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Brain Mask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332000" y="1844640"/>
            <a:ext cx="1439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0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1" dur="1" fill="hold"/>
                                        <p:tgtEl>
                                          <p:spTgt spid="2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63640" y="549360"/>
            <a:ext cx="22906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Outl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00000" y="1557360"/>
            <a:ext cx="7696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tatistical Analysi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sults Viewing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Multiple Comparison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ST Image Calculator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Other Function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2920" y="1844640"/>
            <a:ext cx="468360" cy="504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5977080" cy="518328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4751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aired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763640" y="3282840"/>
            <a:ext cx="280836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716360" y="2854440"/>
            <a:ext cx="194472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5" dur="1" fill="hold"/>
                                        <p:tgtEl>
                                          <p:spTgt spid="2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4751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ANOVA Analy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4390920" cy="36734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1547640" y="1700280"/>
            <a:ext cx="6913800" cy="373068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187280" y="3789360"/>
            <a:ext cx="122580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619280" y="2133720"/>
            <a:ext cx="302400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3139920"/>
            <a:ext cx="302400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0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1" dur="1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3300480" cy="66690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5292720" y="1989000"/>
            <a:ext cx="1079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3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403280" y="1484280"/>
            <a:ext cx="71928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403280" y="4292640"/>
            <a:ext cx="122400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547640" y="2133720"/>
            <a:ext cx="936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003640" y="4149720"/>
            <a:ext cx="3097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Corresponding level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116000" y="3716280"/>
            <a:ext cx="1440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634920" y="476280"/>
            <a:ext cx="475164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ANOVA Analy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403280" y="4653000"/>
            <a:ext cx="136836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932360" y="4581360"/>
            <a:ext cx="3456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Images for this group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0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9" dur="1" fill="hold"/>
                                        <p:tgtEl>
                                          <p:spTgt spid="2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187280" y="1612800"/>
            <a:ext cx="6048720" cy="52452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1763640" y="3141720"/>
            <a:ext cx="280836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131640" y="259920"/>
            <a:ext cx="475164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ANOVA Analy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0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9" dur="1" fill="hold"/>
                                        <p:tgtEl>
                                          <p:spTgt spid="2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563640" y="549360"/>
            <a:ext cx="22906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Outl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900000" y="1557360"/>
            <a:ext cx="7696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tatistical Analysi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sults Viewing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Multiple Comparison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ST Image Calculator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Other Function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42920" y="2637000"/>
            <a:ext cx="468360" cy="504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0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9" dur="1" fill="hold"/>
                                        <p:tgtEl>
                                          <p:spTgt spid="2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Results View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26920" y="1484280"/>
            <a:ext cx="7201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SPM5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xjview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MRIcroN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REST Slice Viewer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0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5" dur="1" fill="hold"/>
                                        <p:tgtEl>
                                          <p:spTgt spid="2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540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Results Viewing - SPM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4465800" cy="2044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3995640" y="2565360"/>
            <a:ext cx="1224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5580000" y="2060640"/>
            <a:ext cx="1616040" cy="16556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5580000" y="2421000"/>
            <a:ext cx="1224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1042920" y="2133720"/>
            <a:ext cx="5362560" cy="427644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1619280" y="2421000"/>
            <a:ext cx="3960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780000" y="3068640"/>
            <a:ext cx="93636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4"/>
          <a:stretch/>
        </p:blipFill>
        <p:spPr>
          <a:xfrm>
            <a:off x="2556000" y="333360"/>
            <a:ext cx="4743360" cy="62006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5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0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1" dur="1" fill="hold"/>
                                        <p:tgtEl>
                                          <p:spTgt spid="2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5759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Results Viewing - SPM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1616040" cy="16556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684360" y="2205000"/>
            <a:ext cx="1223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3635280" y="1484280"/>
            <a:ext cx="3457800" cy="30672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684360" y="2492280"/>
            <a:ext cx="1223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3"/>
          <a:stretch/>
        </p:blipFill>
        <p:spPr>
          <a:xfrm>
            <a:off x="3348000" y="1844640"/>
            <a:ext cx="4591080" cy="332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0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5" dur="1" fill="hold"/>
                                        <p:tgtEl>
                                          <p:spTgt spid="2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3241800" cy="278280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5759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Results Viewing - xjvi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973080" y="3789360"/>
            <a:ext cx="1224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0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5" dur="1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结果呈现—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xjvi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576360" y="100080"/>
            <a:ext cx="8099280" cy="674856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2195640" y="5589720"/>
            <a:ext cx="57600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700360" y="5950080"/>
            <a:ext cx="86364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68360" y="5805360"/>
            <a:ext cx="935280" cy="14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124000" y="2997360"/>
            <a:ext cx="5112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11280" y="3284640"/>
            <a:ext cx="1657080" cy="1657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0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5" dur="1" fill="hold"/>
                                        <p:tgtEl>
                                          <p:spTgt spid="3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4751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Statistical Analy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1628640"/>
            <a:ext cx="720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One sample T test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Two Sample T test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aired T test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ANOVA analysis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424800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123640" y="404280"/>
            <a:ext cx="6048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Results Viewing - MRIcr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55640" y="2060640"/>
            <a:ext cx="158436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348000" y="2060640"/>
            <a:ext cx="7192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-36360" y="1628640"/>
            <a:ext cx="3752640" cy="159084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1835280" y="2276640"/>
            <a:ext cx="144144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0" y="1700280"/>
            <a:ext cx="9075600" cy="36417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0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9" dur="1" fill="hold"/>
                                        <p:tgtEl>
                                          <p:spTgt spid="3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1763640" y="1341360"/>
            <a:ext cx="5543640" cy="39718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4572000" y="4653000"/>
            <a:ext cx="1008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13" name=""/>
          <p:cNvSpPr/>
          <p:nvPr/>
        </p:nvSpPr>
        <p:spPr>
          <a:xfrm>
            <a:off x="-108000" y="2781360"/>
            <a:ext cx="197964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REST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Slice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Viewer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5796000" y="0"/>
            <a:ext cx="2743200" cy="68580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6156360" y="836640"/>
            <a:ext cx="1944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0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3" dur="1" fill="hold"/>
                                        <p:tgtEl>
                                          <p:spTgt spid="3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8066160" cy="635940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976320" y="0"/>
            <a:ext cx="1724040" cy="22766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971640" y="3500280"/>
            <a:ext cx="1871640" cy="43344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908000" y="6424560"/>
            <a:ext cx="1079640" cy="24444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971640" y="4005360"/>
            <a:ext cx="1871640" cy="43344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71640" y="765000"/>
            <a:ext cx="1512720" cy="28908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042920" y="5300640"/>
            <a:ext cx="576360" cy="216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835280" y="4797360"/>
            <a:ext cx="936360" cy="216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619280" y="5300640"/>
            <a:ext cx="431640" cy="216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916360" y="1557360"/>
            <a:ext cx="5472000" cy="393048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2987640" y="2494080"/>
            <a:ext cx="1152720" cy="28728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987640" y="3284640"/>
            <a:ext cx="1152720" cy="28728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987640" y="3860640"/>
            <a:ext cx="1152720" cy="28764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987640" y="4653000"/>
            <a:ext cx="1152720" cy="28728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fill="hold">
                      <p:stCondLst>
                        <p:cond delay="0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5" dur="1" fill="hold"/>
                                        <p:tgtEl>
                                          <p:spTgt spid="3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5" dur="5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5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95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05" dur="5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15" dur="5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5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25" dur="5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35" dur="5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5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1" dur="5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71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81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971640" y="260280"/>
            <a:ext cx="7921440" cy="624672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35" name=""/>
          <p:cNvSpPr/>
          <p:nvPr/>
        </p:nvSpPr>
        <p:spPr>
          <a:xfrm>
            <a:off x="1187280" y="5589720"/>
            <a:ext cx="863640" cy="43308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3059280" y="1916280"/>
            <a:ext cx="5329080" cy="379548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3132000" y="2565360"/>
            <a:ext cx="792360" cy="3589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132000" y="3284640"/>
            <a:ext cx="648000" cy="43344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132000" y="4869000"/>
            <a:ext cx="792360" cy="43164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0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3" dur="1" fill="hold"/>
                                        <p:tgtEl>
                                          <p:spTgt spid="3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3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19" dur="5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29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1" name=""/>
          <p:cNvGraphicFramePr/>
          <p:nvPr/>
        </p:nvGraphicFramePr>
        <p:xfrm>
          <a:off x="900000" y="1557360"/>
          <a:ext cx="1816200" cy="15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557360"/>
                    <a:ext cx="1816200" cy="15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"/>
          <p:cNvSpPr/>
          <p:nvPr/>
        </p:nvSpPr>
        <p:spPr>
          <a:xfrm>
            <a:off x="2987640" y="476280"/>
            <a:ext cx="3960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Tahoma"/>
              </a:rPr>
              <a:t>For Voxel size = 3*3*3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900000" y="3284640"/>
          <a:ext cx="2171880" cy="148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3284640"/>
                    <a:ext cx="2171880" cy="14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"/>
          <p:cNvGraphicFramePr/>
          <p:nvPr/>
        </p:nvGraphicFramePr>
        <p:xfrm>
          <a:off x="900000" y="4941720"/>
          <a:ext cx="2273400" cy="1524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00000" y="4941720"/>
                    <a:ext cx="227340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"/>
          <p:cNvSpPr/>
          <p:nvPr/>
        </p:nvSpPr>
        <p:spPr>
          <a:xfrm>
            <a:off x="3348000" y="177336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Voxels are connected if their faces touch rmm=4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203640" y="3429000"/>
            <a:ext cx="5796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Voxels are connected if their faces or edges touch 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rmm=5; </a:t>
            </a:r>
            <a:r>
              <a:rPr b="1" lang="zh-CN" sz="1800" spc="-1" strike="noStrike">
                <a:solidFill>
                  <a:srgbClr val="b1e2fb"/>
                </a:solidFill>
                <a:latin typeface="Tahoma"/>
              </a:rPr>
              <a:t>SPM_Criterion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203640" y="5157720"/>
            <a:ext cx="5796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Voxels are connected if their faces, edges, or corners touch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rmm=6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7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6" dur="indefinite" restart="never" nodeType="tmRoot">
          <p:childTnLst>
            <p:seq>
              <p:cTn id="1137" dur="indefinite" nodeType="mainSeq">
                <p:childTnLst>
                  <p:par>
                    <p:cTn id="1138" fill="hold">
                      <p:stCondLst>
                        <p:cond delay="0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1" dur="1" fill="hold"/>
                                        <p:tgtEl>
                                          <p:spTgt spid="3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"/>
          <p:cNvGrpSpPr/>
          <p:nvPr/>
        </p:nvGrpSpPr>
        <p:grpSpPr>
          <a:xfrm>
            <a:off x="611280" y="189000"/>
            <a:ext cx="7705440" cy="6408360"/>
            <a:chOff x="611280" y="189000"/>
            <a:chExt cx="7705440" cy="6408360"/>
          </a:xfrm>
        </p:grpSpPr>
        <p:pic>
          <p:nvPicPr>
            <p:cNvPr id="353" name="" descr=""/>
            <p:cNvPicPr/>
            <p:nvPr/>
          </p:nvPicPr>
          <p:blipFill>
            <a:blip r:embed="rId1"/>
            <a:stretch/>
          </p:blipFill>
          <p:spPr>
            <a:xfrm>
              <a:off x="611280" y="189000"/>
              <a:ext cx="7705440" cy="581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" descr=""/>
            <p:cNvPicPr/>
            <p:nvPr/>
          </p:nvPicPr>
          <p:blipFill>
            <a:blip r:embed="rId2"/>
            <a:stretch/>
          </p:blipFill>
          <p:spPr>
            <a:xfrm>
              <a:off x="829080" y="5186520"/>
              <a:ext cx="2408400" cy="141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5" name=""/>
          <p:cNvSpPr/>
          <p:nvPr/>
        </p:nvSpPr>
        <p:spPr>
          <a:xfrm>
            <a:off x="826920" y="6308640"/>
            <a:ext cx="2376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3"/>
          <a:stretch/>
        </p:blipFill>
        <p:spPr>
          <a:xfrm>
            <a:off x="0" y="260280"/>
            <a:ext cx="9372600" cy="577224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179280" y="1125360"/>
            <a:ext cx="280836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116000" y="1700280"/>
            <a:ext cx="144000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484360" y="765000"/>
            <a:ext cx="4392720" cy="142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2" dur="indefinite" restart="never" nodeType="tmRoot">
          <p:childTnLst>
            <p:seq>
              <p:cTn id="1143" dur="indefinite" nodeType="mainSeq">
                <p:childTnLst>
                  <p:par>
                    <p:cTn id="1144" fill="hold">
                      <p:stCondLst>
                        <p:cond delay="0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7" dur="1" fill="hold"/>
                                        <p:tgtEl>
                                          <p:spTgt spid="3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"/>
          <p:cNvGrpSpPr/>
          <p:nvPr/>
        </p:nvGrpSpPr>
        <p:grpSpPr>
          <a:xfrm>
            <a:off x="611280" y="189000"/>
            <a:ext cx="7705440" cy="6408360"/>
            <a:chOff x="611280" y="189000"/>
            <a:chExt cx="7705440" cy="6408360"/>
          </a:xfrm>
        </p:grpSpPr>
        <p:pic>
          <p:nvPicPr>
            <p:cNvPr id="362" name="" descr=""/>
            <p:cNvPicPr/>
            <p:nvPr/>
          </p:nvPicPr>
          <p:blipFill>
            <a:blip r:embed="rId1"/>
            <a:stretch/>
          </p:blipFill>
          <p:spPr>
            <a:xfrm>
              <a:off x="611280" y="189000"/>
              <a:ext cx="7705440" cy="581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" descr=""/>
            <p:cNvPicPr/>
            <p:nvPr/>
          </p:nvPicPr>
          <p:blipFill>
            <a:blip r:embed="rId2"/>
            <a:stretch/>
          </p:blipFill>
          <p:spPr>
            <a:xfrm>
              <a:off x="829080" y="5186520"/>
              <a:ext cx="2408400" cy="141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4" name=""/>
          <p:cNvSpPr/>
          <p:nvPr/>
        </p:nvSpPr>
        <p:spPr>
          <a:xfrm>
            <a:off x="826920" y="5877000"/>
            <a:ext cx="2376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3"/>
          <a:stretch/>
        </p:blipFill>
        <p:spPr>
          <a:xfrm>
            <a:off x="2411280" y="2133720"/>
            <a:ext cx="5185080" cy="275256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2484360" y="4076640"/>
            <a:ext cx="11509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fill="hold">
                      <p:stCondLst>
                        <p:cond delay="0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7" dur="1" fill="hold"/>
                                        <p:tgtEl>
                                          <p:spTgt spid="3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848720" cy="6188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3995640" y="2708280"/>
            <a:ext cx="289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900000" y="2565360"/>
            <a:ext cx="863640" cy="358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900000" y="1773360"/>
            <a:ext cx="1800360" cy="358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971640" y="1413000"/>
            <a:ext cx="64764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35280" y="1413000"/>
            <a:ext cx="79200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900000" y="2133720"/>
            <a:ext cx="93528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763640" y="2133720"/>
            <a:ext cx="93528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1835280" y="2421000"/>
            <a:ext cx="2016000" cy="71100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1835280" y="2637000"/>
            <a:ext cx="201600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332000" y="1197000"/>
            <a:ext cx="100800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4" dur="indefinite" restart="never" nodeType="tmRoot">
          <p:childTnLst>
            <p:seq>
              <p:cTn id="1195" dur="indefinite" nodeType="mainSeq">
                <p:childTnLst>
                  <p:par>
                    <p:cTn id="1196" fill="hold">
                      <p:stCondLst>
                        <p:cond delay="0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99" dur="1" fill="hold"/>
                                        <p:tgtEl>
                                          <p:spTgt spid="3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848720" cy="618804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2268360" y="5300640"/>
            <a:ext cx="21600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755640" y="476280"/>
            <a:ext cx="7848720" cy="618804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8" dur="indefinite" restart="never" nodeType="tmRoot">
          <p:childTnLst>
            <p:seq>
              <p:cTn id="1259" dur="indefinite" nodeType="mainSeq">
                <p:childTnLst>
                  <p:par>
                    <p:cTn id="1260" fill="hold">
                      <p:stCondLst>
                        <p:cond delay="0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3" dur="1" fill="hold"/>
                                        <p:tgtEl>
                                          <p:spTgt spid="3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848720" cy="618804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1835280" y="5805360"/>
            <a:ext cx="865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995640" y="2708280"/>
            <a:ext cx="21600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300720" y="2637000"/>
            <a:ext cx="647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995640" y="4653000"/>
            <a:ext cx="28908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>
            <a:off x="755640" y="476280"/>
            <a:ext cx="7777080" cy="613260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1763640" y="4724280"/>
            <a:ext cx="93528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3"/>
          <a:stretch/>
        </p:blipFill>
        <p:spPr>
          <a:xfrm>
            <a:off x="826920" y="549360"/>
            <a:ext cx="7632720" cy="601812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971640" y="2637000"/>
            <a:ext cx="50472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524720" y="3789360"/>
            <a:ext cx="86364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4" dur="indefinite" restart="never" nodeType="tmRoot">
          <p:childTnLst>
            <p:seq>
              <p:cTn id="1275" dur="indefinite" nodeType="mainSeq">
                <p:childTnLst>
                  <p:par>
                    <p:cTn id="1276" fill="hold">
                      <p:stCondLst>
                        <p:cond delay="0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9" dur="1" fill="hold"/>
                                        <p:tgtEl>
                                          <p:spTgt spid="3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96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98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00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0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05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07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1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12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1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46800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One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6920" y="1628640"/>
            <a:ext cx="7201080" cy="45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reparation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ALFF: mALFF-1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fALFF: mfALFF-1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ReHo: smReHo-1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FC: zFC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848720" cy="618804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971640" y="6093000"/>
            <a:ext cx="865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835280" y="6093000"/>
            <a:ext cx="865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79280" y="115920"/>
            <a:ext cx="8506080" cy="691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This report is based on CUI Xu's xjview. (http://www.alivelearn.net/xjview/)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Revised by YAN Chao-Gan and ZHU Wei-Xuan 20091108: suitable for different Cluster Connectivity Criterion: surface connected, edge connected, corner connected.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Number of clusters found: 7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----------------------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Cluster 1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Number of voxels: 59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Peak MNI coordinate: 27   6 -45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Peak MNI coordinate region:  // Right Cerebrum // Temporal Lobe // Superior Temporal Gyrus // White Matter // undefined // Temporal_Inf_R (aal)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Peak intensity: 3.5023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# voxels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59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--TOTAL # VOXELS--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4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Right Cerebrum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3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Temporal Lobe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White Matter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9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Temporal_Inf_R (aal)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Gray Matter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4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Superior Temporal Gyrus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Fusiform_R (aal)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brodmann area 38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Inferior Temporal Gyrus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Middle Temporal Gyrus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Limbic Lobe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Uncus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Temporal_Pole_Mid_R (aal)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brodmann area 2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Sub-Gyral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----------------------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Cluster 2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Number of voxels: 98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Peak MNI coordinate: -9 -78 -51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411280" y="692280"/>
            <a:ext cx="86364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835280" y="1268280"/>
            <a:ext cx="86364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195640" y="1484280"/>
            <a:ext cx="115236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79280" y="1773360"/>
            <a:ext cx="8280360" cy="4464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619280" y="2133720"/>
            <a:ext cx="79200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4" dur="indefinite" restart="never" nodeType="tmRoot">
          <p:childTnLst>
            <p:seq>
              <p:cTn id="1345" dur="indefinite" nodeType="mainSeq">
                <p:childTnLst>
                  <p:par>
                    <p:cTn id="1346" fill="hold">
                      <p:stCondLst>
                        <p:cond delay="0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9" dur="1" fill="hold"/>
                                        <p:tgtEl>
                                          <p:spTgt spid="4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7632720" cy="6018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1619280" y="2565360"/>
            <a:ext cx="79200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2771640" y="1268280"/>
            <a:ext cx="4824720" cy="41673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2843280" y="2133720"/>
            <a:ext cx="576360" cy="43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843280" y="2852640"/>
            <a:ext cx="576360" cy="43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843280" y="3645000"/>
            <a:ext cx="576360" cy="43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843280" y="4437000"/>
            <a:ext cx="576360" cy="43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2781360"/>
            <a:ext cx="50328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6" dur="indefinite" restart="never" nodeType="tmRoot">
          <p:childTnLst>
            <p:seq>
              <p:cTn id="1397" dur="indefinite" nodeType="mainSeq">
                <p:childTnLst>
                  <p:par>
                    <p:cTn id="1398" fill="hold">
                      <p:stCondLst>
                        <p:cond delay="0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1" dur="1" fill="hold"/>
                                        <p:tgtEl>
                                          <p:spTgt spid="4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41" dur="5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2" dur="5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" descr=""/>
          <p:cNvPicPr/>
          <p:nvPr/>
        </p:nvPicPr>
        <p:blipFill>
          <a:blip r:embed="rId1"/>
          <a:srcRect l="0" t="1023" r="0" b="2245"/>
          <a:stretch/>
        </p:blipFill>
        <p:spPr>
          <a:xfrm>
            <a:off x="900000" y="115920"/>
            <a:ext cx="7626600" cy="676764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1547640" y="3716280"/>
            <a:ext cx="576360" cy="217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971640" y="6354720"/>
            <a:ext cx="647640" cy="2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2"/>
          <a:stretch/>
        </p:blipFill>
        <p:spPr>
          <a:xfrm>
            <a:off x="1042920" y="5686560"/>
            <a:ext cx="1924200" cy="117144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1042920" y="6453360"/>
            <a:ext cx="1225440" cy="242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6" dur="indefinite" restart="never" nodeType="tmRoot">
          <p:childTnLst>
            <p:seq>
              <p:cTn id="1447" dur="indefinite" nodeType="mainSeq">
                <p:childTnLst>
                  <p:par>
                    <p:cTn id="1448" fill="hold">
                      <p:stCondLst>
                        <p:cond delay="0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1" dur="1" fill="hold"/>
                                        <p:tgtEl>
                                          <p:spTgt spid="4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971640" y="1357200"/>
            <a:ext cx="6769080" cy="550080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2"/>
          <a:stretch/>
        </p:blipFill>
        <p:spPr>
          <a:xfrm>
            <a:off x="3059280" y="2492280"/>
            <a:ext cx="5256000" cy="300204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123640" y="189000"/>
            <a:ext cx="60483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Create Brodmann Mas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042920" y="4653000"/>
            <a:ext cx="1728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042920" y="6381720"/>
            <a:ext cx="230508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132000" y="3141720"/>
            <a:ext cx="64800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500720" y="3789360"/>
            <a:ext cx="4140000" cy="14655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Template\brodmann.nii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Or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Template\Brodmann_61x73x61.nii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4" dur="indefinite" restart="never" nodeType="tmRoot">
          <p:childTnLst>
            <p:seq>
              <p:cTn id="1475" dur="indefinite" nodeType="mainSeq">
                <p:childTnLst>
                  <p:par>
                    <p:cTn id="1476" fill="hold">
                      <p:stCondLst>
                        <p:cond delay="0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9" dur="1" fill="hold"/>
                                        <p:tgtEl>
                                          <p:spTgt spid="4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6769440" cy="550080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123640" y="189000"/>
            <a:ext cx="60483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Create Brodmann Mas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564000" y="3789360"/>
            <a:ext cx="57636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484360" y="6093000"/>
            <a:ext cx="79236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0" dur="indefinite" restart="never" nodeType="tmRoot">
          <p:childTnLst>
            <p:seq>
              <p:cTn id="1511" dur="indefinite" nodeType="mainSeq">
                <p:childTnLst>
                  <p:par>
                    <p:cTn id="1512" fill="hold">
                      <p:stCondLst>
                        <p:cond delay="0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5" dur="1" fill="hold"/>
                                        <p:tgtEl>
                                          <p:spTgt spid="4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fill="hold">
                      <p:stCondLst>
                        <p:cond delay="indefinite"/>
                      </p:stCondLst>
                      <p:childTnLst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1763640" y="333360"/>
            <a:ext cx="6624720" cy="646596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2771640" y="2205000"/>
            <a:ext cx="5040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516720" y="5734080"/>
            <a:ext cx="1152360" cy="50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437" name=""/>
          <p:cNvSpPr/>
          <p:nvPr/>
        </p:nvSpPr>
        <p:spPr>
          <a:xfrm>
            <a:off x="-181080" y="2205000"/>
            <a:ext cx="19796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Data Resample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708360" y="3860640"/>
            <a:ext cx="1943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708360" y="4365720"/>
            <a:ext cx="3888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708360" y="4797360"/>
            <a:ext cx="1727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724360" y="3860640"/>
            <a:ext cx="1943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443640" y="4869000"/>
            <a:ext cx="79236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3645000"/>
            <a:ext cx="2987640" cy="14655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0 – Nearest Neighbor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1 – Trilinear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2- 2nd degree b-spline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708360" y="5300640"/>
            <a:ext cx="107964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708360" y="5877000"/>
            <a:ext cx="2664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6" dur="indefinite" restart="never" nodeType="tmRoot">
          <p:childTnLst>
            <p:seq>
              <p:cTn id="1527" dur="indefinite" nodeType="mainSeq">
                <p:childTnLst>
                  <p:par>
                    <p:cTn id="1528" fill="hold">
                      <p:stCondLst>
                        <p:cond delay="0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31" dur="1" fill="hold"/>
                                        <p:tgtEl>
                                          <p:spTgt spid="4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fill="hold">
                      <p:stCondLst>
                        <p:cond delay="indefinite"/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4" fill="hold">
                      <p:stCondLst>
                        <p:cond delay="indefinite"/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fill="hold">
                      <p:stCondLst>
                        <p:cond delay="indefinite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fill="hold">
                      <p:stCondLst>
                        <p:cond delay="indefinite"/>
                      </p:stCondLst>
                      <p:childTnLst>
                        <p:par>
                          <p:cTn id="1567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fill="hold">
                      <p:stCondLst>
                        <p:cond delay="indefinite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fill="hold">
                      <p:stCondLst>
                        <p:cond delay="indefinite"/>
                      </p:stCondLst>
                      <p:childTnLst>
                        <p:par>
                          <p:cTn id="1593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563640" y="549360"/>
            <a:ext cx="22906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Outl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900000" y="1557360"/>
            <a:ext cx="7696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tatistical Analysi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sults Viewing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Multiple Comparison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ST Image Calculator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Other Function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42920" y="3500280"/>
            <a:ext cx="468360" cy="50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8" dur="indefinite" restart="never" nodeType="tmRoot">
          <p:childTnLst>
            <p:seq>
              <p:cTn id="1599" dur="indefinite" nodeType="mainSeq">
                <p:childTnLst>
                  <p:par>
                    <p:cTn id="1600" fill="hold">
                      <p:stCondLst>
                        <p:cond delay="0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3" dur="1" fill="hold"/>
                                        <p:tgtEl>
                                          <p:spTgt spid="4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195280" y="476280"/>
            <a:ext cx="532764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Multiple Comparis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1692360" y="260280"/>
            <a:ext cx="5740200" cy="430056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1763640" y="4508640"/>
            <a:ext cx="230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P=0.05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Probability of not getting a false positive result: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1 - 0.05 = 0.95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771640" y="4508640"/>
            <a:ext cx="230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P=0.05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Probability of not getting a false positive result: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1 - 0.05 = 0.95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140360" y="4508640"/>
            <a:ext cx="2303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P=0.05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Probability of not getting a false positive result: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1 - 0.05 = 0.95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292720" y="4508640"/>
            <a:ext cx="230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P=0.05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Probability of not getting a false positive result: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1 - 0.05 = 0.95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340000" y="4797360"/>
            <a:ext cx="568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0.95      0.95           0.95           0.95          0.95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0.95</a:t>
            </a:r>
            <a:r>
              <a:rPr b="1" lang="fr-FR" sz="2000" spc="-1" strike="noStrike" baseline="30000">
                <a:solidFill>
                  <a:srgbClr val="ffff00"/>
                </a:solidFill>
                <a:latin typeface="Times New Roman"/>
                <a:ea typeface="隶书"/>
              </a:rPr>
              <a:t>5</a:t>
            </a:r>
            <a:r>
              <a:rPr b="1" lang="fr-FR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=0.774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443640" y="4437000"/>
            <a:ext cx="230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P=0.05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Probability of not getting a false positive result: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1 - 0.05 = 0.95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4" dur="indefinite" restart="never" nodeType="tmRoot">
          <p:childTnLst>
            <p:seq>
              <p:cTn id="1605" dur="indefinite" nodeType="mainSeq">
                <p:childTnLst>
                  <p:par>
                    <p:cTn id="1606" fill="hold">
                      <p:stCondLst>
                        <p:cond delay="0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9" dur="1" fill="hold"/>
                                        <p:tgtEl>
                                          <p:spTgt spid="4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4" dur="5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6" fill="hold">
                      <p:stCondLst>
                        <p:cond delay="indefinite"/>
                      </p:stCondLst>
                      <p:childTnLst>
                        <p:par>
                          <p:cTn id="1617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0" dur="500" fill="hold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1" dur="500" fill="hold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6" dur="500" fill="hold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fill="hold">
                      <p:stCondLst>
                        <p:cond delay="indefinite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fill="hold">
                      <p:stCondLst>
                        <p:cond delay="indefinite"/>
                      </p:stCondLst>
                      <p:childTnLst>
                        <p:par>
                          <p:cTn id="1641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fill="hold">
                      <p:stCondLst>
                        <p:cond delay="indefinite"/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6" fill="hold">
                      <p:stCondLst>
                        <p:cond delay="indefinite"/>
                      </p:stCondLst>
                      <p:childTnLst>
                        <p:par>
                          <p:cTn id="1657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3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4" fill="hold">
                      <p:stCondLst>
                        <p:cond delay="indefinite"/>
                      </p:stCondLst>
                      <p:childTnLst>
                        <p:par>
                          <p:cTn id="1665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050560" y="476280"/>
            <a:ext cx="532764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Multiple Comparis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26920" y="1125360"/>
            <a:ext cx="8066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Bonferroni correction: 0.05/5=0.01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False Discovery Rates (FDR) correction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Family-Wise Error (FWE) correction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b1e2fb"/>
                </a:solidFill>
                <a:latin typeface="Times New Roman"/>
                <a:ea typeface="隶书"/>
              </a:rPr>
              <a:t>Monte Carlo simulations (AlphaSim)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2" dur="indefinite" restart="never" nodeType="tmRoot">
          <p:childTnLst>
            <p:seq>
              <p:cTn id="1673" dur="indefinite" nodeType="mainSeq">
                <p:childTnLst>
                  <p:par>
                    <p:cTn id="1674" fill="hold">
                      <p:stCondLst>
                        <p:cond delay="0"/>
                      </p:stCondLst>
                      <p:childTnLst>
                        <p:par>
                          <p:cTn id="1675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7" dur="1" fill="hold"/>
                                        <p:tgtEl>
                                          <p:spTgt spid="4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3" dur="5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4" fill="hold">
                      <p:stCondLst>
                        <p:cond delay="indefinite"/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8" dur="500" fill="hold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9" dur="500" fill="hold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fill="hold">
                      <p:stCondLst>
                        <p:cond delay="indefinite"/>
                      </p:stCondLst>
                      <p:childTnLst>
                        <p:par>
                          <p:cTn id="1691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4" dur="500" fill="hold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050560" y="476280"/>
            <a:ext cx="532764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Multiple Comparis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826920" y="1452600"/>
            <a:ext cx="806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Monte Carlo simulations (AlphaSim)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539640" y="2421000"/>
            <a:ext cx="3527640" cy="264168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2"/>
          <a:stretch/>
        </p:blipFill>
        <p:spPr>
          <a:xfrm>
            <a:off x="4572000" y="2403360"/>
            <a:ext cx="3579840" cy="268128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4067280" y="5300640"/>
            <a:ext cx="5745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?</a:t>
            </a:r>
            <a:endParaRPr b="0" lang="en-US" sz="4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6" dur="indefinite" restart="never" nodeType="tmRoot">
          <p:childTnLst>
            <p:seq>
              <p:cTn id="1697" dur="indefinite" nodeType="mainSeq">
                <p:childTnLst>
                  <p:par>
                    <p:cTn id="1698" fill="hold">
                      <p:stCondLst>
                        <p:cond delay="0"/>
                      </p:stCondLst>
                      <p:childTnLst>
                        <p:par>
                          <p:cTn id="1699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01" dur="1" fill="hold"/>
                                        <p:tgtEl>
                                          <p:spTgt spid="4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fill="hold">
                      <p:stCondLst>
                        <p:cond delay="indefinite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763640" y="1341360"/>
            <a:ext cx="5543640" cy="39718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572000" y="4653000"/>
            <a:ext cx="1008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05" name=""/>
          <p:cNvSpPr/>
          <p:nvPr/>
        </p:nvSpPr>
        <p:spPr>
          <a:xfrm>
            <a:off x="-108000" y="2781360"/>
            <a:ext cx="19796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One sample T test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796000" y="0"/>
            <a:ext cx="27432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156360" y="2349360"/>
            <a:ext cx="1944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1763640" y="1341360"/>
            <a:ext cx="5543640" cy="397188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4572000" y="4653000"/>
            <a:ext cx="1008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472" name=""/>
          <p:cNvSpPr/>
          <p:nvPr/>
        </p:nvSpPr>
        <p:spPr>
          <a:xfrm>
            <a:off x="-108000" y="2781360"/>
            <a:ext cx="19796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Tahoma"/>
              </a:rPr>
              <a:t>REST AlphaSim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2"/>
          <a:stretch/>
        </p:blipFill>
        <p:spPr>
          <a:xfrm>
            <a:off x="5796000" y="0"/>
            <a:ext cx="274320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6156360" y="1628640"/>
            <a:ext cx="1944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08" dur="indefinite" restart="never" nodeType="tmRoot">
          <p:childTnLst>
            <p:seq>
              <p:cTn id="1709" dur="indefinite" nodeType="mainSeq">
                <p:childTnLst>
                  <p:par>
                    <p:cTn id="1710" fill="hold">
                      <p:stCondLst>
                        <p:cond delay="0"/>
                      </p:stCondLst>
                      <p:childTnLst>
                        <p:par>
                          <p:cTn id="1711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3" dur="1" fill="hold"/>
                                        <p:tgtEl>
                                          <p:spTgt spid="4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8" fill="hold">
                      <p:stCondLst>
                        <p:cond delay="indefinite"/>
                      </p:stCondLst>
                      <p:childTnLst>
                        <p:par>
                          <p:cTn id="1719" fill="hold">
                            <p:stCondLst>
                              <p:cond delay="0"/>
                            </p:stCondLst>
                            <p:childTnLst>
                              <p:par>
                                <p:cTn id="17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560000" cy="497376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3276720" y="1484280"/>
            <a:ext cx="934920" cy="43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276720" y="2060640"/>
            <a:ext cx="9349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372360" y="3357720"/>
            <a:ext cx="1079280" cy="502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588000" y="1484280"/>
            <a:ext cx="863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588000" y="2060640"/>
            <a:ext cx="863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348000" y="2708280"/>
            <a:ext cx="4032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276720" y="4149720"/>
            <a:ext cx="4174920" cy="43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276720" y="4797360"/>
            <a:ext cx="17269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0" dur="indefinite" restart="never" nodeType="tmRoot">
          <p:childTnLst>
            <p:seq>
              <p:cTn id="1731" dur="indefinite" nodeType="mainSeq">
                <p:childTnLst>
                  <p:par>
                    <p:cTn id="1732" fill="hold">
                      <p:stCondLst>
                        <p:cond delay="0"/>
                      </p:stCondLst>
                      <p:childTnLst>
                        <p:par>
                          <p:cTn id="1733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35" dur="1" fill="hold"/>
                                        <p:tgtEl>
                                          <p:spTgt spid="4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fill="hold">
                      <p:stCondLst>
                        <p:cond delay="indefinite"/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fill="hold">
                      <p:stCondLst>
                        <p:cond delay="indefinite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fill="hold">
                      <p:stCondLst>
                        <p:cond delay="indefinite"/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fill="hold">
                      <p:stCondLst>
                        <p:cond delay="indefinite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fill="hold">
                      <p:stCondLst>
                        <p:cond delay="indefinite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fill="hold">
                      <p:stCondLst>
                        <p:cond delay="indefinite"/>
                      </p:stCondLst>
                      <p:childTnLst>
                        <p:par>
                          <p:cTn id="1765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fill="hold">
                      <p:stCondLst>
                        <p:cond delay="indefinite"/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fill="hold">
                      <p:stCondLst>
                        <p:cond delay="indefinite"/>
                      </p:stCondLst>
                      <p:childTnLst>
                        <p:par>
                          <p:cTn id="1777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314280" y="907920"/>
            <a:ext cx="8505720" cy="542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Cl Size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Frequency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Cum Prop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p/Voxel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Max Freq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Alpha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3597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619898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961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.000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7615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81994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628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.000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3229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04789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413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.000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594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46664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276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.000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847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6893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186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.000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478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8150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126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.000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76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8877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86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9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9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60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299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58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5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80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01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564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40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2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29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58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7184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27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3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802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39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821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194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7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670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3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883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13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4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498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64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926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09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0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352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4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98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9519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06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78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245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69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970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04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6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167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3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9798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029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106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985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02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76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8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991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01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54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9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994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01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33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996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00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22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9974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00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15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998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00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10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999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00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5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4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.00000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00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1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786280" y="907920"/>
            <a:ext cx="79236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14280" y="907920"/>
            <a:ext cx="79236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14280" y="4941720"/>
            <a:ext cx="8353440" cy="287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2" dur="indefinite" restart="never" nodeType="tmRoot">
          <p:childTnLst>
            <p:seq>
              <p:cTn id="1783" dur="indefinite" nodeType="mainSeq">
                <p:childTnLst>
                  <p:par>
                    <p:cTn id="1784" fill="hold">
                      <p:stCondLst>
                        <p:cond delay="0"/>
                      </p:stCondLst>
                      <p:childTnLst>
                        <p:par>
                          <p:cTn id="1785" fill="hold">
                            <p:stCondLst>
                              <p:cond delay="0"/>
                            </p:stCondLst>
                            <p:childTnLst>
                              <p:par>
                                <p:cTn id="17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7" dur="1" fill="hold"/>
                                        <p:tgtEl>
                                          <p:spTgt spid="4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8" fill="hold">
                      <p:stCondLst>
                        <p:cond delay="indefinite"/>
                      </p:stCondLst>
                      <p:childTnLst>
                        <p:par>
                          <p:cTn id="1789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2" fill="hold">
                      <p:stCondLst>
                        <p:cond delay="indefinite"/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6" fill="hold">
                      <p:stCondLst>
                        <p:cond delay="indefinite"/>
                      </p:stCondLst>
                      <p:childTnLst>
                        <p:par>
                          <p:cTn id="1797" fill="hold">
                            <p:stCondLst>
                              <p:cond delay="0"/>
                            </p:stCondLst>
                            <p:childTnLst>
                              <p:par>
                                <p:cTn id="1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563640" y="549360"/>
            <a:ext cx="22906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Outl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900000" y="1557360"/>
            <a:ext cx="7696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tatistical Analysi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sults Viewing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Multiple Comparison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ST Image Calculator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Other Function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42920" y="4363920"/>
            <a:ext cx="468360" cy="50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00" dur="indefinite" restart="never" nodeType="tmRoot">
          <p:childTnLst>
            <p:seq>
              <p:cTn id="1801" dur="indefinite" nodeType="mainSeq">
                <p:childTnLst>
                  <p:par>
                    <p:cTn id="1802" fill="hold">
                      <p:stCondLst>
                        <p:cond delay="0"/>
                      </p:stCondLst>
                      <p:childTnLst>
                        <p:par>
                          <p:cTn id="1803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5" dur="1" fill="hold"/>
                                        <p:tgtEl>
                                          <p:spTgt spid="4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1763640" y="1341360"/>
            <a:ext cx="5543640" cy="397188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4572000" y="4653000"/>
            <a:ext cx="1008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498" name=""/>
          <p:cNvSpPr/>
          <p:nvPr/>
        </p:nvSpPr>
        <p:spPr>
          <a:xfrm>
            <a:off x="-108000" y="2781360"/>
            <a:ext cx="197964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REST 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Image 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Calculator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2"/>
          <a:stretch/>
        </p:blipFill>
        <p:spPr>
          <a:xfrm>
            <a:off x="5796000" y="0"/>
            <a:ext cx="2743200" cy="685800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6156360" y="2349360"/>
            <a:ext cx="1944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06" dur="indefinite" restart="never" nodeType="tmRoot">
          <p:childTnLst>
            <p:seq>
              <p:cTn id="1807" dur="indefinite" nodeType="mainSeq">
                <p:childTnLst>
                  <p:par>
                    <p:cTn id="1808" fill="hold">
                      <p:stCondLst>
                        <p:cond delay="0"/>
                      </p:stCondLst>
                      <p:childTnLst>
                        <p:par>
                          <p:cTn id="1809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11" dur="1" fill="hold"/>
                                        <p:tgtEl>
                                          <p:spTgt spid="5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2" fill="hold">
                      <p:stCondLst>
                        <p:cond delay="indefinite"/>
                      </p:stCondLst>
                      <p:childTnLst>
                        <p:par>
                          <p:cTn id="1813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6" fill="hold">
                      <p:stCondLst>
                        <p:cond delay="indefinite"/>
                      </p:stCondLst>
                      <p:childTnLst>
                        <p:par>
                          <p:cTn id="1817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4" fill="hold">
                      <p:stCondLst>
                        <p:cond delay="indefinite"/>
                      </p:stCondLst>
                      <p:childTnLst>
                        <p:par>
                          <p:cTn id="1825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700000" y="476280"/>
            <a:ext cx="431964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REST Image Calculat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6481440" cy="659772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>
            <a:off x="2411280" y="5084640"/>
            <a:ext cx="41054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258920" y="1557360"/>
            <a:ext cx="180036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411280" y="1916280"/>
            <a:ext cx="4105440" cy="433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411280" y="5589720"/>
            <a:ext cx="3168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411280" y="6093000"/>
            <a:ext cx="1224000" cy="43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258920" y="3284640"/>
            <a:ext cx="1728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340000" y="3645000"/>
            <a:ext cx="4176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796000" y="5589720"/>
            <a:ext cx="79200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28" dur="indefinite" restart="never" nodeType="tmRoot">
          <p:childTnLst>
            <p:seq>
              <p:cTn id="1829" dur="indefinite" nodeType="mainSeq">
                <p:childTnLst>
                  <p:par>
                    <p:cTn id="1830" fill="hold">
                      <p:stCondLst>
                        <p:cond delay="0"/>
                      </p:stCondLst>
                      <p:childTnLst>
                        <p:par>
                          <p:cTn id="1831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3" dur="1" fill="hold"/>
                                        <p:tgtEl>
                                          <p:spTgt spid="5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4" fill="hold">
                      <p:stCondLst>
                        <p:cond delay="indefinite"/>
                      </p:stCondLst>
                      <p:childTnLst>
                        <p:par>
                          <p:cTn id="1835" fill="hold">
                            <p:stCondLst>
                              <p:cond delay="0"/>
                            </p:stCondLst>
                            <p:childTnLst>
                              <p:par>
                                <p:cTn id="18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8" fill="hold">
                      <p:stCondLst>
                        <p:cond delay="indefinite"/>
                      </p:stCondLst>
                      <p:childTnLst>
                        <p:par>
                          <p:cTn id="1839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4" fill="hold">
                      <p:stCondLst>
                        <p:cond delay="indefinite"/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0" fill="hold">
                      <p:stCondLst>
                        <p:cond delay="indefinite"/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6" fill="hold">
                      <p:stCondLst>
                        <p:cond delay="indefinite"/>
                      </p:stCondLst>
                      <p:childTnLst>
                        <p:par>
                          <p:cTn id="1857" fill="hold">
                            <p:stCondLst>
                              <p:cond delay="0"/>
                            </p:stCondLst>
                            <p:childTnLst>
                              <p:par>
                                <p:cTn id="18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2" fill="hold">
                      <p:stCondLst>
                        <p:cond delay="indefinite"/>
                      </p:stCondLst>
                      <p:childTnLst>
                        <p:par>
                          <p:cTn id="1863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8" fill="hold">
                      <p:stCondLst>
                        <p:cond delay="indefinite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4" fill="hold">
                      <p:stCondLst>
                        <p:cond delay="indefinite"/>
                      </p:stCondLst>
                      <p:childTnLst>
                        <p:par>
                          <p:cTn id="1875" fill="hold">
                            <p:stCondLst>
                              <p:cond delay="0"/>
                            </p:stCondLst>
                            <p:childTnLst>
                              <p:par>
                                <p:cTn id="18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050560" y="476280"/>
            <a:ext cx="532764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REST Image Calculat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84360" y="1407960"/>
            <a:ext cx="806580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Example expressions: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(a)      g1-1     Subtract 1 from each image in group 1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(b)      g1-g2    Subtract each image in group 2 from each corresponding image in group1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(c)      i1-i2    Subtract image 2 from image 1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(d)      i1&gt;100    Make a binary mask image at threshold of 100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(e)      g1.*(i1&gt;100)   Make a mask and then apply to each image in group 1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(f)      mean(g1)   Calculate the mean image of group 1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(g)      corr(g1,g2,''temporal'')    Calculate the temporal correlation between two groups, i.e. one correlation coefficient between two ''time courses'' for each voxel.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(h)      corr(g1,g2,''spatial'')     Calculate the spatial correlation between two groups, i.e. one correlation coefficient between two images for each ''time point''.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80" dur="indefinite" restart="never" nodeType="tmRoot">
          <p:childTnLst>
            <p:seq>
              <p:cTn id="1881" dur="indefinite" nodeType="mainSeq">
                <p:childTnLst>
                  <p:par>
                    <p:cTn id="1882" fill="hold">
                      <p:stCondLst>
                        <p:cond delay="0"/>
                      </p:stCondLst>
                      <p:childTnLst>
                        <p:par>
                          <p:cTn id="1883" fill="hold">
                            <p:stCondLst>
                              <p:cond delay="0"/>
                            </p:stCondLst>
                            <p:childTnLst>
                              <p:par>
                                <p:cTn id="18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5" dur="1" fill="hold"/>
                                        <p:tgtEl>
                                          <p:spTgt spid="5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563640" y="549360"/>
            <a:ext cx="22906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Outl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900000" y="1557360"/>
            <a:ext cx="7696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tatistical Analysi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sults Viewing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Multiple Comparison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ST Image Calculator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Other Function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42920" y="5157720"/>
            <a:ext cx="468360" cy="504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86" dur="indefinite" restart="never" nodeType="tmRoot">
          <p:childTnLst>
            <p:seq>
              <p:cTn id="1887" dur="indefinite" nodeType="mainSeq">
                <p:childTnLst>
                  <p:par>
                    <p:cTn id="1888" fill="hold">
                      <p:stCondLst>
                        <p:cond delay="0"/>
                      </p:stCondLst>
                      <p:childTnLst>
                        <p:par>
                          <p:cTn id="1889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91" dur="1" fill="hold"/>
                                        <p:tgtEl>
                                          <p:spTgt spid="5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1763640" y="1341360"/>
            <a:ext cx="5543640" cy="397188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/>
          <p:nvPr/>
        </p:nvSpPr>
        <p:spPr>
          <a:xfrm>
            <a:off x="4572000" y="4653000"/>
            <a:ext cx="1008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523" name=""/>
          <p:cNvSpPr/>
          <p:nvPr/>
        </p:nvSpPr>
        <p:spPr>
          <a:xfrm>
            <a:off x="-108000" y="2781360"/>
            <a:ext cx="19796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Tahoma"/>
              </a:rPr>
              <a:t>NIfTI nii to NIfTI pairs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>
            <a:off x="5796000" y="0"/>
            <a:ext cx="2743200" cy="685800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6156360" y="5373720"/>
            <a:ext cx="1944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92" dur="indefinite" restart="never" nodeType="tmRoot">
          <p:childTnLst>
            <p:seq>
              <p:cTn id="1893" dur="indefinite" nodeType="mainSeq">
                <p:childTnLst>
                  <p:par>
                    <p:cTn id="1894" fill="hold">
                      <p:stCondLst>
                        <p:cond delay="0"/>
                      </p:stCondLst>
                      <p:childTnLst>
                        <p:par>
                          <p:cTn id="1895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97" dur="1" fill="hold"/>
                                        <p:tgtEl>
                                          <p:spTgt spid="5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8" fill="hold">
                      <p:stCondLst>
                        <p:cond delay="indefinite"/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2" fill="hold">
                      <p:stCondLst>
                        <p:cond delay="indefinite"/>
                      </p:stCondLst>
                      <p:childTnLst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8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0" fill="hold">
                      <p:stCondLst>
                        <p:cond delay="indefinite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626920" y="802800"/>
            <a:ext cx="431964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NIfTI .nii to NIfTI pai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971640" y="692280"/>
            <a:ext cx="6408720" cy="514980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2124000" y="2781360"/>
            <a:ext cx="439272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843280" y="4292640"/>
            <a:ext cx="381636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843280" y="4797360"/>
            <a:ext cx="108108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076720" y="4869000"/>
            <a:ext cx="935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4" dur="indefinite" restart="never" nodeType="tmRoot">
          <p:childTnLst>
            <p:seq>
              <p:cTn id="1915" dur="indefinite" nodeType="mainSeq">
                <p:childTnLst>
                  <p:par>
                    <p:cTn id="1916" fill="hold">
                      <p:stCondLst>
                        <p:cond delay="0"/>
                      </p:stCondLst>
                      <p:childTnLst>
                        <p:par>
                          <p:cTn id="1917" fill="hold">
                            <p:stCondLst>
                              <p:cond delay="0"/>
                            </p:stCondLst>
                            <p:childTnLst>
                              <p:par>
                                <p:cTn id="19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9" dur="1" fill="hold"/>
                                        <p:tgtEl>
                                          <p:spTgt spid="5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fill="hold">
                      <p:stCondLst>
                        <p:cond delay="indefinite"/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4" fill="hold">
                      <p:stCondLst>
                        <p:cond delay="indefinite"/>
                      </p:stCondLst>
                      <p:childTnLst>
                        <p:par>
                          <p:cTn id="1925" fill="hold">
                            <p:stCondLst>
                              <p:cond delay="0"/>
                            </p:stCondLst>
                            <p:childTnLst>
                              <p:par>
                                <p:cTn id="19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0" fill="hold">
                      <p:stCondLst>
                        <p:cond delay="indefinite"/>
                      </p:stCondLst>
                      <p:childTnLst>
                        <p:par>
                          <p:cTn id="1931" fill="hold">
                            <p:stCondLst>
                              <p:cond delay="0"/>
                            </p:stCondLst>
                            <p:childTnLst>
                              <p:par>
                                <p:cTn id="19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6" fill="hold">
                      <p:stCondLst>
                        <p:cond delay="indefinite"/>
                      </p:stCondLst>
                      <p:childTnLst>
                        <p:par>
                          <p:cTn id="1937" fill="hold">
                            <p:stCondLst>
                              <p:cond delay="0"/>
                            </p:stCondLst>
                            <p:childTnLst>
                              <p:par>
                                <p:cTn id="19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0000" y="476280"/>
            <a:ext cx="431964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One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6481440" cy="65977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411280" y="5084640"/>
            <a:ext cx="41054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236000" y="2276640"/>
            <a:ext cx="1655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smReHo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mALFF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58920" y="1557360"/>
            <a:ext cx="180036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11280" y="1916280"/>
            <a:ext cx="4105440" cy="433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411280" y="5589720"/>
            <a:ext cx="3168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11280" y="6093000"/>
            <a:ext cx="1224000" cy="43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236000" y="5516640"/>
            <a:ext cx="1655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g1-1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6165720"/>
            <a:ext cx="1079280" cy="358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402920" y="259920"/>
            <a:ext cx="7272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Reading and Writing func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84360" y="1407960"/>
            <a:ext cx="8065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Reading: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[Data Vox Head]=rest_readfile('brodmann.nii');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       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Data – 181*217*181 double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       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Vox – 1 1 1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        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Head - Structure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Processing: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BA20Data=(Data==20);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Writing: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rest_WriteNiftiImage(BA20Data,Head,'BA20.img');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42" dur="indefinite" restart="never" nodeType="tmRoot">
          <p:childTnLst>
            <p:seq>
              <p:cTn id="1943" dur="indefinite" nodeType="mainSeq">
                <p:childTnLst>
                  <p:par>
                    <p:cTn id="1944" fill="hold">
                      <p:stCondLst>
                        <p:cond delay="0"/>
                      </p:stCondLst>
                      <p:childTnLst>
                        <p:par>
                          <p:cTn id="1945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7" dur="1" fill="hold"/>
                                        <p:tgtEl>
                                          <p:spTgt spid="5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8" fill="hold">
                      <p:stCondLst>
                        <p:cond delay="indefinite"/>
                      </p:stCondLst>
                      <p:childTnLst>
                        <p:par>
                          <p:cTn id="1949" fill="hold">
                            <p:stCondLst>
                              <p:cond delay="0"/>
                            </p:stCondLst>
                            <p:childTnLst>
                              <p:par>
                                <p:cTn id="19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2" dur="500" fill="hold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3" dur="500" fill="hold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4" fill="hold">
                      <p:stCondLst>
                        <p:cond delay="indefinite"/>
                      </p:stCondLst>
                      <p:childTnLst>
                        <p:par>
                          <p:cTn id="1955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8" dur="500" fill="hold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9" dur="500" fill="hold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2" dur="500" fill="hold"/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3" dur="500" fill="hold"/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6" dur="500" fill="hold"/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7" dur="500" fill="hold"/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8" fill="hold">
                      <p:stCondLst>
                        <p:cond delay="indefinite"/>
                      </p:stCondLst>
                      <p:childTnLst>
                        <p:par>
                          <p:cTn id="1969" fill="hold">
                            <p:stCondLst>
                              <p:cond delay="0"/>
                            </p:stCondLst>
                            <p:childTnLst>
                              <p:par>
                                <p:cTn id="19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2" dur="500" fill="hold"/>
                                        <p:tgtEl>
                                          <p:spTgt spid="5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3" dur="500" fill="hold"/>
                                        <p:tgtEl>
                                          <p:spTgt spid="5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6" dur="500" fill="hold"/>
                                        <p:tgtEl>
                                          <p:spTgt spid="5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7" dur="500" fill="hold"/>
                                        <p:tgtEl>
                                          <p:spTgt spid="5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8" fill="hold">
                      <p:stCondLst>
                        <p:cond delay="indefinite"/>
                      </p:stCondLst>
                      <p:childTnLst>
                        <p:par>
                          <p:cTn id="1979" fill="hold">
                            <p:stCondLst>
                              <p:cond delay="0"/>
                            </p:stCondLst>
                            <p:childTnLst>
                              <p:par>
                                <p:cTn id="19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2" dur="500" fill="hold"/>
                                        <p:tgtEl>
                                          <p:spTgt spid="5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3" dur="500" fill="hold"/>
                                        <p:tgtEl>
                                          <p:spTgt spid="5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6" dur="500" fill="hold"/>
                                        <p:tgtEl>
                                          <p:spTgt spid="5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7" dur="500" fill="hold"/>
                                        <p:tgtEl>
                                          <p:spTgt spid="5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402920" y="259920"/>
            <a:ext cx="7272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Solve Problem "Out Of Memory"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84360" y="1887480"/>
            <a:ext cx="80658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1. Reboot your computer and do not run any other programs.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2. Enlarge your memory.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3. MATLAB Version 7.1 or above is suggested.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4. You can turn on the 3GB switch of Windows XP!!! Please see more details in http://www.microsoft.com/whdc/system/platform/server/PAE/PAEmem.mspx.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5. If this problem remains, please install Linux, especially 64 bit Linux and Matlab.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88" dur="indefinite" restart="never" nodeType="tmRoot">
          <p:childTnLst>
            <p:seq>
              <p:cTn id="1989" dur="indefinite" nodeType="mainSeq">
                <p:childTnLst>
                  <p:par>
                    <p:cTn id="1990" fill="hold">
                      <p:stCondLst>
                        <p:cond delay="0"/>
                      </p:stCondLst>
                      <p:childTnLst>
                        <p:par>
                          <p:cTn id="1991" fill="hold">
                            <p:stCondLst>
                              <p:cond delay="0"/>
                            </p:stCondLst>
                            <p:childTnLst>
                              <p:par>
                                <p:cTn id="19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93" dur="1" fill="hold"/>
                                        <p:tgtEl>
                                          <p:spTgt spid="5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2484360" y="1916280"/>
            <a:ext cx="46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www.restfmri.net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048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Further Hel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826920" y="138096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Further questions: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826920" y="2749680"/>
            <a:ext cx="792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Further professional data analysis service: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484360" y="3446640"/>
            <a:ext cx="6480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Brain Imaging Data Analysis and Consultation Section (BIDACS)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bidacs@gmail.com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4" dur="indefinite" restart="never" nodeType="tmRoot">
          <p:childTnLst>
            <p:seq>
              <p:cTn id="1995" dur="indefinite" nodeType="mainSeq">
                <p:childTnLst>
                  <p:par>
                    <p:cTn id="1996" fill="hold">
                      <p:stCondLst>
                        <p:cond delay="0"/>
                      </p:stCondLst>
                      <p:childTnLst>
                        <p:par>
                          <p:cTn id="1997" fill="hold">
                            <p:stCondLst>
                              <p:cond delay="0"/>
                            </p:stCondLst>
                            <p:childTnLst>
                              <p:par>
                                <p:cTn id="19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99" dur="1" fill="hold"/>
                                        <p:tgtEl>
                                          <p:spTgt spid="5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Thanks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331640" y="1412640"/>
            <a:ext cx="28796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DONG Zhang-Y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GUO Xiao-Jua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HE Yong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LONG Xiang-Yu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SONG Xiao-Wei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YAO Li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ZANG Yu-Feng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ZHANG Ha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ZHU Chao-Zh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ZOU Qi-Hong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ZUO Xi-Nia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……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8" name=""/>
          <p:cNvSpPr/>
          <p:nvPr/>
        </p:nvSpPr>
        <p:spPr>
          <a:xfrm>
            <a:off x="5003640" y="5084640"/>
            <a:ext cx="34578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All the group members!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076720" y="1341360"/>
            <a:ext cx="359892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SPM Team: Wellcome Department of Imaging Neuroscience, UCL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MRIcroN Team: Chris RORDEN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Xjview Team: CUI Xu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……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00" dur="indefinite" restart="never" nodeType="tmRoot">
          <p:childTnLst>
            <p:seq>
              <p:cTn id="2001" dur="indefinite" nodeType="mainSeq">
                <p:childTnLst>
                  <p:par>
                    <p:cTn id="2002" fill="hold">
                      <p:stCondLst>
                        <p:cond delay="0"/>
                      </p:stCondLst>
                      <p:childTnLst>
                        <p:par>
                          <p:cTn id="2003" fill="hold">
                            <p:stCondLst>
                              <p:cond delay="0"/>
                            </p:stCondLst>
                            <p:childTnLst>
                              <p:par>
                                <p:cTn id="20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5" dur="1" fill="hold"/>
                                        <p:tgtEl>
                                          <p:spTgt spid="5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971640" y="2997000"/>
            <a:ext cx="7797600" cy="35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Thanks for your attention!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06" dur="indefinite" restart="never" nodeType="tmRoot">
          <p:childTnLst>
            <p:seq>
              <p:cTn id="2007" dur="indefinite" nodeType="mainSeq">
                <p:childTnLst>
                  <p:par>
                    <p:cTn id="2008" fill="hold">
                      <p:stCondLst>
                        <p:cond delay="0"/>
                      </p:stCondLst>
                      <p:childTnLst>
                        <p:par>
                          <p:cTn id="2009" fill="hold">
                            <p:stCondLst>
                              <p:cond delay="0"/>
                            </p:stCondLst>
                            <p:childTnLst>
                              <p:par>
                                <p:cTn id="20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11" dur="1" fill="hold"/>
                                        <p:tgtEl>
                                          <p:spTgt spid="5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8209080" cy="4356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00000" y="476280"/>
            <a:ext cx="431964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One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516720" y="2708280"/>
            <a:ext cx="2160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940360" y="2349360"/>
            <a:ext cx="1224000" cy="287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091280" y="2349360"/>
            <a:ext cx="1584360" cy="287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4390920" cy="3673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835280" y="1484280"/>
            <a:ext cx="3905280" cy="48974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700360" y="259920"/>
            <a:ext cx="489600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One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87280" y="3789360"/>
            <a:ext cx="122580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12000" y="2852640"/>
            <a:ext cx="3132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m*-1 images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zFC images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908000" y="2779560"/>
            <a:ext cx="381636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2000" y="5661000"/>
            <a:ext cx="2881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Directory for 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saving SPM.mat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08000" y="5948280"/>
            <a:ext cx="381636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8000" y="4724280"/>
            <a:ext cx="381636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2000" y="4724280"/>
            <a:ext cx="3132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Brain Mask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0" dur="1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3898800" cy="50036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979640" y="1844640"/>
            <a:ext cx="4321080" cy="36860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356000" y="3789360"/>
            <a:ext cx="136836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3708360" y="3141720"/>
            <a:ext cx="3384720" cy="11858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708360" y="3573360"/>
            <a:ext cx="331164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20000" y="3573360"/>
            <a:ext cx="2736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The generated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spm.mat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0360" y="259920"/>
            <a:ext cx="489600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One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1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8T13:17:48Z</dcterms:created>
  <dc:creator>ibm</dc:creator>
  <dc:description/>
  <dc:language>en-US</dc:language>
  <cp:lastModifiedBy>YAN Chao-Gan</cp:lastModifiedBy>
  <dcterms:modified xsi:type="dcterms:W3CDTF">2012-10-21T04:00:19Z</dcterms:modified>
  <cp:revision>1933</cp:revision>
  <dc:subject/>
  <dc:title>幻灯片 1</dc:title>
</cp:coreProperties>
</file>