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08E-A9A6-4A08-B795-23562B249F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08D-52F6-41C4-899C-E2B2F68AFC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F46C-097F-4885-9827-C9CEEB1148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43F6-F624-40E5-9FA3-21C0B2C918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A4B-CC1C-4AA9-9F01-662FF4842C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692-DD91-4416-AF37-D9D202218B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F9F-6245-44D0-A504-1CDB2AE8EC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2649-CCEB-4D1F-A57E-847939DAAA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E18-AE38-4B56-98E8-E906E86E00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224-5BEF-44A9-A491-DFD237AEDF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7DD8-5CD2-46F8-A7B4-00464E2F36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2B62-939B-4428-8B73-E8F5EC041B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E635-229B-4A54-B190-8D2EB2B1D8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6117-DADA-4CF6-B797-1A8049970B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CCD1-21EF-4A79-AF35-2916DAF634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921-2CC9-4DC2-A635-F0C0B44298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57D-82C5-4F03-A164-4EE19CFE9F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4D9-BC45-4D10-8710-2218FD04BF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67E-A2F6-47E4-A707-6E47B3901F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FA87-7C79-42E5-B9AA-07BF0E8B89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5F8-40AA-4D8F-8B25-3558E9B39A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7A9-F4D1-4624-8110-562A2D6CBF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65A-0F25-47DC-9C89-2979E6283E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E7C-7F29-45B8-BE5A-C59F97DE20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0410-9C4B-4267-AA1F-41C9701512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ACA-0217-42C1-A3D9-629879465C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22A4-2B90-418A-8D6C-341A5EC116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B346-CF01-4E53-B21E-5F21FBC7DC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0127-6316-4002-89A3-35E84E202D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223-7228-4B3D-9498-DFB72359F0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E8C9-6B4E-4E10-B9B8-A7CDE54ACC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619-4F89-4603-B7D0-7BF118F1FD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759-73B8-46C7-85BD-4A9CFDA410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503-75FF-47BE-BCE4-A5088592B3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745-5B16-4759-AEAE-4F8938044E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2E6E-3BF0-4030-B3BC-8CA6FD0B99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482-69C1-4936-8336-C5D142DEDE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7AA-CB55-4278-A5F9-D0F040B9FC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52C-BE16-47DE-B04A-5CB2C5B87A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D1EF-B8E3-4906-8C5B-11D4B18F04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B0A-5F10-4606-BF4E-C55D999C45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549-A775-4076-8F7D-6D134108C9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FEA-E8F7-4A04-B513-5773AA4DEC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89E-2FB9-4191-B0E3-6334F957EA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CE03-2292-40CC-A3E9-E3A307DF21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B085-1F9E-41D8-AA54-117328622E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E633-CB01-4381-A2AA-E736E05C17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011F-F38A-4795-BC0A-DD61ADB47F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189-0122-4538-A40A-0905F3379B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8E9-B634-4E4B-A9C2-6B66FDBBF6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15BD-9665-4B6E-8FFC-6B77150610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394-9066-4233-AC60-7DB594FBBB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0D90-136E-43C9-AFBF-F3EBDEA9BE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BBD-4C19-445D-BD79-3FCF935BED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D9A-829E-4BAA-B8E4-B6F386AC57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00E-E1AE-4D9D-A0FB-2708D27B26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EA4E-A341-4848-BD91-7C29469FEE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2F1B-75CD-4137-8928-9AABE52C52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90E-30DE-4DE6-9BA3-72B82099FA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D46-B2D6-4DC1-9CF1-02D1AE5060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98AA-F1FB-44DE-B74B-49EA688F2D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2D34-80D6-4670-8410-C71A73EC10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66F5D176-0890-45B1-BFB6-1F5340D4C99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052640"/>
            <a:ext cx="806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Patient_1T.img + CON_1T.img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1+i2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5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5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9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3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7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9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5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3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b1e2fb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0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7" dur="1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1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0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5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7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5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1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0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3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407960"/>
            <a:ext cx="8065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f)      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0" dur="indefinite" restart="never" nodeType="tmRoot">
          <p:childTnLst>
            <p:seq>
              <p:cTn id="1881" dur="indefinite" nodeType="mainSeq">
                <p:childTnLst>
                  <p:par>
                    <p:cTn id="1882" fill="hold">
                      <p:stCondLst>
                        <p:cond delay="0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5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156360" y="5373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0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7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9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4. You can turn on the 3GB switch of Windows XP!!! Please see more details in http://www.microsoft.com/whdc/system/platform/server/PAE/PAEmem.m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3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9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1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4:00:19Z</dcterms:modified>
  <cp:revision>1933</cp:revision>
  <dc:subject/>
  <dc:title>幻灯片 1</dc:title>
</cp:coreProperties>
</file>