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69.png" ContentType="image/png"/>
  <Override PartName="/ppt/media/image71.png" ContentType="image/png"/>
  <Override PartName="/ppt/media/image89.png" ContentType="image/png"/>
  <Override PartName="/ppt/media/image77.png" ContentType="image/png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81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0.png" ContentType="image/png"/>
  <Override PartName="/ppt/media/image25.png" ContentType="image/png"/>
  <Override PartName="/ppt/media/image6.png" ContentType="image/png"/>
  <Override PartName="/ppt/media/image18.png" ContentType="image/png"/>
  <Override PartName="/ppt/media/image8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B38C-55F9-4A28-A64D-62B7367D07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456F-14E0-46DB-A858-8F4EBAF7B4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4257-B332-440F-B9C5-1E1EA93CAC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14C5-0CEE-4F04-8568-B8CD94829C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273C-9B85-4857-8C3F-BD7C4B2152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52C1-07D0-4988-821E-14AC702BF8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31E8-0D7F-4000-8554-2312D47AEF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11FA-C57A-400E-B67A-A36B1E7002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9DF2-6572-42AD-AEBD-BE0AFBC19B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4862-C578-44A2-8D3B-213EAA84AA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16AB-D3C1-4B5C-BAE8-FEFBC5B8B3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A845-2503-44DC-A159-85F6605D01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8672-98B9-47A0-B637-CC5CE8EA9A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6DB2-BE10-4255-9A4E-071AAF03BA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1B6C-6A58-437A-89C9-5CD5E47C63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E9F1-53A8-45D3-ADDE-D0FF95494B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262D-77CF-41CD-8FE2-0375293E50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62D9-7325-49A9-BCF5-EECC80BBC5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E81A-6262-43C7-94F5-63171ACF16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9F96-BE70-4556-BE7B-D349F9DD87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4B8E-D752-4E89-B30B-721678455D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8E4A-316A-42B4-B23E-2D704F6651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D80C-8BE6-4A73-A0AA-FA21511667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58E8-13BA-4A7F-B74C-9455932638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DCFF-3982-4392-AF8C-C8F060D81E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9D32-1683-4F97-BD60-DFEBF41D55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9368-C2C4-4727-BE99-D7087C622A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8BC6-06E3-4CD1-BE9D-1FE0F7CDEA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A78B-59EE-474E-B26D-F717D4B694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ED99-4A09-4E79-92D3-B1067EF2D2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A76F-A096-43D5-AB2D-9C589F8D45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1CB2-5335-4B6F-B602-A0CD20744A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ACEE-4DAE-41F2-93BC-B2DD8C264B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E137-FAFD-43FA-8FD0-027467B83E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57D3-BDF5-4AE7-8E43-A94FE1FE08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06C7-6F3A-4123-AC31-CB76983CD0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CAD3-67E7-4BAF-8007-7A5B7676E7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AC6B-B58C-4378-AEC1-54A2833BE2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BCA4-BE95-4BFD-8047-0FE6B6E74A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761F-7ACA-4DFB-A610-706674482A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7EFB-24E2-4592-8C6F-F6004920C7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2E15-2FD3-4972-B1DA-00A897B974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5E2F-6D02-4076-8F16-DB08889F86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6445-F146-4F4F-834F-DA0D76EFC6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8429-0212-4FA2-AEF8-88D1B2E845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8C4C-8530-492D-BF6B-5F2DD81189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7204-C78B-49DF-A214-368A170E49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5D26-4AE1-4C45-89BE-AEADE42105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D61C-BA3A-418E-A57B-F481C0AE28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E9F8-9B85-4B09-B410-610878B130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D41A-86F0-4263-971C-EB066CC6E2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5D7A-1111-41F0-AD72-0D0F524428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7E86-E652-4DFB-9C68-179FC3C613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14AB-8C82-4701-843E-165CAEBB7B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42B0-6B3B-4DC9-8841-FCA39DE019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5B2C-82EC-4561-90E0-573DA400EF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D18F-003C-4A5B-A9DB-5611D4DED9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ED7D-1289-4CBA-A9CF-AA5E0221AF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847F-B5EB-45F1-B818-E654DE903C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BE3B-6EB1-4257-B1DD-36760D7DE7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16C3-77F0-4596-9F0A-F1BBC47848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BD44-BFFE-433C-A64C-A414521D39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C033-B069-4FD8-9789-34F82B45B8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B610-9162-462C-B76F-CC47239414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0FD0-1786-46AC-AFD3-D9B051B068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CC33-4C33-4E70-98A3-5D384145B6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A8EE-6B70-41B7-BEF8-A073000B74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367E-3F87-45B3-8390-B0BDD5FFC7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5AD3-202B-4495-B7BE-EBFFBF405C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CDE4-18D6-4106-9369-9450EC5B78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2007-52D6-4EF6-8433-D88A475088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4357-DF62-4ABB-8081-0B246CCE17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BF63-CBC2-413A-8530-118B814514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5D3D-0623-4E2F-87CF-AA3F25FA9C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7ADD-9DB2-42ED-B3C9-BB04862773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ED21-2CDD-4584-8C7D-E0B548D6EE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B80-27AD-4155-A3B0-1E9BE95008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CC13-5360-47A5-82C8-B0B3CDF12F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9767-F920-48BF-81D2-937D13B3F8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DC80-3968-4C8C-A350-84224B5ED1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BE45-5508-4FB6-9C17-C0C68304D3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9C0A-ADB8-4465-9FC8-1C056BD149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B92E-1DF2-4690-8208-6E41191920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6463-3BBA-49CC-9447-438D3F5987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00AA-AD54-4CE8-B452-7A5EBA05A8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6A1D-4264-469C-B5C9-73DA951135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89EA-BFCF-49AC-B3C7-051B4627B1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8635-46B7-4E95-8DD1-CA38F7B133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8166-555E-417A-A952-79FC780726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E5A6-01C3-4160-B0E8-2A15529527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E0F7-8BCB-4BB6-8253-F8BCFED1D0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D796-0294-4589-B9F0-3D97841469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79EE-52D1-49E8-84DB-FBC14E7D94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7F04-6915-482A-8AA4-3E26919B13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FD4B-4E2A-481C-AC3E-E01CA017BC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AA03-06B2-44E4-8A21-EEFAEAC4E5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F3E9-D3FA-474F-8F4C-543EBF1B73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F425-E6C4-40A9-AD9D-1D636DC1DA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382E-698E-4034-9A42-C45621E53F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853A-B2BD-421B-B010-C14CBBCEAA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264D-E69C-4C1F-A24C-E4252DF22C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8A74-758C-42AC-9BEF-8425612F06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A6BC-FDF4-4F71-A371-D4DB43B786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F09D-0A2A-47E3-9942-C78E8F1D07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78E8-A0F4-4C7D-B5AA-6E04BA1AB5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D32E-608F-4BEC-9B98-D4A51713BF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FE8D-16BB-4DB4-8A45-748EF680EE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DFA4-186A-48E7-9028-BF3C7A5F54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8F35-84C0-4512-84D8-0C3E659B6B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08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520" y="1341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08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520" y="4082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680" y="4082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680" y="1341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82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8604000" y="6536880"/>
            <a:ext cx="539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b1e2f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1e2fb"/>
                </a:solidFill>
                <a:latin typeface="Arial"/>
              </a:rPr>
              <a:t>&lt;footer&gt;</a:t>
            </a:r>
            <a:fld id="{E7D79EFA-EA33-474F-916C-F2DD7C3DC3EF}" type="slidenum">
              <a:rPr b="0" lang="zh-CN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41400"/>
            <a:ext cx="1219320" cy="122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2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777708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280" y="622440"/>
            <a:ext cx="66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楷体_GB2312"/>
              </a:rPr>
              <a:t>Data Processing Assistant for Resting-State fMRI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楷体_GB2312"/>
              </a:rPr>
              <a:t>Speed Up Your Data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9480" y="3068640"/>
            <a:ext cx="63619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AN Chao-Gan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严超赣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Ph. D.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cg.yan@gmail.com</a:t>
            </a:r>
            <a:br>
              <a:rPr sz="2400"/>
            </a:b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State Key Laboratory of Cognitive Neuroscience and Learning,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Beijing Normal University, Chin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16360" y="0"/>
            <a:ext cx="532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Course: Data Processing of Resting-State fMRI (Part 1)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-108000" y="278136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Sort DICOM data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56360" y="6165720"/>
            <a:ext cx="194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2920" y="595008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4" dur="1" fill="hold"/>
                                        <p:tgtEl>
                                          <p:spTgt spid="8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56000" y="4437000"/>
            <a:ext cx="2016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659640" y="4437000"/>
            <a:ext cx="1224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0" dur="1" fill="hold"/>
                                        <p:tgtEl>
                                          <p:spTgt spid="8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43960" y="1916280"/>
            <a:ext cx="6069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ract ROI time courses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9" dur="indefinite" restart="never" nodeType="tmRoot">
          <p:childTnLst>
            <p:seq>
              <p:cTn id="2920" dur="indefinite" nodeType="mainSeq">
                <p:childTnLst>
                  <p:par>
                    <p:cTn id="2921" fill="hold">
                      <p:stCondLst>
                        <p:cond delay="0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4" dur="1" fill="hold"/>
                                        <p:tgtEl>
                                          <p:spTgt spid="8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4535640" cy="24130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0" y="219384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in {working direcotry}\FunImgNormalizedDetrendedFilteredCovremoved_RESTdefinedROIT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ROI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429264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ROITimeCourses.txt: Time courses, each column represent a time course of one ROI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ResultCorr.txt: ROI-wise Functional Connectivit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8" dur="1" fill="hold"/>
                                        <p:tgtEl>
                                          <p:spTgt spid="8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AAL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27280" y="4797360"/>
            <a:ext cx="2881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7" dur="indefinite" restart="never" nodeType="tmRoot">
          <p:childTnLst>
            <p:seq>
              <p:cTn id="2968" dur="indefinite" nodeType="mainSeq">
                <p:childTnLst>
                  <p:par>
                    <p:cTn id="2969" fill="hold">
                      <p:stCondLst>
                        <p:cond delay="0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2" dur="1" fill="hold"/>
                                        <p:tgtEl>
                                          <p:spTgt spid="8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4535640" cy="24130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0" y="219384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sults in {working direcotry}\FunImgNormalizedDetrendedFilteredCovremoved_AALT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AAL time cour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4292640"/>
            <a:ext cx="889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ub_001_AALTC.mat: Time courses of each AAL region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9" dur="indefinite" restart="never" nodeType="tmRoot">
          <p:childTnLst>
            <p:seq>
              <p:cTn id="2990" dur="indefinite" nodeType="mainSeq">
                <p:childTnLst>
                  <p:par>
                    <p:cTn id="2991" fill="hold">
                      <p:stCondLst>
                        <p:cond delay="0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4" dur="1" fill="hold"/>
                                        <p:tgtEl>
                                          <p:spTgt spid="9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6516720" cy="348588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0" y="2193840"/>
            <a:ext cx="27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ation by using T1 image segmentation: co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 without Slice Timeing: a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Change prefix of Im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292720" y="4437000"/>
            <a:ext cx="79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4103640" cy="178596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643280" y="2997360"/>
            <a:ext cx="266544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2" dur="1" fill="hold"/>
                                        <p:tgtEl>
                                          <p:spTgt spid="9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5761080" cy="437508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0" y="2193840"/>
            <a:ext cx="27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ation by using T1 image segmentation: co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Change prefix of Im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284720" y="4797360"/>
            <a:ext cx="107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356000" y="522936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419640" y="3357720"/>
            <a:ext cx="396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572000" y="4797360"/>
            <a:ext cx="576360" cy="358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4365720"/>
            <a:ext cx="270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*.img -&gt; ra*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5229360"/>
            <a:ext cx="720720" cy="358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ra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156360" y="5084640"/>
            <a:ext cx="1008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0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0" dur="1" fill="hold"/>
                                        <p:tgtEl>
                                          <p:spTgt spid="9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6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480360" cy="34480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0" y="219384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ave parameters to *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ave and Load Para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780000" y="5445000"/>
            <a:ext cx="86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59280" y="5445000"/>
            <a:ext cx="93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933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Load parameters from *.ma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3" dur="indefinite" restart="never" nodeType="tmRoot">
          <p:childTnLst>
            <p:seq>
              <p:cTn id="3094" dur="indefinite" nodeType="mainSeq">
                <p:childTnLst>
                  <p:par>
                    <p:cTn id="3095" fill="hold">
                      <p:stCondLst>
                        <p:cond delay="0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8" dur="1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2484360" y="1916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ww.restfmri.ne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6920" y="13809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question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826920" y="27496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urther professional data analysis service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484360" y="3446640"/>
            <a:ext cx="64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 Imaging Data Analysis and Consultation Section (BIDACS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idacs@gmail.com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9" dur="indefinite" restart="never" nodeType="tmRoot">
          <p:childTnLst>
            <p:seq>
              <p:cTn id="3120" dur="indefinite" nodeType="mainSeq">
                <p:childTnLst>
                  <p:par>
                    <p:cTn id="3121" fill="hold">
                      <p:stCondLst>
                        <p:cond delay="0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4" dur="1" fill="hold"/>
                                        <p:tgtEl>
                                          <p:spTgt spid="9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4920" y="476280"/>
            <a:ext cx="6913440" cy="604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148360" y="1989000"/>
            <a:ext cx="8636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1844640"/>
            <a:ext cx="1655640" cy="1079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IMA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dcm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no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3068640"/>
            <a:ext cx="482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5734080"/>
            <a:ext cx="100800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458136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5084640"/>
            <a:ext cx="223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373720"/>
            <a:ext cx="223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5805360"/>
            <a:ext cx="2016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31640" y="1412640"/>
            <a:ext cx="28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DONG Zhang-Y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GUO Xiao-Ju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HE Y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ONG Xiang-Yu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ONG Xiao-We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YAO Li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ANG Yu-Fe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ANG H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HU Chao-Zh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OU Qi-Ho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ZUO Xi-Ni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"/>
          <p:cNvSpPr/>
          <p:nvPr/>
        </p:nvSpPr>
        <p:spPr>
          <a:xfrm>
            <a:off x="5003640" y="4653000"/>
            <a:ext cx="345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All the group members!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076720" y="1341360"/>
            <a:ext cx="35989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SPM Team: Wellcome Department of Imaging Neuroscience, UCL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MRIcroN Team: Chris Rorde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5" dur="indefinite" restart="never" nodeType="tmRoot">
          <p:childTnLst>
            <p:seq>
              <p:cTn id="3126" dur="indefinite" nodeType="mainSeq">
                <p:childTnLst>
                  <p:par>
                    <p:cTn id="3127" fill="hold">
                      <p:stCondLst>
                        <p:cond delay="0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0" dur="1" fill="hold"/>
                                        <p:tgtEl>
                                          <p:spTgt spid="9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971640" y="2997000"/>
            <a:ext cx="77976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Thanks for your attention!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1" dur="indefinite" restart="never" nodeType="tmRoot">
          <p:childTnLst>
            <p:seq>
              <p:cTn id="3132" dur="indefinite" nodeType="mainSeq">
                <p:childTnLst>
                  <p:par>
                    <p:cTn id="3133" fill="hold">
                      <p:stCondLst>
                        <p:cond delay="0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6" dur="1" fill="hold"/>
                                        <p:tgtEl>
                                          <p:spTgt spid="9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700280"/>
            <a:ext cx="8532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fMRI DICOM images in one directory, and then put them in "FunRaw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353440" cy="273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32000" y="3429000"/>
            <a:ext cx="5185080" cy="24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COM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4653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unRaw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8920" y="4508640"/>
            <a:ext cx="792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292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353440" cy="2765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700280"/>
            <a:ext cx="8532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T1 DICOM images in one directory, and then put them in “T1Raw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3429000"/>
            <a:ext cx="5185080" cy="24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COM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4653000"/>
            <a:ext cx="72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T1Raw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14172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4508640"/>
            <a:ext cx="792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4076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6192720" cy="2762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00280"/>
            <a:ext cx="8532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Set the parameters in DPARSF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3716280"/>
            <a:ext cx="44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4221000"/>
            <a:ext cx="2737080" cy="10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time points (volumes)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4508640"/>
            <a:ext cx="71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4941720"/>
            <a:ext cx="71928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The detected subjects’ I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51640" y="616572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et the T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2920" y="350028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080" y="184464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-&gt;NIF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628640"/>
            <a:ext cx="720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RIcroN’s dcm2niigui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PM5’s DICOM Impor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608720" cy="1806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067280" y="5373720"/>
            <a:ext cx="4248000" cy="1303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64000" y="2997360"/>
            <a:ext cx="2303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753080" cy="1905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ICOM-&gt;NIF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4292640"/>
            <a:ext cx="1439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80" y="270972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2920" y="184464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43280" y="1527120"/>
            <a:ext cx="5976720" cy="5330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4148280"/>
            <a:ext cx="237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0" y="357336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35640" y="3429000"/>
            <a:ext cx="3311640" cy="3135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3960720" cy="2976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111640" y="189000"/>
            <a:ext cx="4032360" cy="2965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68360" y="0"/>
            <a:ext cx="4392720" cy="3170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0920" y="64998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Huettel et al., 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852" t="0" r="0" b="0"/>
          <a:stretch/>
        </p:blipFill>
        <p:spPr>
          <a:xfrm>
            <a:off x="539640" y="1916280"/>
            <a:ext cx="8317080" cy="3984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00000" y="292428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3284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364500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400536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436572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472428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:2:25,2:2:24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88000" y="213372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2708280"/>
            <a:ext cx="52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2708280"/>
            <a:ext cx="52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-(2/25)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92360" y="2708280"/>
            <a:ext cx="52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5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33987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2920" y="213372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1773360"/>
            <a:ext cx="1942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76360" y="2708280"/>
            <a:ext cx="1943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43280" y="4653000"/>
            <a:ext cx="1079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5640" y="4653000"/>
            <a:ext cx="12970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4653000"/>
            <a:ext cx="1728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36000" y="4581360"/>
            <a:ext cx="158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544500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:2:25,2:2:24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3646440"/>
            <a:ext cx="8137800" cy="2292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lice Ti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6360" y="1341360"/>
            <a:ext cx="8532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If you start with NIFTI images (.hdr/.img pairs) before slice timing, you need to arrange each subject's fMRI NIFTI images in one directory, and then put them in "FunImg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3933720"/>
            <a:ext cx="4392720" cy="194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000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FunImg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364500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479736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080" y="4365720"/>
            <a:ext cx="39528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5688000" cy="5014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3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08000" y="242100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69000"/>
            <a:ext cx="3527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Based on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Matlab, SPM, REST, MRIcroN’s dcm2nii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08360" y="57240"/>
            <a:ext cx="4581720" cy="67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848360" cy="29206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42920" y="3284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21440" cy="3540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55640" y="1916280"/>
            <a:ext cx="129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3789360"/>
            <a:ext cx="352908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2637000"/>
            <a:ext cx="360036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771640" y="1585800"/>
            <a:ext cx="6121440" cy="52722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43280" y="501336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al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heck head motion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4360" y="2565360"/>
            <a:ext cx="8964720" cy="3214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71640" y="4221000"/>
            <a:ext cx="17287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2565360"/>
            <a:ext cx="266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87640" y="3068640"/>
            <a:ext cx="165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87640" y="3500280"/>
            <a:ext cx="1871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14760" cy="4048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337560" y="765000"/>
            <a:ext cx="4322880" cy="56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2.5mm and 2.5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Non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2.0mm and 2.0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1.5mm and 1.5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xcluding Criteria: 1.0mm and 1.0 degree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07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2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3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7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ub_018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0" y="515772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195640" y="1658880"/>
            <a:ext cx="6264000" cy="5199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-1440" y="5732640"/>
            <a:ext cx="200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Huettel et al., 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5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3280" y="2349360"/>
            <a:ext cx="74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. Normalize by using EPI templ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I. Normalize by using T1 image unified segment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040360" cy="1571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2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8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54816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332000" y="98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155736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2000" y="227664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32000" y="566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32000" y="609300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88000" y="69228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an_name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88000" y="141300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213372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PI.nii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88000" y="544500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90 -126  -72; 90  90  108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88000" y="584532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 3 3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3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7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3994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3280" y="242100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59280" y="1700280"/>
            <a:ext cx="19432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4149720"/>
            <a:ext cx="1942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1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1413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thods: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2708280"/>
            <a:ext cx="74898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EPI templ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 by using T1 image unified segment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3357720"/>
            <a:ext cx="777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image was coregistered to the mean functional image after the motion correction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The transformed structural image was then segmented into gray matter, white matter, cerebrospinal fluid by using a unified segmentation algorithm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: the motion corrected functional volumes were spatially normalized to the MNI space using the normalization parameters estimated during unified segmentation (*_seg_sn.mat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3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4394E-006 L 4.16667E-006 -0.21207 E">
                                      <p:cBhvr>
                                        <p:cTn id="880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8064720" cy="2895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 Coregis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2421000"/>
            <a:ext cx="30974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32360" y="2349360"/>
            <a:ext cx="2232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961080" cy="2765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332000" y="2997360"/>
            <a:ext cx="259236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328464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76720" y="2637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mean_name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03640" y="306864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1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414972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4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272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's standard proced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887480"/>
            <a:ext cx="820872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onvert DICOM files to NIFTI images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move First 10 Time Points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Slice Timing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align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Normalize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Smooth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Detrend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Filter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alculate ReHo, ALFF, fALFF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Regress out the Covariables (optional)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Calculate Functional Connectivity (optional)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Extract AAL or ROI time courses for further analysis         (optional)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71640" y="1457280"/>
            <a:ext cx="3754440" cy="5400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114560" y="1773360"/>
            <a:ext cx="259236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03280" y="342900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59280" y="141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T1_Coregisted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32360" y="30686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Light Clean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03280" y="4581360"/>
            <a:ext cx="27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2360" y="4292640"/>
            <a:ext cx="396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ICBM space template – East Asian brain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uropean brain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8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632720" cy="2705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2448000" cy="720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 II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1640" y="2133720"/>
            <a:ext cx="1152360" cy="71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95640" y="2133720"/>
            <a:ext cx="1224000" cy="71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9280" y="220500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Segment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58920" y="342900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76360" y="371628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59280" y="3429000"/>
            <a:ext cx="230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0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8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81480" cy="53006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826920" y="1555920"/>
            <a:ext cx="1873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2205000"/>
            <a:ext cx="1224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63640" y="2924280"/>
            <a:ext cx="2232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76360" y="4941720"/>
            <a:ext cx="208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76360" y="5300640"/>
            <a:ext cx="2087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00720" y="1268280"/>
            <a:ext cx="46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Normalize: Write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184464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ew “Subject”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2637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ame_seg_sn.ma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797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90 -126  -72; 90  90  108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16360" y="5229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 3 3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63640" y="3284640"/>
            <a:ext cx="2232000" cy="43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299736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Normalize I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4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8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916360" y="1643040"/>
            <a:ext cx="5903640" cy="53150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4360" y="5013360"/>
            <a:ext cx="863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59280" y="5013360"/>
            <a:ext cx="230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36000" y="5013360"/>
            <a:ext cx="1511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87640" y="5373720"/>
            <a:ext cx="23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64000" y="5373720"/>
            <a:ext cx="3529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14560" y="5589720"/>
            <a:ext cx="1513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9280" y="4508640"/>
            <a:ext cx="23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T1 Data should be arranged in T1Raw or T1Img (co*.img) directory!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16360" y="5950080"/>
            <a:ext cx="23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357336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elete files before normalization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aw NIfTI files, slice timing files, realign files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27640" y="5589720"/>
            <a:ext cx="3529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956720" y="5589720"/>
            <a:ext cx="792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8" dur="1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Normal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heck Normalization with 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276640"/>
            <a:ext cx="6697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{WROKDIR}\PicturesForChkNormalization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6"/>
          <a:stretch/>
        </p:blipFill>
        <p:spPr>
          <a:xfrm>
            <a:off x="757080" y="271440"/>
            <a:ext cx="7629840" cy="6315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7"/>
          <a:stretch/>
        </p:blipFill>
        <p:spPr>
          <a:xfrm>
            <a:off x="755640" y="260280"/>
            <a:ext cx="7629480" cy="63151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258560" y="1557360"/>
            <a:ext cx="6337440" cy="4392000"/>
            <a:chOff x="1258560" y="1557360"/>
            <a:chExt cx="6337440" cy="4392000"/>
          </a:xfrm>
        </p:grpSpPr>
        <p:sp>
          <p:nvSpPr>
            <p:cNvPr id="411" name=""/>
            <p:cNvSpPr/>
            <p:nvPr/>
          </p:nvSpPr>
          <p:spPr>
            <a:xfrm>
              <a:off x="1258920" y="1557360"/>
              <a:ext cx="6337080" cy="4392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58920" y="1557360"/>
              <a:ext cx="6337080" cy="4392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258560" y="1557360"/>
              <a:ext cx="6337080" cy="4392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55640" y="260280"/>
            <a:ext cx="115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6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80" y="5950080"/>
            <a:ext cx="39528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9" dur="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moo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50920" y="2852640"/>
            <a:ext cx="65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duce the effects of the bad normaliz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…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7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260360" y="2494080"/>
            <a:ext cx="4714920" cy="2195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547640" y="2997360"/>
            <a:ext cx="35290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47640" y="3357720"/>
            <a:ext cx="35290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92720" y="27097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*.img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92720" y="321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FWHM kerne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moo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3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5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6193080" cy="53020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moo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59640" y="5661000"/>
            <a:ext cx="8650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9280" y="4508640"/>
            <a:ext cx="23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ALFF, fALFF, Funtional Connectivity: Data with smooth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96360" y="5661000"/>
            <a:ext cx="122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35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eHo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without smooth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6237360"/>
            <a:ext cx="14414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08720" y="6237360"/>
            <a:ext cx="1584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8000" y="2637000"/>
            <a:ext cx="251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843280" y="4221000"/>
            <a:ext cx="3168720" cy="1800360"/>
            <a:chOff x="2843280" y="4221000"/>
            <a:chExt cx="3168720" cy="1800360"/>
          </a:xfrm>
        </p:grpSpPr>
        <p:sp>
          <p:nvSpPr>
            <p:cNvPr id="443" name=""/>
            <p:cNvSpPr/>
            <p:nvPr/>
          </p:nvSpPr>
          <p:spPr>
            <a:xfrm>
              <a:off x="2843280" y="4221000"/>
              <a:ext cx="3168720" cy="1800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43280" y="4221000"/>
              <a:ext cx="3168720" cy="180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843280" y="4221000"/>
              <a:ext cx="3168720" cy="180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1" dur="1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27640" y="530064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0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4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2920" y="263700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908000" y="1490760"/>
            <a:ext cx="5977080" cy="53672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Detr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450864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08720" y="5661000"/>
            <a:ext cx="13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2205000"/>
            <a:ext cx="1366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72360" y="2205000"/>
            <a:ext cx="13665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2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16000" y="549360"/>
            <a:ext cx="33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Pre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95280" y="155736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ICOM -&gt; NIFTI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move First 10 Time Point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lice Timing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alig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Normaliz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97360" y="4929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etrend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ilter: 0.01-0.08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27640" y="602136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0" dur="1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滤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Why?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24000" y="170028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Low frequency (0.01–0.08 Hz) fluctuations (LFFs) of the resting-state fMRI signal were of physiological importance. (Biswal et al., 2005) 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LFFs of resting-state fMRI signal were suggested to reflect spontaneous neuronal activity (Logothetis et al., 2001; Lu et al., 2007).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32000" y="5299200"/>
            <a:ext cx="7127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Biswal B, Yetkin FZ, Haughton VM, Hyde JS (1995) Functional connectivity in the motor cortex of resting human brain using echo-planar MRI. Magn Reson Med 34: 537–541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Logothetis NK, Pauls J, Augath M, Trinath T, Oeltermann A (2001) Neurophysiological investigation of the basis of the fMRI signal. Nature 412: 150–157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e2f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 </a:t>
            </a:r>
            <a:r>
              <a:rPr b="1" lang="zh-CN" sz="1200" spc="-1" strike="noStrike">
                <a:solidFill>
                  <a:srgbClr val="b1e2fb"/>
                </a:solidFill>
                <a:latin typeface="Tahoma"/>
              </a:rPr>
              <a:t>Lu H, Zuo Y, Gu H, Waltz JA, Zhan W, et al. (2007) Synchronized delta oscillations correlate with the resting-state functional MRI signal. Proc Natl Acad Sci U S A 104: 18265–18269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8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6337440" cy="534816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il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0920" y="3500280"/>
            <a:ext cx="338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427640" y="479736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1916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63640" y="1916280"/>
            <a:ext cx="2016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35640" y="1916280"/>
            <a:ext cx="1297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4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6193080" cy="530208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etrend and Fil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43280" y="6568920"/>
            <a:ext cx="792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708360" y="6568920"/>
            <a:ext cx="934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0920" y="3573360"/>
            <a:ext cx="23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If you want to calculate fALFF, please do not delete the detrended file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16360" y="6568920"/>
            <a:ext cx="17272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6720" y="6568920"/>
            <a:ext cx="1800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8000" y="263700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 or FunImgNormalizedSmooth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2920" y="4363920"/>
            <a:ext cx="468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8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4464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Ho </a:t>
            </a:r>
            <a:br>
              <a:rPr sz="36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Regional Homogeneity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图片 3" descr=""/>
          <p:cNvPicPr/>
          <p:nvPr/>
        </p:nvPicPr>
        <p:blipFill>
          <a:blip r:embed="rId1"/>
          <a:stretch/>
        </p:blipFill>
        <p:spPr>
          <a:xfrm>
            <a:off x="1747800" y="3552840"/>
            <a:ext cx="3024360" cy="265896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4" descr=""/>
          <p:cNvPicPr/>
          <p:nvPr/>
        </p:nvPicPr>
        <p:blipFill>
          <a:blip r:embed="rId2"/>
          <a:stretch/>
        </p:blipFill>
        <p:spPr>
          <a:xfrm>
            <a:off x="5219640" y="4076640"/>
            <a:ext cx="2648160" cy="13795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826920" y="1584360"/>
            <a:ext cx="720108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Note: Please do not smooth your data in preprocessing, just smooth your data after ReHo calculation.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36720" y="565992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ang et al., 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ahoma"/>
              </a:rPr>
              <a:t>Zang YF, Jiang TZ, Lu YL, He Y, Tian LX (2004) Regional homogeneity approach to fMRI data analysis. Neuroimage 22: 394–400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0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4" dur="1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875640" cy="6345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1045080" y="2781360"/>
            <a:ext cx="39610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35280" y="1268280"/>
            <a:ext cx="360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19640" y="2708280"/>
            <a:ext cx="208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08000" y="3429000"/>
            <a:ext cx="1151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32000" y="5013360"/>
            <a:ext cx="208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32000" y="5516640"/>
            <a:ext cx="4824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5950080"/>
            <a:ext cx="662436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88000" y="4221000"/>
            <a:ext cx="194472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956720" y="3500280"/>
            <a:ext cx="5745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3068640"/>
            <a:ext cx="208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4005360"/>
            <a:ext cx="18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  <a:ea typeface="隶书"/>
              </a:rPr>
              <a:t>If the resolution of your data is not 61*61*73, please resample your mask file at first.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4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2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459640" cy="30704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826920" y="1628640"/>
            <a:ext cx="1729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71640" y="2060640"/>
            <a:ext cx="302400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42920" y="242100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00000" y="314172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1773360"/>
            <a:ext cx="273528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3280" y="465300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Choose one of your functional image. e.g. your normalized functional image or image after Detrend and Filter.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48000" y="4437000"/>
            <a:ext cx="47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oose the mask file or ROI definition file. e.g. BrainMask_05_61x73x61.img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11640" y="5445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esample Mask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68360" y="5734080"/>
            <a:ext cx="56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esample other kind of data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16360" y="1341360"/>
            <a:ext cx="2735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Data Res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0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8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2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27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940360" y="522936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8" dur="1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8874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information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624720" cy="64659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771640" y="2205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16720" y="573408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35" name=""/>
          <p:cNvSpPr/>
          <p:nvPr/>
        </p:nvSpPr>
        <p:spPr>
          <a:xfrm>
            <a:off x="-18108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Data Resample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08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360" y="4365720"/>
            <a:ext cx="388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4797360"/>
            <a:ext cx="1727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24360" y="3860640"/>
            <a:ext cx="19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4869000"/>
            <a:ext cx="792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645000"/>
            <a:ext cx="2987640" cy="1465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0 – Nearest Neighbo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1 – Trilinear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2- 2nd degree b-spline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08360" y="5300640"/>
            <a:ext cx="1079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08360" y="5877000"/>
            <a:ext cx="2664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0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0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50920" y="285264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249228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484360" y="2513160"/>
            <a:ext cx="6659640" cy="35082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H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35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et the smReHo -1 or mReHo - 1 data for one sample T test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56000" y="2924280"/>
            <a:ext cx="8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812000" y="2924280"/>
            <a:ext cx="1224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69080" y="2924280"/>
            <a:ext cx="1008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84640"/>
            <a:ext cx="23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Smooth the mReHo results. The FWHM kernel is the same as set in the smooth step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77080" y="2924280"/>
            <a:ext cx="9349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2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468680" cy="53290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80360" y="537264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ang et al., 2007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ang YF, He Y, Zhu CZ, Cao QJ, Sui MQ, et al.  (2007) Altered baseline brain activity in children with ADHD revealed by resting-state functional MRI. Brain Dev 29: 83–91. 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2349360"/>
            <a:ext cx="3960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LFF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Amplitude of Low Frequency Fluctu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)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0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3960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ALFF</a:t>
            </a:r>
            <a:br>
              <a:rPr sz="36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fractional ALFF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0360" y="537264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Zou et al., 2008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640080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ou QH, Zhu CZ, Yang Y, Zuo XN, Long XY, et al. (2008) An improved approach to detection of amplitude of low-frequency fluctuation (ALFF) for resting-state fMRI: fractional ALFF. J Neurosci Methods 172: 137-141.</a:t>
            </a:r>
            <a:endParaRPr b="0" lang="en-US" sz="1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29034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202440" y="4869000"/>
            <a:ext cx="293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PCC: posterior cingulate cortex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隶书"/>
              </a:rPr>
              <a:t>SC: suprasellar cistern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6920" y="4365720"/>
            <a:ext cx="3529080" cy="215640"/>
            <a:chOff x="826920" y="4365720"/>
            <a:chExt cx="3529080" cy="215640"/>
          </a:xfrm>
        </p:grpSpPr>
        <p:sp>
          <p:nvSpPr>
            <p:cNvPr id="571" name=""/>
            <p:cNvSpPr/>
            <p:nvPr/>
          </p:nvSpPr>
          <p:spPr>
            <a:xfrm>
              <a:off x="82692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5600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26920" y="4437000"/>
              <a:ext cx="3529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042920" y="4365720"/>
            <a:ext cx="1081080" cy="215640"/>
            <a:chOff x="1042920" y="4365720"/>
            <a:chExt cx="1081080" cy="215640"/>
          </a:xfrm>
        </p:grpSpPr>
        <p:sp>
          <p:nvSpPr>
            <p:cNvPr id="575" name=""/>
            <p:cNvSpPr/>
            <p:nvPr/>
          </p:nvSpPr>
          <p:spPr>
            <a:xfrm>
              <a:off x="104292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24000" y="436572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42920" y="4437000"/>
              <a:ext cx="1081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4427640" y="1844640"/>
            <a:ext cx="4321080" cy="28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826920" y="4508640"/>
            <a:ext cx="3529080" cy="215640"/>
            <a:chOff x="826920" y="4508640"/>
            <a:chExt cx="3529080" cy="215640"/>
          </a:xfrm>
        </p:grpSpPr>
        <p:sp>
          <p:nvSpPr>
            <p:cNvPr id="580" name=""/>
            <p:cNvSpPr/>
            <p:nvPr/>
          </p:nvSpPr>
          <p:spPr>
            <a:xfrm>
              <a:off x="826920" y="450864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000" y="4508640"/>
              <a:ext cx="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6920" y="4579920"/>
              <a:ext cx="3529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2349360"/>
            <a:ext cx="1081080" cy="201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92720" y="2349360"/>
            <a:ext cx="1081080" cy="201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0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58836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1045080" y="2781360"/>
            <a:ext cx="39610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L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67280" y="907920"/>
            <a:ext cx="3384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08360" y="2421000"/>
            <a:ext cx="187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348000" y="3860640"/>
            <a:ext cx="3672000" cy="50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19640" y="5445000"/>
            <a:ext cx="1873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92360" y="5950080"/>
            <a:ext cx="4535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68360" y="6308640"/>
            <a:ext cx="6264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804000" y="4653000"/>
            <a:ext cx="1728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708360" y="2781360"/>
            <a:ext cx="1871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-900000" y="4292640"/>
            <a:ext cx="3960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fALFF: </a:t>
            </a:r>
            <a:br>
              <a:rPr sz="36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 NOT filter!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2" dur="1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79280" y="2565360"/>
            <a:ext cx="23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659640" cy="357984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ALFF and fAL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9280" y="4724280"/>
            <a:ext cx="23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et the mALFF - 1 or (mfALFF - 1) data for one sample T test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84360" y="3284640"/>
            <a:ext cx="8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308720" y="3284640"/>
            <a:ext cx="183528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419640" y="3284640"/>
            <a:ext cx="792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3284640"/>
            <a:ext cx="2808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9280" y="3108240"/>
            <a:ext cx="23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DO NOT delete the detrended files before filter. DPARSF will calculated the fALFF based on data before filter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0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4" dur="1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22906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Out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00000" y="155736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verview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ata Prepar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reproces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Ho, ALFF, fALFF Calculation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unctional Connectivity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Utiliti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2920" y="5156280"/>
            <a:ext cx="468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8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4087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6920" y="1628640"/>
            <a:ext cx="74170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motion parameters: rp_name.txt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Global mean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 matter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erebrospinal fluid signal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4" dur="1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2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5940360" y="450864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0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763640" y="568440"/>
            <a:ext cx="7380360" cy="55990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2771640" y="2637000"/>
            <a:ext cx="504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80360" y="4508640"/>
            <a:ext cx="1152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30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0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2" dur="1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18874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Information of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235080"/>
            <a:ext cx="7812360" cy="662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547560" y="1204920"/>
          <a:ext cx="8212320" cy="524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560" y="1204920"/>
                    <a:ext cx="821232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35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8" dur="1" fill="hold"/>
                                        <p:tgtEl>
                                          <p:spTgt spid="6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124000" y="2060640"/>
            <a:ext cx="863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484360" y="3573360"/>
            <a:ext cx="2664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1" name=""/>
          <p:cNvSpPr/>
          <p:nvPr/>
        </p:nvSpPr>
        <p:spPr>
          <a:xfrm>
            <a:off x="6480000" y="6021360"/>
            <a:ext cx="13320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3" dur="indefinite" restart="never" nodeType="tmRoot">
          <p:childTnLst>
            <p:seq>
              <p:cTn id="2024" dur="indefinite" nodeType="mainSeq">
                <p:childTnLst>
                  <p:par>
                    <p:cTn id="2025" fill="hold">
                      <p:stCondLst>
                        <p:cond delay="0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8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7056360" cy="525780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4067280" y="4869000"/>
            <a:ext cx="338436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7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0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0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80360" cy="50259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763640" y="5516640"/>
            <a:ext cx="547236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52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-108000" y="4076640"/>
            <a:ext cx="19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xtract one subject’s Covariat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5" dur="indefinite" restart="never" nodeType="tmRoot">
          <p:childTnLst>
            <p:seq>
              <p:cTn id="2056" dur="indefinite" nodeType="mainSeq">
                <p:childTnLst>
                  <p:par>
                    <p:cTn id="2057" fill="hold">
                      <p:stCondLst>
                        <p:cond delay="0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0" dur="1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8720" cy="49719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835280" y="544500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58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-108000" y="4076640"/>
            <a:ext cx="19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xtract multi subjects’ Covariates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0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4" dur="1" fill="hold"/>
                                        <p:tgtEl>
                                          <p:spTgt spid="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1763640" y="568440"/>
            <a:ext cx="7380360" cy="55990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3564000" y="5229360"/>
            <a:ext cx="252072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308720" y="5300640"/>
            <a:ext cx="12970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5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8" dur="1" fill="hold"/>
                                        <p:tgtEl>
                                          <p:spTgt spid="6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3887640" cy="29307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1908000" y="1916280"/>
            <a:ext cx="100836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70" name=""/>
          <p:cNvSpPr/>
          <p:nvPr/>
        </p:nvSpPr>
        <p:spPr>
          <a:xfrm>
            <a:off x="2987640" y="1916280"/>
            <a:ext cx="216072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08000" y="328464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7200720" cy="26748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9" dur="indefinite" restart="never" nodeType="tmRoot">
          <p:childTnLst>
            <p:seq>
              <p:cTn id="2100" dur="indefinite" nodeType="mainSeq">
                <p:childTnLst>
                  <p:par>
                    <p:cTn id="2101" fill="hold">
                      <p:stCondLst>
                        <p:cond delay="0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4" dur="1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67694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26920" y="1628640"/>
            <a:ext cx="720108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Extract Covariate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Head motion parameters: rp_name.t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Global mean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 matter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erebrospinal fluid signal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Combine the covariates for future using in RES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71640" y="4581360"/>
            <a:ext cx="7634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RPCov=load('rp_name.txt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BCWCov=load('ROI_FCMap_name.txt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=[RPCov,BCWCov]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ave('Cov.txt', 'Cov', '-ASCII', '-DOUBLE','-TABS');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8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43640" cy="39718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4572000" y="465300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1" name=""/>
          <p:cNvSpPr/>
          <p:nvPr/>
        </p:nvSpPr>
        <p:spPr>
          <a:xfrm>
            <a:off x="-71280" y="2205000"/>
            <a:ext cx="197928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639880" cy="602136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5940360" y="3789360"/>
            <a:ext cx="194472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0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6" dur="1" fill="hold"/>
                                        <p:tgtEl>
                                          <p:spTgt spid="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6696360" cy="59929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843280" y="2205000"/>
            <a:ext cx="4537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96360" y="4869000"/>
            <a:ext cx="64764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89" name=""/>
          <p:cNvSpPr/>
          <p:nvPr/>
        </p:nvSpPr>
        <p:spPr>
          <a:xfrm>
            <a:off x="-181080" y="2205000"/>
            <a:ext cx="19796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Extract 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2050920" y="404640"/>
            <a:ext cx="6697800" cy="34801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2629080" y="2638440"/>
            <a:ext cx="4536720" cy="2085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415280" y="5229360"/>
            <a:ext cx="1728720" cy="360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51280" y="5445000"/>
            <a:ext cx="1657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72360" y="5516640"/>
            <a:ext cx="122400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fill="hold">
                      <p:stCondLst>
                        <p:cond delay="0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396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ata prepa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91628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information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the MRI data of the subjects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059280" y="4560840"/>
            <a:ext cx="576000" cy="1441440"/>
          </a:xfrm>
          <a:custGeom>
            <a:avLst/>
            <a:gdLst>
              <a:gd name="textAreaLeft" fmla="*/ 0 w 576000"/>
              <a:gd name="textAreaRight" fmla="*/ 208080 w 57600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4200480"/>
            <a:ext cx="511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MR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Structural MR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DTI data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6659640" cy="31669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79280" y="2565360"/>
            <a:ext cx="237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rp*.txt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56000" y="3357720"/>
            <a:ext cx="266364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92720" y="3354480"/>
            <a:ext cx="2087640" cy="36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9280" y="4724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CsfMask_07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80360" y="3429000"/>
            <a:ext cx="176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490920" y="3716280"/>
            <a:ext cx="16574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219640" y="3716280"/>
            <a:ext cx="2195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79280" y="31082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BrainMask_05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nuisance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08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hiteMask_09_61x73x6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0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8" dur="1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6588000" cy="310032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627280" y="3645000"/>
            <a:ext cx="266400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451640" y="4005360"/>
            <a:ext cx="151308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2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20" name=""/>
          <p:cNvSpPr/>
          <p:nvPr/>
        </p:nvSpPr>
        <p:spPr>
          <a:xfrm>
            <a:off x="-10800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0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6" dur="1" fill="hold"/>
                                        <p:tgtEl>
                                          <p:spTgt spid="7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1835280" y="217440"/>
            <a:ext cx="6184800" cy="652464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2050920" y="765000"/>
            <a:ext cx="172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050920" y="2133720"/>
            <a:ext cx="79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24000" y="3573360"/>
            <a:ext cx="2376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979640" y="4869000"/>
            <a:ext cx="583236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659640" y="6237360"/>
            <a:ext cx="122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860640"/>
            <a:ext cx="19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ROI file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-108000" y="2205000"/>
            <a:ext cx="19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Regress out Covariates</a:t>
            </a:r>
            <a:endParaRPr b="0" lang="en-US" sz="23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1" dur="indefinite" restart="never" nodeType="tmRoot">
          <p:childTnLst>
            <p:seq>
              <p:cTn id="2312" dur="indefinite" nodeType="mainSeq">
                <p:childTnLst>
                  <p:par>
                    <p:cTn id="2313" fill="hold">
                      <p:stCondLst>
                        <p:cond delay="0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6" dur="1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556000" y="2781360"/>
            <a:ext cx="6588000" cy="31003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0" y="2492280"/>
            <a:ext cx="25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 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629080" y="3716280"/>
            <a:ext cx="266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4000" y="3645000"/>
            <a:ext cx="2087640" cy="36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547640" y="333360"/>
            <a:ext cx="6769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Regress out Covariates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3" dur="indefinite" restart="never" nodeType="tmRoot">
          <p:childTnLst>
            <p:seq>
              <p:cTn id="2354" dur="indefinite" nodeType="mainSeq">
                <p:childTnLst>
                  <p:par>
                    <p:cTn id="2355" fill="hold">
                      <p:stCondLst>
                        <p:cond delay="0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8" dur="1" fill="hold"/>
                                        <p:tgtEl>
                                          <p:spTgt spid="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280360" cy="296532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411280" y="476280"/>
            <a:ext cx="54007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gress out Covari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68360" y="1341360"/>
            <a:ext cx="85327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隶书"/>
              </a:rPr>
              <a:t>Arrange each subject's covariates (each covariate in one column) in one directory, and then put them in “RealignParameter" directory under the working directory.</a:t>
            </a:r>
            <a:endParaRPr b="0" lang="en-US" sz="2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4149720"/>
            <a:ext cx="201600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90000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Each covariate in one column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276720" y="3141720"/>
            <a:ext cx="576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692360" y="4869000"/>
            <a:ext cx="720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76720" y="6165720"/>
            <a:ext cx="586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RealignParameter directory, please name as this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24000" y="3141720"/>
            <a:ext cx="1152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332000" y="4724280"/>
            <a:ext cx="1439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58920" y="3141720"/>
            <a:ext cx="8650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16000" y="4076640"/>
            <a:ext cx="934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7964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Subject 1’s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771640" y="6308640"/>
            <a:ext cx="586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Working directory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7" dur="indefinite" restart="never" nodeType="tmRoot">
          <p:childTnLst>
            <p:seq>
              <p:cTn id="2378" dur="indefinite" nodeType="mainSeq">
                <p:childTnLst>
                  <p:par>
                    <p:cTn id="2379" fill="hold">
                      <p:stCondLst>
                        <p:cond delay="0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2" dur="1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700000" y="476280"/>
            <a:ext cx="51116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ce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Voxel-wis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ROI-wis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1657440" cy="19717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1685880" cy="201924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"/>
          <a:stretch/>
        </p:blipFill>
        <p:spPr>
          <a:xfrm>
            <a:off x="3708360" y="1557360"/>
            <a:ext cx="1695600" cy="200016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84720" y="1484280"/>
            <a:ext cx="1729080" cy="2089080"/>
          </a:xfrm>
          <a:prstGeom prst="rect">
            <a:avLst/>
          </a:prstGeom>
          <a:solidFill>
            <a:srgbClr val="003399"/>
          </a:solidFill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67280" y="191628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3708360" y="3573360"/>
            <a:ext cx="1695600" cy="20005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6084720" y="3573360"/>
            <a:ext cx="1705320" cy="206712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5219640" y="5805360"/>
            <a:ext cx="16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r=0.36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6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0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2" dur="1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1" dur="3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3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2464" dur="3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95960" cy="648000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1547640" y="2781360"/>
            <a:ext cx="1295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1" dur="indefinite" restart="never" nodeType="tmRoot">
          <p:childTnLst>
            <p:seq>
              <p:cTn id="2502" dur="indefinite" nodeType="mainSeq">
                <p:childTnLst>
                  <p:par>
                    <p:cTn id="2503" fill="hold">
                      <p:stCondLst>
                        <p:cond delay="0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6" dur="1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15600" y="134136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1835280" y="217440"/>
            <a:ext cx="6184800" cy="652464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2050920" y="765000"/>
            <a:ext cx="1729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50920" y="2133720"/>
            <a:ext cx="79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24000" y="3068640"/>
            <a:ext cx="3672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124000" y="3284640"/>
            <a:ext cx="4032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24000" y="3573360"/>
            <a:ext cx="2376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979640" y="4869000"/>
            <a:ext cx="583236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659640" y="6237360"/>
            <a:ext cx="122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124000" y="2852640"/>
            <a:ext cx="4608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50920" y="692280"/>
            <a:ext cx="180036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860640"/>
            <a:ext cx="19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ROI file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132000" y="3141720"/>
            <a:ext cx="4392720" cy="237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Seed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Seed_Time_Course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Seed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1" dur="indefinite" restart="never" nodeType="tmRoot">
          <p:childTnLst>
            <p:seq>
              <p:cTn id="2512" dur="indefinite" nodeType="mainSeq">
                <p:childTnLst>
                  <p:par>
                    <p:cTn id="2513" fill="hold">
                      <p:stCondLst>
                        <p:cond delay="0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6" dur="1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919680" cy="583236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5076720" y="522936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89" name=""/>
          <p:cNvSpPr/>
          <p:nvPr/>
        </p:nvSpPr>
        <p:spPr>
          <a:xfrm>
            <a:off x="2700360" y="5229360"/>
            <a:ext cx="23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fill="hold">
                      <p:stCondLst>
                        <p:cond delay="0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0" dur="1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1280" y="191628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被试信息整理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原始数据整理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777080" cy="6861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800680" cy="619308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3348000" y="6093000"/>
            <a:ext cx="11527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95" name=""/>
          <p:cNvSpPr/>
          <p:nvPr/>
        </p:nvSpPr>
        <p:spPr>
          <a:xfrm>
            <a:off x="2268360" y="1628640"/>
            <a:ext cx="5399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1" dur="indefinite" restart="never" nodeType="tmRoot">
          <p:childTnLst>
            <p:seq>
              <p:cTn id="2602" dur="indefinite" nodeType="mainSeq">
                <p:childTnLst>
                  <p:par>
                    <p:cTn id="2603" fill="hold">
                      <p:stCondLst>
                        <p:cond delay="0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6" dur="1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697800" cy="494496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3780000" y="5157720"/>
            <a:ext cx="3240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7" dur="indefinite" restart="never" nodeType="tmRoot">
          <p:childTnLst>
            <p:seq>
              <p:cTn id="2618" dur="indefinite" nodeType="mainSeq">
                <p:childTnLst>
                  <p:par>
                    <p:cTn id="2619" fill="hold">
                      <p:stCondLst>
                        <p:cond delay="0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6077160" cy="4353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3780000" y="2492280"/>
            <a:ext cx="433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0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2" dur="1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282000" cy="65246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xel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10" name=""/>
          <p:cNvSpPr/>
          <p:nvPr/>
        </p:nvSpPr>
        <p:spPr>
          <a:xfrm>
            <a:off x="3059280" y="2781360"/>
            <a:ext cx="129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843280" y="5516640"/>
            <a:ext cx="180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843280" y="5950080"/>
            <a:ext cx="446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12000" y="4724280"/>
            <a:ext cx="1728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43280" y="4149720"/>
            <a:ext cx="4897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19280" y="6381720"/>
            <a:ext cx="576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924360" y="1268280"/>
            <a:ext cx="37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812000" y="4076640"/>
            <a:ext cx="18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CovList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132000" y="3141720"/>
            <a:ext cx="4537080" cy="316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6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5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4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264360" cy="18954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0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2" dur="1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95960" cy="64800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1547640" y="3357720"/>
            <a:ext cx="1295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3" dur="indefinite" restart="never" nodeType="tmRoot">
          <p:childTnLst>
            <p:seq>
              <p:cTn id="2704" dur="indefinite" nodeType="mainSeq">
                <p:childTnLst>
                  <p:par>
                    <p:cTn id="2705" fill="hold">
                      <p:stCondLst>
                        <p:cond delay="0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8" dur="1" fill="hold"/>
                                        <p:tgtEl>
                                          <p:spTgt spid="8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3" dur="indefinite" restart="never" nodeType="tmRoot">
          <p:childTnLst>
            <p:seq>
              <p:cTn id="2714" dur="indefinite" nodeType="mainSeq">
                <p:childTnLst>
                  <p:par>
                    <p:cTn id="2715" fill="hold">
                      <p:stCondLst>
                        <p:cond delay="0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8" dur="1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282000" cy="652464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544320" y="2060640"/>
            <a:ext cx="729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I-wise</a:t>
            </a:r>
            <a:endParaRPr b="0" lang="en-US" sz="3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35" name=""/>
          <p:cNvSpPr/>
          <p:nvPr/>
        </p:nvSpPr>
        <p:spPr>
          <a:xfrm>
            <a:off x="3059280" y="2781360"/>
            <a:ext cx="1296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3280" y="5516640"/>
            <a:ext cx="1800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43280" y="5950080"/>
            <a:ext cx="4465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012000" y="4724280"/>
            <a:ext cx="1728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843280" y="4149720"/>
            <a:ext cx="48974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19280" y="6381720"/>
            <a:ext cx="576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924360" y="1268280"/>
            <a:ext cx="374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812000" y="4076640"/>
            <a:ext cx="18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CovList.t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132000" y="3141720"/>
            <a:ext cx="4537080" cy="316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CovList.txt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Covariables_List: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6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5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4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3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2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X:\Process\Sub1Cov.t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264360" cy="189540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7" dur="indefinite" restart="never" nodeType="tmRoot">
          <p:childTnLst>
            <p:seq>
              <p:cTn id="2738" dur="indefinite" nodeType="mainSeq">
                <p:childTnLst>
                  <p:par>
                    <p:cTn id="2739" fill="hold">
                      <p:stCondLst>
                        <p:cond delay="0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2" dur="1" fill="hold"/>
                                        <p:tgtEl>
                                          <p:spTgt spid="8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6551640" cy="35276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0" y="219384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Without former steps: Data arranged in FunImgNormalizedDetrendedFilteredCovremoved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or FunImgNormalizedSmoothedDetrendedFilteredCovremoved directory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79280" y="2565360"/>
            <a:ext cx="23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Please ensure the resolution of your own mask is the same as your functional data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556000" y="2492280"/>
            <a:ext cx="1224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788000" y="2492280"/>
            <a:ext cx="4176720" cy="362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643280" y="4508640"/>
            <a:ext cx="194472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732720" y="4508640"/>
            <a:ext cx="1224000" cy="43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3" dur="indefinite" restart="never" nodeType="tmRoot">
          <p:childTnLst>
            <p:seq>
              <p:cTn id="2804" dur="indefinite" nodeType="mainSeq">
                <p:childTnLst>
                  <p:par>
                    <p:cTn id="2805" fill="hold">
                      <p:stCondLst>
                        <p:cond delay="0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8" dur="1" fill="hold"/>
                                        <p:tgtEl>
                                          <p:spTgt spid="8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08720" cy="494064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7020000" y="5157720"/>
            <a:ext cx="108108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960" y="1916280"/>
            <a:ext cx="6069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ctional Connectivity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989680" cy="640872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763640" y="1052640"/>
            <a:ext cx="6553440" cy="507996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5" dur="indefinite" restart="never" nodeType="tmRoot">
          <p:childTnLst>
            <p:seq>
              <p:cTn id="2846" dur="indefinite" nodeType="mainSeq">
                <p:childTnLst>
                  <p:par>
                    <p:cTn id="2847" fill="hold">
                      <p:stCondLst>
                        <p:cond delay="0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0" dur="1" fill="hold"/>
                                        <p:tgtEl>
                                          <p:spTgt spid="8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5543280" cy="298440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0" y="2193840"/>
            <a:ext cx="363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You will get the Voxel-wise functional connectivity results of each ROI in {working directory}\Results\FC: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zROI1FCMap_Sub_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zROI2FCMap_Sub_001.img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08000" y="5084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For ROI-wise results, please see Part Utilities: Extract ROI time courses.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48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unctional Conne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26920" y="1628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PARSF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1" fill="hold"/>
                                        <p:tgtEl>
                                          <p:spTgt spid="8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3:17:48Z</dcterms:created>
  <dc:creator>ibm</dc:creator>
  <dc:description/>
  <dc:language>en-US</dc:language>
  <cp:lastModifiedBy>YAN Chao-Gan</cp:lastModifiedBy>
  <dcterms:modified xsi:type="dcterms:W3CDTF">2012-10-21T03:59:24Z</dcterms:modified>
  <cp:revision>2131</cp:revision>
  <dc:subject/>
  <dc:title>幻灯片 1</dc:title>
</cp:coreProperties>
</file>