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4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92.png" ContentType="image/png"/>
  <Override PartName="/ppt/media/image27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23.png" ContentType="image/png"/>
  <Override PartName="/ppt/media/image60.png" ContentType="image/png"/>
  <Override PartName="/ppt/media/image95.png" ContentType="image/png"/>
  <Override PartName="/ppt/media/image69.png" ContentType="image/png"/>
  <Override PartName="/ppt/media/image71.png" ContentType="image/png"/>
  <Override PartName="/ppt/media/image89.png" ContentType="image/png"/>
  <Override PartName="/ppt/media/image77.png" ContentType="image/png"/>
  <Override PartName="/ppt/media/image40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6.png" ContentType="image/png"/>
  <Override PartName="/ppt/media/image81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1.png" ContentType="image/png"/>
  <Override PartName="/ppt/media/image26.png" ContentType="image/png"/>
  <Override PartName="/ppt/media/image29.png" ContentType="image/png"/>
  <Override PartName="/ppt/media/image94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0.png" ContentType="image/png"/>
  <Override PartName="/ppt/media/image25.png" ContentType="image/png"/>
  <Override PartName="/ppt/media/image6.png" ContentType="image/png"/>
  <Override PartName="/ppt/media/image18.png" ContentType="image/png"/>
  <Override PartName="/ppt/media/image8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C393-137E-4629-A652-2AE48B6D791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18EC-82C1-46E4-84A3-21FAEADAE2A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A952-7E22-4251-BE2A-107255DC689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DD25-F29A-4CB0-99FF-9E842BE8B5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84A1-DC81-46DF-913E-6229E541712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D7A0-E999-4ACB-A844-B33C3C2ED7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6261-6DAD-4A8B-A416-2C279AB4F79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6068-5D6D-4F3D-8EF4-8B5DEA5AD13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36C5-996F-4F67-98C0-8EE1D93FDE6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B707-020F-48A9-8536-13DFDBB5F10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FF87-C08A-4670-97BF-38BBD57D67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1FD2-0FE4-460D-954A-C6517F0020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EB8A-F333-42FF-9EEA-EAB8A884EFA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D74F-DCE5-43F4-9551-70E4EE75907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0598-4CB5-4745-AF9E-2DF963B29A2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8D71-BBE9-4767-8D72-CB94B6F964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6DD8-8C9F-42E7-8674-426E43C09F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D4AF-1EC1-4BDF-86AC-6AC738B6C54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6561-D1D6-40E9-BF6D-E785E520C27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11C3-5212-4174-A0F2-122350C0BC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E7B5-E192-4E01-8BB6-51EDE077DD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EEE4-539D-48BC-8DD3-DD1B4E9F8FE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B4A4-24DF-4A17-B46F-3BAA5AE360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8E7E-D06C-42D4-A045-B5B45650754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C6C9-13DA-4B06-928E-45E593E4975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3DC3-2467-4323-96E9-496B36579CC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D176-588E-4005-AF6A-C87AAEB275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2ECB-3E75-4FDC-B463-AB9E188780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4DB9-7D4A-49D9-A814-52D81DC9F9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B6DF-DB21-45C0-9635-98AE70607E5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5697-D4A5-4082-B159-8530A674E3A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F0A2-B387-4E79-86F0-7E513862DD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BDB6-4D05-46FC-940A-8A8818FD5F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6099-DD91-405F-916D-AB45BBA98DC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6630-C06B-447B-B326-3DABD7FB6C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5D69-8C98-425E-ACA2-0B6FBCA9E34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0D6E-CFF9-42B4-B66A-513A07FA220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857A-6709-4C9E-BF3E-AF88FFFD3E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956F-A388-45EF-A9A9-2A65037BB4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0559-FDFB-4AD4-B319-1D0F1BADB2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5E06-4092-48D7-ADDD-BFB8C2EFB4C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8CC5-7E1B-4422-B7A4-F5769CC033A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3FF1-109D-4F08-84E6-BD1CEBF8284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FB3A-D9B0-43AF-8D6D-F4A3E7B71D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0AA8-90F0-46C6-B667-A5206841504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4611-5FF1-4D0D-9A61-26C6F789B95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E83A-DAFC-4823-9F56-134B5F35D9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2CCF-1ADC-42B3-B0D9-930285DACA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D889-61C4-45FF-979A-29599E71628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DE63-2F8E-4DDA-A83B-F27AAE3D37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C308-68BE-4C31-AF7B-25A20863BA7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FBB8-13F7-40F3-874D-312528B22D2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6E83-9D00-4D40-8421-7D7D8244063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EFB7-CDA9-4290-A7CE-4BB6F173D6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5E77-1AB9-4F5B-97DB-57AA15514D6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7102-263F-4D18-B8DD-F782C66A3EA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20A4-E9E5-4A67-B2F1-2D32E56447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094B-03E4-4E1F-B90A-95D3BBA878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A095-1789-4967-B725-DC020514007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438B-52D8-4EC3-909F-A3CED654AE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4D3B-1B92-4C94-A1FD-7E64049E654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857A-618D-4353-BAA6-2E8B4DD0ADD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31B4-B1B7-4DA3-A058-6000B02FDB7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C9E7-4FFB-465B-B519-9CD780648D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DF08-E73A-4087-B2AD-02553B6592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EF7E-B5EA-44C1-AABB-B71EBBF6006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3A23-F797-45EF-A154-6EB11B9775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232A-C093-467A-B5C1-11F1B7AC229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A349-DE89-425C-8E33-40FAF9EC148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92F0-C515-4791-8EBA-DFE5C71D54E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F569-55A3-43B2-A9DA-1825D8F80A2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0547-3B82-44DD-90E7-7C5776FB47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E73B-5095-433C-88F8-5BA7A0AA0D9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06E1-2B4A-44F6-8FA5-48EEB6EC1E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1745-0FF8-45E2-95CF-33E85A89EA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6E87-1962-4AC7-97D3-7CC88965D2A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B01D-0A2D-4AB4-9D1A-9BFA718ABE7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C63B-C99B-477E-9686-0D415592B3C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6C3B-C52C-4147-AD0D-FEB769FA10C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A868-0362-48AA-A9BE-2C730FE79D2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0D27-73D2-4E4A-B83B-EE5FE4800E0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22C3-2CFC-45CD-98DF-2943B832799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FF4C-19C4-4450-9828-4B4D82E4DC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78B0-9FE2-46E5-B1E6-B5168F053E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2000-544A-400C-8F28-3015038B401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C24F-8188-41FB-81D6-B7D13186D35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B9DA-0085-41D1-ABF3-3B4A3BD307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72F7-93B1-4A2E-A876-E94D5FC8C9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35CF-6A0D-4189-B85D-6AB5CB1CCD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1C66-FF62-4C6E-BB27-CE46FDA444F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D211-FBEE-401B-9A77-41533A6E9FC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CD78-1D0D-42EC-9B3F-4CF20A485CA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56C3-C45B-41FE-98D7-2B7ABC1A199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1A0F-82E2-4771-9DBF-9C82EFA5E4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9BFD-71E6-4D28-BA83-5CBEB0A34B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94CB-366B-4501-ACC5-37DF215CB30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3918-49F0-43AB-B204-F456AFF2046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93CA-BA40-4B60-A3A6-7506BC0B31B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CB75-0493-4F0B-B649-AF96CFB4AB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5D80-27C6-4977-962D-7DA87F2558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8409-9733-4468-866F-0BFCC2B823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C5EA-E67F-451A-8C83-F5503341DBF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E7E1-4A5F-4005-B338-F95C83FB75A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D5CB-D9A6-4E94-8761-66DB2CD6AC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6365-E654-4743-B6CD-54CDB7A48B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F3AA-3441-4F65-909C-301737FA0B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F35D-2795-4DEB-B924-3AF04C32E0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CAB1-39D4-466B-9505-F5DA6579672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91BE-ADB2-4A3D-BDE0-3A357AB7E86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b1e2f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1e2f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8604000" y="6536880"/>
            <a:ext cx="539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b1e2f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1e2fb"/>
                </a:solidFill>
                <a:latin typeface="Arial"/>
              </a:rPr>
              <a:t>&lt;footer&gt;</a:t>
            </a:r>
            <a:fld id="{3EF59DAD-D660-415A-BA67-01559224B154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9600" y="41400"/>
            <a:ext cx="1219320" cy="122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2" name="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9360" y="2747880"/>
              <a:ext cx="9183600" cy="1420920"/>
            </a:xfrm>
            <a:custGeom>
              <a:avLst/>
              <a:gdLst/>
              <a:ahLst/>
              <a:rect l="l" t="t" r="r" b="b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9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9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9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280" y="622440"/>
            <a:ext cx="6696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楷体_GB2312"/>
              </a:rPr>
              <a:t>Data Processing Assistant for Resting-State fMRI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楷体_GB2312"/>
              </a:rPr>
              <a:t>Speed Up Your Data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9480" y="3068640"/>
            <a:ext cx="636192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YAN Chao-Gan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严超赣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Ph. D.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ycg.yan@gmail.com</a:t>
            </a:r>
            <a:br>
              <a:rPr sz="2400"/>
            </a:b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State Key Laboratory of Cognitive Neuroscience and Learning,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Beijing Normal University, China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16360" y="0"/>
            <a:ext cx="532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Course: Data Processing of Resting-State fMRI (Part 1)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9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Sort DICOM data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156360" y="616572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900000" y="155736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verview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Prepar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reproces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Ho, ALFF, fALFF Calcul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Connectivity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Utiliti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42920" y="595008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9" dur="indefinite" restart="never" nodeType="tmRoot">
          <p:childTnLst>
            <p:seq>
              <p:cTn id="2890" dur="indefinite" nodeType="mainSeq">
                <p:childTnLst>
                  <p:par>
                    <p:cTn id="2891" fill="hold">
                      <p:stCondLst>
                        <p:cond delay="0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4" dur="1" fill="hold"/>
                                        <p:tgtEl>
                                          <p:spTgt spid="8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6480360" cy="344808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0" y="2193840"/>
            <a:ext cx="2519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Covremov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FilteredCovremoved 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ROI time cour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556000" y="4437000"/>
            <a:ext cx="2016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659640" y="4437000"/>
            <a:ext cx="12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5" dur="indefinite" restart="never" nodeType="tmRoot">
          <p:childTnLst>
            <p:seq>
              <p:cTn id="2896" dur="indefinite" nodeType="mainSeq">
                <p:childTnLst>
                  <p:par>
                    <p:cTn id="2897" fill="hold">
                      <p:stCondLst>
                        <p:cond delay="0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0" dur="1" fill="hold"/>
                                        <p:tgtEl>
                                          <p:spTgt spid="8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fill="hold">
                      <p:stCondLst>
                        <p:cond delay="indefinite"/>
                      </p:stCondLst>
                      <p:childTnLst>
                        <p:par>
                          <p:cTn id="2902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6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7" fill="hold">
                      <p:stCondLst>
                        <p:cond delay="indefinite"/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408720" cy="49406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7020000" y="5157720"/>
            <a:ext cx="108108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43960" y="1916280"/>
            <a:ext cx="6069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tract ROI time courses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989680" cy="640872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3"/>
          <a:stretch/>
        </p:blipFill>
        <p:spPr>
          <a:xfrm>
            <a:off x="1763640" y="1052640"/>
            <a:ext cx="6553440" cy="507996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9" dur="indefinite" restart="never" nodeType="tmRoot">
          <p:childTnLst>
            <p:seq>
              <p:cTn id="2920" dur="indefinite" nodeType="mainSeq">
                <p:childTnLst>
                  <p:par>
                    <p:cTn id="2921" fill="hold">
                      <p:stCondLst>
                        <p:cond delay="0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4" dur="1" fill="hold"/>
                                        <p:tgtEl>
                                          <p:spTgt spid="8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5" fill="hold">
                      <p:stCondLst>
                        <p:cond delay="indefinite"/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9" fill="hold">
                      <p:stCondLst>
                        <p:cond delay="indefinite"/>
                      </p:stCondLst>
                      <p:childTnLst>
                        <p:par>
                          <p:cTn id="2930" fill="hold">
                            <p:stCondLst>
                              <p:cond delay="0"/>
                            </p:stCondLst>
                            <p:childTnLst>
                              <p:par>
                                <p:cTn id="29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7" fill="hold">
                      <p:stCondLst>
                        <p:cond delay="indefinite"/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4356000" y="1700280"/>
            <a:ext cx="4535640" cy="241308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0" y="2193840"/>
            <a:ext cx="42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in {working direcotry}\FunImgNormalizedDetrendedFilteredCovremoved_RESTdefinedROITC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ROI time cour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429264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ub_001_ROITimeCourses.txt: Time courses, each column represent a time course of one ROI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ub_001_ResultCorr.txt: ROI-wise Functional Connectivit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3" dur="indefinite" restart="never" nodeType="tmRoot">
          <p:childTnLst>
            <p:seq>
              <p:cTn id="2944" dur="indefinite" nodeType="mainSeq">
                <p:childTnLst>
                  <p:par>
                    <p:cTn id="2945" fill="hold">
                      <p:stCondLst>
                        <p:cond delay="0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8" dur="1" fill="hold"/>
                                        <p:tgtEl>
                                          <p:spTgt spid="8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fill="hold">
                      <p:stCondLst>
                        <p:cond delay="indefinite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9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0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5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6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6480360" cy="3448080"/>
          </a:xfrm>
          <a:prstGeom prst="rect">
            <a:avLst/>
          </a:prstGeom>
          <a:ln w="0">
            <a:noFill/>
          </a:ln>
        </p:spPr>
      </p:pic>
      <p:sp>
        <p:nvSpPr>
          <p:cNvPr id="892" name=""/>
          <p:cNvSpPr/>
          <p:nvPr/>
        </p:nvSpPr>
        <p:spPr>
          <a:xfrm>
            <a:off x="0" y="2193840"/>
            <a:ext cx="2519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Covremov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FilteredCovremoved 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AAL time cour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627280" y="4797360"/>
            <a:ext cx="2881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7" dur="indefinite" restart="never" nodeType="tmRoot">
          <p:childTnLst>
            <p:seq>
              <p:cTn id="2968" dur="indefinite" nodeType="mainSeq">
                <p:childTnLst>
                  <p:par>
                    <p:cTn id="2969" fill="hold">
                      <p:stCondLst>
                        <p:cond delay="0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2" dur="1" fill="hold"/>
                                        <p:tgtEl>
                                          <p:spTgt spid="8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fill="hold">
                      <p:stCondLst>
                        <p:cond delay="indefinite"/>
                      </p:stCondLst>
                      <p:childTnLst>
                        <p:par>
                          <p:cTn id="2974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fill="hold">
                      <p:stCondLst>
                        <p:cond delay="indefinite"/>
                      </p:stCondLst>
                      <p:childTnLst>
                        <p:par>
                          <p:cTn id="2980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5" fill="hold">
                      <p:stCondLst>
                        <p:cond delay="indefinite"/>
                      </p:stCondLst>
                      <p:childTnLst>
                        <p:par>
                          <p:cTn id="2986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4356000" y="1700280"/>
            <a:ext cx="4535640" cy="2413080"/>
          </a:xfrm>
          <a:prstGeom prst="rect">
            <a:avLst/>
          </a:prstGeom>
          <a:ln w="0">
            <a:noFill/>
          </a:ln>
        </p:spPr>
      </p:pic>
      <p:sp>
        <p:nvSpPr>
          <p:cNvPr id="898" name=""/>
          <p:cNvSpPr/>
          <p:nvPr/>
        </p:nvSpPr>
        <p:spPr>
          <a:xfrm>
            <a:off x="0" y="2193840"/>
            <a:ext cx="42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in {working direcotry}\FunImgNormalizedDetrendedFilteredCovremoved_AALTC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AAL time cour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0" y="4292640"/>
            <a:ext cx="8893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ub_001_AALTC.mat: Time courses of each AAL region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9" dur="indefinite" restart="never" nodeType="tmRoot">
          <p:childTnLst>
            <p:seq>
              <p:cTn id="2990" dur="indefinite" nodeType="mainSeq">
                <p:childTnLst>
                  <p:par>
                    <p:cTn id="2991" fill="hold">
                      <p:stCondLst>
                        <p:cond delay="0"/>
                      </p:stCondLst>
                      <p:childTnLst>
                        <p:par>
                          <p:cTn id="2992" fill="hold">
                            <p:stCondLst>
                              <p:cond delay="0"/>
                            </p:stCondLst>
                            <p:childTnLst>
                              <p:par>
                                <p:cTn id="29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4" dur="1" fill="hold"/>
                                        <p:tgtEl>
                                          <p:spTgt spid="9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5" fill="hold">
                      <p:stCondLst>
                        <p:cond delay="indefinite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fill="hold">
                      <p:stCondLst>
                        <p:cond delay="indefinite"/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5" dur="5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6" dur="5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6516720" cy="348588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0" y="2193840"/>
            <a:ext cx="27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ation by using T1 image segmentation: co*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 without Slice Timeing: a*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Change prefix of Im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292720" y="4437000"/>
            <a:ext cx="79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2"/>
          <a:stretch/>
        </p:blipFill>
        <p:spPr>
          <a:xfrm>
            <a:off x="3924360" y="2205000"/>
            <a:ext cx="4103640" cy="178596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4643280" y="2997360"/>
            <a:ext cx="266544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10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7" dur="indefinite" restart="never" nodeType="tmRoot">
          <p:childTnLst>
            <p:seq>
              <p:cTn id="3008" dur="indefinite" nodeType="mainSeq">
                <p:childTnLst>
                  <p:par>
                    <p:cTn id="3009" fill="hold">
                      <p:stCondLst>
                        <p:cond delay="0"/>
                      </p:stCondLst>
                      <p:childTnLst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2" dur="1" fill="hold"/>
                                        <p:tgtEl>
                                          <p:spTgt spid="9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3" fill="hold">
                      <p:stCondLst>
                        <p:cond delay="indefinite"/>
                      </p:stCondLst>
                      <p:childTnLst>
                        <p:par>
                          <p:cTn id="3014" fill="hold">
                            <p:stCondLst>
                              <p:cond delay="0"/>
                            </p:stCondLst>
                            <p:childTnLst>
                              <p:par>
                                <p:cTn id="3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7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fill="hold">
                      <p:stCondLst>
                        <p:cond delay="indefinite"/>
                      </p:stCondLst>
                      <p:childTnLst>
                        <p:par>
                          <p:cTn id="3020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0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2627280" y="1484280"/>
            <a:ext cx="5761080" cy="4375080"/>
          </a:xfrm>
          <a:prstGeom prst="rect">
            <a:avLst/>
          </a:prstGeom>
          <a:ln w="0">
            <a:noFill/>
          </a:ln>
        </p:spPr>
      </p:pic>
      <p:sp>
        <p:nvSpPr>
          <p:cNvPr id="912" name=""/>
          <p:cNvSpPr/>
          <p:nvPr/>
        </p:nvSpPr>
        <p:spPr>
          <a:xfrm>
            <a:off x="0" y="2193840"/>
            <a:ext cx="27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ation by using T1 image segmentation: co*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Change prefix of Im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284720" y="4797360"/>
            <a:ext cx="1079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356000" y="5229360"/>
            <a:ext cx="93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419640" y="3357720"/>
            <a:ext cx="396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572000" y="4797360"/>
            <a:ext cx="576360" cy="358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0" y="4365720"/>
            <a:ext cx="2700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*.img -&gt; ra*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572000" y="5229360"/>
            <a:ext cx="720720" cy="358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ra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156360" y="5084640"/>
            <a:ext cx="100800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5" dur="indefinite" restart="never" nodeType="tmRoot">
          <p:childTnLst>
            <p:seq>
              <p:cTn id="3036" dur="indefinite" nodeType="mainSeq">
                <p:childTnLst>
                  <p:par>
                    <p:cTn id="3037" fill="hold">
                      <p:stCondLst>
                        <p:cond delay="0"/>
                      </p:stCondLst>
                      <p:childTnLst>
                        <p:par>
                          <p:cTn id="3038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0" dur="1" fill="hold"/>
                                        <p:tgtEl>
                                          <p:spTgt spid="9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5" fill="hold">
                      <p:stCondLst>
                        <p:cond delay="indefinite"/>
                      </p:stCondLst>
                      <p:childTnLst>
                        <p:par>
                          <p:cTn id="3046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1" fill="hold">
                      <p:stCondLst>
                        <p:cond delay="indefinite"/>
                      </p:stCondLst>
                      <p:childTnLst>
                        <p:par>
                          <p:cTn id="3052" fill="hold">
                            <p:stCondLst>
                              <p:cond delay="0"/>
                            </p:stCondLst>
                            <p:childTnLst>
                              <p:par>
                                <p:cTn id="30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7" fill="hold">
                      <p:stCondLst>
                        <p:cond delay="indefinite"/>
                      </p:stCondLst>
                      <p:childTnLst>
                        <p:par>
                          <p:cTn id="3058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66" dur="5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7" dur="5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9" fill="hold">
                      <p:stCondLst>
                        <p:cond delay="indefinite"/>
                      </p:stCondLst>
                      <p:childTnLst>
                        <p:par>
                          <p:cTn id="3070" fill="hold">
                            <p:stCondLst>
                              <p:cond delay="0"/>
                            </p:stCondLst>
                            <p:childTnLst>
                              <p:par>
                                <p:cTn id="3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7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1" fill="hold">
                      <p:stCondLst>
                        <p:cond delay="indefinite"/>
                      </p:stCondLst>
                      <p:childTnLst>
                        <p:par>
                          <p:cTn id="3082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fill="hold">
                      <p:stCondLst>
                        <p:cond delay="indefinite"/>
                      </p:stCondLst>
                      <p:childTnLst>
                        <p:par>
                          <p:cTn id="3088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6480360" cy="344808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>
            <a:off x="0" y="219384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ave parameters to *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ave and Load Parame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780000" y="5445000"/>
            <a:ext cx="86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859280" y="5445000"/>
            <a:ext cx="93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0" y="393372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Load parameters from *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3" dur="indefinite" restart="never" nodeType="tmRoot">
          <p:childTnLst>
            <p:seq>
              <p:cTn id="3094" dur="indefinite" nodeType="mainSeq">
                <p:childTnLst>
                  <p:par>
                    <p:cTn id="3095" fill="hold">
                      <p:stCondLst>
                        <p:cond delay="0"/>
                      </p:stCondLst>
                      <p:childTnLst>
                        <p:par>
                          <p:cTn id="3096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8" dur="1" fill="hold"/>
                                        <p:tgtEl>
                                          <p:spTgt spid="9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fill="hold">
                      <p:stCondLst>
                        <p:cond delay="indefinite"/>
                      </p:stCondLst>
                      <p:childTnLst>
                        <p:par>
                          <p:cTn id="3100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fill="hold">
                      <p:stCondLst>
                        <p:cond delay="indefinite"/>
                      </p:stCondLst>
                      <p:childTnLst>
                        <p:par>
                          <p:cTn id="3108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7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8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2484360" y="191628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www.restfmri.ne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Hel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26920" y="138096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questions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826920" y="2749680"/>
            <a:ext cx="79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professional data analysis service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484360" y="3446640"/>
            <a:ext cx="648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Brain Imaging Data Analysis and Consultation Section (BIDACS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bidacs@gmail.com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9" dur="indefinite" restart="never" nodeType="tmRoot">
          <p:childTnLst>
            <p:seq>
              <p:cTn id="3120" dur="indefinite" nodeType="mainSeq">
                <p:childTnLst>
                  <p:par>
                    <p:cTn id="3121" fill="hold">
                      <p:stCondLst>
                        <p:cond delay="0"/>
                      </p:stCondLst>
                      <p:childTnLst>
                        <p:par>
                          <p:cTn id="3122" fill="hold">
                            <p:stCondLst>
                              <p:cond delay="0"/>
                            </p:stCondLst>
                            <p:childTnLst>
                              <p:par>
                                <p:cTn id="3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4" dur="1" fill="hold"/>
                                        <p:tgtEl>
                                          <p:spTgt spid="9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4920" y="476280"/>
            <a:ext cx="6913440" cy="6048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148360" y="1989000"/>
            <a:ext cx="86364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16720" y="1844640"/>
            <a:ext cx="1655640" cy="1079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IMA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dcm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none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3068640"/>
            <a:ext cx="482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5734080"/>
            <a:ext cx="100800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64000" y="4581360"/>
            <a:ext cx="4032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51280" y="5084640"/>
            <a:ext cx="2233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5373720"/>
            <a:ext cx="2233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68360" y="5805360"/>
            <a:ext cx="2016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Thank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331640" y="1412640"/>
            <a:ext cx="287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DONG Zhang-Y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GUO Xiao-Ju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HE Y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LONG Xiang-Yu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SONG Xiao-We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YAO L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ANG Yu-Fe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HANG H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HU Chao-Zh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OU Qi-H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UO Xi-Ni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"/>
          <p:cNvSpPr/>
          <p:nvPr/>
        </p:nvSpPr>
        <p:spPr>
          <a:xfrm>
            <a:off x="5003640" y="4653000"/>
            <a:ext cx="345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All the group members!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076720" y="1341360"/>
            <a:ext cx="35989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SPM Team: Wellcome Department of Imaging Neuroscience, UCL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MRIcroN Team: Chris Rorden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……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5" dur="indefinite" restart="never" nodeType="tmRoot">
          <p:childTnLst>
            <p:seq>
              <p:cTn id="3126" dur="indefinite" nodeType="mainSeq">
                <p:childTnLst>
                  <p:par>
                    <p:cTn id="3127" fill="hold">
                      <p:stCondLst>
                        <p:cond delay="0"/>
                      </p:stCondLst>
                      <p:childTnLst>
                        <p:par>
                          <p:cTn id="3128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0" dur="1" fill="hold"/>
                                        <p:tgtEl>
                                          <p:spTgt spid="9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971640" y="2997000"/>
            <a:ext cx="77976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Thanks for your attention!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1" dur="indefinite" restart="never" nodeType="tmRoot">
          <p:childTnLst>
            <p:seq>
              <p:cTn id="3132" dur="indefinite" nodeType="mainSeq">
                <p:childTnLst>
                  <p:par>
                    <p:cTn id="3133" fill="hold">
                      <p:stCondLst>
                        <p:cond delay="0"/>
                      </p:stCondLst>
                      <p:childTnLst>
                        <p:par>
                          <p:cTn id="3134" fill="hold">
                            <p:stCondLst>
                              <p:cond delay="0"/>
                            </p:stCondLst>
                            <p:childTnLst>
                              <p:par>
                                <p:cTn id="3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6" dur="1" fill="hold"/>
                                        <p:tgtEl>
                                          <p:spTgt spid="9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epa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700280"/>
            <a:ext cx="85327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隶书"/>
              </a:rPr>
              <a:t>Arrange each subject's fMRI DICOM images in one directory, and then put them in "FunRaw" directory under the working directory.</a:t>
            </a:r>
            <a:endParaRPr b="0" lang="en-US" sz="2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8353440" cy="2738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132000" y="3429000"/>
            <a:ext cx="5185080" cy="244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ubject 1’s DICOM fil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314172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19280" y="4653000"/>
            <a:ext cx="720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6165720"/>
            <a:ext cx="586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FunRaw directory, please name as thi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314172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58920" y="4508640"/>
            <a:ext cx="792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58920" y="3141720"/>
            <a:ext cx="865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4292640"/>
            <a:ext cx="9349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ubject 1’s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1640" y="6308640"/>
            <a:ext cx="586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Working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8353440" cy="27655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epa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700280"/>
            <a:ext cx="85327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隶书"/>
              </a:rPr>
              <a:t>Arrange each subject's T1 DICOM images in one directory, and then put them in “T1Raw" directory under the working directory.</a:t>
            </a:r>
            <a:endParaRPr b="0" lang="en-US" sz="2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2000" y="3429000"/>
            <a:ext cx="5185080" cy="244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ubject 1’s DICOM fil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314172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9280" y="4653000"/>
            <a:ext cx="720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6165720"/>
            <a:ext cx="586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T1Raw directory, please name as thi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4000" y="314172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8920" y="4508640"/>
            <a:ext cx="792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58920" y="3141720"/>
            <a:ext cx="865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16000" y="4076640"/>
            <a:ext cx="9349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ubject 1’s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1640" y="6308640"/>
            <a:ext cx="586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Working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6192720" cy="2762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epa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700280"/>
            <a:ext cx="8532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隶书"/>
              </a:rPr>
              <a:t>Set the parameters in DPARSF</a:t>
            </a:r>
            <a:endParaRPr b="0" lang="en-US" sz="2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8000" y="3716280"/>
            <a:ext cx="446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et the working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4221000"/>
            <a:ext cx="2737080" cy="1079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6165720"/>
            <a:ext cx="586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et the time points (volumes)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77080" y="4508640"/>
            <a:ext cx="719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4941720"/>
            <a:ext cx="71928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The detected subjects’ I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51640" y="6165720"/>
            <a:ext cx="180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et the T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155736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verview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Prepar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reproces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Ho, ALFF, fALFF Calcul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Connectivity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Utiliti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2920" y="350028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080" y="1844640"/>
            <a:ext cx="395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ICOM-&gt;NIF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1628640"/>
            <a:ext cx="7201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RIcroN’s dcm2niigui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PM5’s DICOM Impor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608720" cy="1806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067280" y="5373720"/>
            <a:ext cx="4248000" cy="1303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564000" y="2997360"/>
            <a:ext cx="230328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627280" y="2349360"/>
            <a:ext cx="4753080" cy="1905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4" dur="1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771640" y="1585800"/>
            <a:ext cx="6121440" cy="52722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ICOM-&gt;NIF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16360" y="4292640"/>
            <a:ext cx="143964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8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080" y="2709720"/>
            <a:ext cx="395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55736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verview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Prepar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reproces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Ho, ALFF, fALFF Calcul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Connectivity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Utiliti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2920" y="184464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843280" y="1527120"/>
            <a:ext cx="5976720" cy="5330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4148280"/>
            <a:ext cx="2376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0" y="3573360"/>
            <a:ext cx="395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hy?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2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hy?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35640" y="3429000"/>
            <a:ext cx="3311640" cy="31352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3960720" cy="2976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5111640" y="189000"/>
            <a:ext cx="4032360" cy="29653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468360" y="0"/>
            <a:ext cx="4392720" cy="31701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490920" y="649980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Huettel et al., 200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852" t="0" r="0" b="0"/>
          <a:stretch/>
        </p:blipFill>
        <p:spPr>
          <a:xfrm>
            <a:off x="539640" y="1916280"/>
            <a:ext cx="8317080" cy="39844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00000" y="292428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00000" y="328464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364500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00000" y="400536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00000" y="436572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0000" y="472428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2708280"/>
            <a:ext cx="525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1:2:25,2:2:24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88000" y="213372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2708280"/>
            <a:ext cx="525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25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2708280"/>
            <a:ext cx="525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58920" y="2708280"/>
            <a:ext cx="525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2-(2/25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92360" y="2708280"/>
            <a:ext cx="525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25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3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5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9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056360" cy="33987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2920" y="2133720"/>
            <a:ext cx="30974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00720" y="1773360"/>
            <a:ext cx="19429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76360" y="2708280"/>
            <a:ext cx="194328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5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771640" y="1585800"/>
            <a:ext cx="6121440" cy="52722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43280" y="4653000"/>
            <a:ext cx="107928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95640" y="4653000"/>
            <a:ext cx="129708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35640" y="4653000"/>
            <a:ext cx="172872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236000" y="4581360"/>
            <a:ext cx="158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9280" y="5445000"/>
            <a:ext cx="29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1:2:25,2:2:24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39640" y="3646440"/>
            <a:ext cx="8137800" cy="2292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6360" y="1341360"/>
            <a:ext cx="85327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隶书"/>
              </a:rPr>
              <a:t>If you start with NIFTI images (.hdr/.img pairs) before slice timing, you need to arrange each subject's fMRI NIFTI images in one directory, and then put them in "FunImg" directory under the working directory.</a:t>
            </a:r>
            <a:endParaRPr b="0" lang="en-US" sz="2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3933720"/>
            <a:ext cx="4392720" cy="194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40000" y="6165720"/>
            <a:ext cx="586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FunImg directory, please name as thi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364500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4797360"/>
            <a:ext cx="792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080" y="4365720"/>
            <a:ext cx="39528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5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al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hy?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5688000" cy="5014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3" dur="1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108000" y="242100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869000"/>
            <a:ext cx="35272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Based on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Matlab, SPM, REST, MRIcroN’s dcm2nii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708360" y="57240"/>
            <a:ext cx="4581720" cy="67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al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7848360" cy="29206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42920" y="328464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7921440" cy="35402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755640" y="1916280"/>
            <a:ext cx="129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00000" y="3789360"/>
            <a:ext cx="352908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2637000"/>
            <a:ext cx="360036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771640" y="1585800"/>
            <a:ext cx="6121440" cy="52722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al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43280" y="501336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al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Check head motion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44360" y="2565360"/>
            <a:ext cx="8964720" cy="32148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971640" y="4221000"/>
            <a:ext cx="17287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2565360"/>
            <a:ext cx="266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87640" y="3068640"/>
            <a:ext cx="1655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87640" y="3500280"/>
            <a:ext cx="1871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3924360" y="1989000"/>
            <a:ext cx="4514760" cy="40482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337560" y="765000"/>
            <a:ext cx="4322880" cy="569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Excluding Criteria: 2.5mm and 2.5 degree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None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Excluding Criteria: 2.0mm and 2.0 degree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13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Excluding Criteria: 1.5mm and 1.5 degree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13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Excluding Criteria: 1.0mm and 1.0 degree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07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12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13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17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18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9" dur="1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9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080" y="5157720"/>
            <a:ext cx="395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7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hy?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195640" y="1658880"/>
            <a:ext cx="6264000" cy="51991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-1440" y="5732640"/>
            <a:ext cx="200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Huettel et al., 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200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5" dur="1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ethods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3280" y="2349360"/>
            <a:ext cx="748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I. Normalize by using EPI templat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II. Normalize by using T1 image unified segment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5040360" cy="15714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2" dur="1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8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354816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332000" y="98100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32000" y="155736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332000" y="227664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32000" y="566100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32000" y="609300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88000" y="692280"/>
            <a:ext cx="36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ean_name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88000" y="1413000"/>
            <a:ext cx="36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r*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2133720"/>
            <a:ext cx="36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EPI.nii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88000" y="5445000"/>
            <a:ext cx="47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-90 -126  -72; 90  90  108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88000" y="5845320"/>
            <a:ext cx="47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3 3 3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1" dur="1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3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7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1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343640" cy="39942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03280" y="2421000"/>
            <a:ext cx="30974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859280" y="1700280"/>
            <a:ext cx="194328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35280" y="4149720"/>
            <a:ext cx="19429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1" dur="1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84360" y="141300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ethods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03280" y="2708280"/>
            <a:ext cx="748980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EPI templat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T1 image unified segment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258920" y="3357720"/>
            <a:ext cx="7777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tructural image was coregistered to the mean functional image after the motion correction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transformed structural image was then segmented into gray matter, white matter, cerebrospinal fluid by using a unified segmentation algorithm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: the motion corrected functional volumes were spatially normalized to the MNI space using the normalization parameters estimated during unified segmentation (*_seg_sn.mat)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3" dur="1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4394E-006 L 4.16667E-006 -0.21207 E">
                                      <p:cBhvr>
                                        <p:cTn id="880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8064720" cy="28954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 II: Coregis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00000" y="2421000"/>
            <a:ext cx="30974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32360" y="2349360"/>
            <a:ext cx="223200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961080" cy="27655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332000" y="2997360"/>
            <a:ext cx="259236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87280" y="3284640"/>
            <a:ext cx="27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76720" y="2637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ean_name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03640" y="3068640"/>
            <a:ext cx="35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T1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87280" y="4149720"/>
            <a:ext cx="27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4" dur="1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4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's standard proced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887480"/>
            <a:ext cx="820872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Convert DICOM files to NIFTI images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Remove First 10 Time Points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Slice Timing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Realign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Normalize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Smooth (optional)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Detrend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Filter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Calculate ReHo, ALFF, fALFF (optional)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Regress out the Covariables (optional)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Calculate Functional Connectivity (optional)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Extract AAL or ROI time courses for further analysis         (optional)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 II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971640" y="1457280"/>
            <a:ext cx="3754440" cy="54007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114560" y="1773360"/>
            <a:ext cx="2592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403280" y="3429000"/>
            <a:ext cx="27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59280" y="141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T1_Coregisted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932360" y="306864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Light Clea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03280" y="4581360"/>
            <a:ext cx="27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932360" y="4292640"/>
            <a:ext cx="396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ICBM space template – East Asian brain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–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European brain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8" dur="1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0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7632720" cy="27050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2448000" cy="7207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 II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Seg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71640" y="2133720"/>
            <a:ext cx="1152360" cy="71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195640" y="2133720"/>
            <a:ext cx="1224000" cy="71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59280" y="2205000"/>
            <a:ext cx="35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New “Segment”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58920" y="342900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476360" y="371628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859280" y="3429000"/>
            <a:ext cx="230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0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8" dur="1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381480" cy="53006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826920" y="1555920"/>
            <a:ext cx="1873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87280" y="2205000"/>
            <a:ext cx="122400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63640" y="2924280"/>
            <a:ext cx="2232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76360" y="4941720"/>
            <a:ext cx="2087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76360" y="5300640"/>
            <a:ext cx="208764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00720" y="1268280"/>
            <a:ext cx="46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New “Normalize: Write”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184464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New “Subject”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0" y="2637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name_seg_sn.ma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0" y="479736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-90 -126  -72; 90  90  108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16360" y="522936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3 3 3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63640" y="3284640"/>
            <a:ext cx="2232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0" y="299736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r*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Normalize I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4" dur="1" fill="hold"/>
                                        <p:tgtEl>
                                          <p:spTgt spid="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6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0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4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8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2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2916360" y="1643040"/>
            <a:ext cx="5903640" cy="53150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24360" y="5013360"/>
            <a:ext cx="86364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59280" y="5013360"/>
            <a:ext cx="2305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236000" y="5013360"/>
            <a:ext cx="15112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987640" y="5373720"/>
            <a:ext cx="23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64000" y="5373720"/>
            <a:ext cx="3529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14560" y="5589720"/>
            <a:ext cx="1513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9280" y="4508640"/>
            <a:ext cx="23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T1 Data should be arranged in T1Raw or T1Img (co*.img) directory!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16360" y="5950080"/>
            <a:ext cx="23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0920" y="3573360"/>
            <a:ext cx="2376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elete files before normalization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aw NIfTI files, slice timing files, realign files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427640" y="5589720"/>
            <a:ext cx="3529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956720" y="558972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0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8" dur="1" fill="hold"/>
                                        <p:tgtEl>
                                          <p:spTgt spid="3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Check Normalization with 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00000" y="2276640"/>
            <a:ext cx="6697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{WROKDIR}\PicturesForChkNormalization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57080" y="271440"/>
            <a:ext cx="7629840" cy="63151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757080" y="271440"/>
            <a:ext cx="7629840" cy="63151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757080" y="271440"/>
            <a:ext cx="7629840" cy="63151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757080" y="271440"/>
            <a:ext cx="7629840" cy="63151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5"/>
          <a:stretch/>
        </p:blipFill>
        <p:spPr>
          <a:xfrm>
            <a:off x="757080" y="271440"/>
            <a:ext cx="7629840" cy="63151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6"/>
          <a:stretch/>
        </p:blipFill>
        <p:spPr>
          <a:xfrm>
            <a:off x="757080" y="271440"/>
            <a:ext cx="7629840" cy="63151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7"/>
          <a:stretch/>
        </p:blipFill>
        <p:spPr>
          <a:xfrm>
            <a:off x="755640" y="260280"/>
            <a:ext cx="7629480" cy="631512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1258560" y="1557360"/>
            <a:ext cx="6337440" cy="4392000"/>
            <a:chOff x="1258560" y="1557360"/>
            <a:chExt cx="6337440" cy="4392000"/>
          </a:xfrm>
        </p:grpSpPr>
        <p:sp>
          <p:nvSpPr>
            <p:cNvPr id="411" name=""/>
            <p:cNvSpPr/>
            <p:nvPr/>
          </p:nvSpPr>
          <p:spPr>
            <a:xfrm>
              <a:off x="1258920" y="1557360"/>
              <a:ext cx="6337080" cy="4392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58920" y="1557360"/>
              <a:ext cx="6337080" cy="4392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1258560" y="1557360"/>
              <a:ext cx="6337080" cy="4392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755640" y="260280"/>
            <a:ext cx="1152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8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0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6" dur="1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80" y="5950080"/>
            <a:ext cx="39528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9" dur="1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moo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hy?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050920" y="2852640"/>
            <a:ext cx="65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duce the effects of the bad normaliz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…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0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7" dur="1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1260360" y="2494080"/>
            <a:ext cx="4714920" cy="21952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547640" y="2997360"/>
            <a:ext cx="35290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47640" y="3357720"/>
            <a:ext cx="35290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92720" y="270972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*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92720" y="321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WHM kernel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moo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0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3" dur="1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5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6193080" cy="53020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moo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659640" y="5661000"/>
            <a:ext cx="8650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79280" y="4508640"/>
            <a:ext cx="23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LFF, fALFF, Funtional Connectivity: Data with smooth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596360" y="5661000"/>
            <a:ext cx="1223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0920" y="357336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Ho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without smooth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6237360"/>
            <a:ext cx="144144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308720" y="6237360"/>
            <a:ext cx="1584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8000" y="2637000"/>
            <a:ext cx="251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 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2843280" y="4221000"/>
            <a:ext cx="3168720" cy="1800360"/>
            <a:chOff x="2843280" y="4221000"/>
            <a:chExt cx="3168720" cy="1800360"/>
          </a:xfrm>
        </p:grpSpPr>
        <p:sp>
          <p:nvSpPr>
            <p:cNvPr id="443" name=""/>
            <p:cNvSpPr/>
            <p:nvPr/>
          </p:nvSpPr>
          <p:spPr>
            <a:xfrm>
              <a:off x="2843280" y="4221000"/>
              <a:ext cx="3168720" cy="1800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43280" y="4221000"/>
              <a:ext cx="3168720" cy="180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2843280" y="4221000"/>
              <a:ext cx="3168720" cy="180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0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1" dur="1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500"/>
                            </p:stCondLst>
                            <p:childTnLst>
                              <p:par>
                                <p:cTn id="13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27640" y="5300640"/>
            <a:ext cx="395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0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4" dur="1" fill="hold"/>
                                        <p:tgtEl>
                                          <p:spTgt spid="4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155736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verview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Prepar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reproces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Ho, ALFF, fALFF Calcul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Connectivity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Utiliti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2920" y="263700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1908000" y="1490760"/>
            <a:ext cx="5977080" cy="536724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Detr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987640" y="4508640"/>
            <a:ext cx="338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08720" y="5661000"/>
            <a:ext cx="1366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050920" y="2205000"/>
            <a:ext cx="1366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372360" y="2205000"/>
            <a:ext cx="13665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0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2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27640" y="6021360"/>
            <a:ext cx="395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fill="hold">
                      <p:stCondLst>
                        <p:cond delay="0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0" dur="1" fill="hold"/>
                                        <p:tgtEl>
                                          <p:spTgt spid="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滤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hy?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124000" y="170028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Low frequency (0.01–0.08 Hz) fluctuations (LFFs) of the resting-state fMRI signal were of physiological importance. (Biswal et al., 2005) 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LFFs of resting-state fMRI signal were suggested to reflect spontaneous neuronal activity (Logothetis et al., 2001; Lu et al., 2007).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332000" y="5299200"/>
            <a:ext cx="7127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1e2f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1e2fb"/>
                </a:solidFill>
                <a:latin typeface="Tahoma"/>
              </a:rPr>
              <a:t> </a:t>
            </a:r>
            <a:r>
              <a:rPr b="1" lang="zh-CN" sz="1200" spc="-1" strike="noStrike">
                <a:solidFill>
                  <a:srgbClr val="b1e2fb"/>
                </a:solidFill>
                <a:latin typeface="Tahoma"/>
              </a:rPr>
              <a:t>Biswal B, Yetkin FZ, Haughton VM, Hyde JS (1995) Functional connectivity in the motor cortex of resting human brain using echo-planar MRI. Magn Reson Med 34: 537–541.</a:t>
            </a:r>
            <a:endParaRPr b="0" lang="en-US" sz="1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1e2f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1e2fb"/>
                </a:solidFill>
                <a:latin typeface="Tahoma"/>
              </a:rPr>
              <a:t> </a:t>
            </a:r>
            <a:r>
              <a:rPr b="1" lang="zh-CN" sz="1200" spc="-1" strike="noStrike">
                <a:solidFill>
                  <a:srgbClr val="b1e2fb"/>
                </a:solidFill>
                <a:latin typeface="Tahoma"/>
              </a:rPr>
              <a:t>Logothetis NK, Pauls J, Augath M, Trinath T, Oeltermann A (2001) Neurophysiological investigation of the basis of the fMRI signal. Nature 412: 150–157. </a:t>
            </a:r>
            <a:endParaRPr b="0" lang="en-US" sz="1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1e2f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1e2fb"/>
                </a:solidFill>
                <a:latin typeface="Tahoma"/>
              </a:rPr>
              <a:t> </a:t>
            </a:r>
            <a:r>
              <a:rPr b="1" lang="zh-CN" sz="1200" spc="-1" strike="noStrike">
                <a:solidFill>
                  <a:srgbClr val="b1e2fb"/>
                </a:solidFill>
                <a:latin typeface="Tahoma"/>
              </a:rPr>
              <a:t>Lu H, Zuo Y, Gu H, Waltz JA, Zhan W, et al. (2007) Synchronized delta oscillations correlate with the resting-state functional MRI signal. Proc Natl Acad Sci U S A 104: 18265–18269. </a:t>
            </a:r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8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6337440" cy="534816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Fil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050920" y="3500280"/>
            <a:ext cx="338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427640" y="479736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11280" y="1916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763640" y="1916280"/>
            <a:ext cx="2016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435640" y="1916280"/>
            <a:ext cx="1297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0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4" dur="1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6193080" cy="530208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etrend and Fil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843280" y="6568920"/>
            <a:ext cx="792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708360" y="6568920"/>
            <a:ext cx="9349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50920" y="3573360"/>
            <a:ext cx="237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If you want to calculate fALFF, please do not delete the detrended fil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716360" y="6568920"/>
            <a:ext cx="1727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16720" y="6568920"/>
            <a:ext cx="1800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08000" y="2637000"/>
            <a:ext cx="2519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 or FunImgNormalizedSmoothed 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0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8" dur="1" fill="hold"/>
                                        <p:tgtEl>
                                          <p:spTgt spid="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900000" y="155736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verview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Prepar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reproces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Ho, ALFF, fALFF Calcul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Connectivity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Utiliti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2920" y="436392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0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8" dur="1" fill="hold"/>
                                        <p:tgtEl>
                                          <p:spTgt spid="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56000" y="476280"/>
            <a:ext cx="44640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Ho </a:t>
            </a:r>
            <a:br>
              <a:rPr sz="36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Regional Homogeneity)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图片 3" descr=""/>
          <p:cNvPicPr/>
          <p:nvPr/>
        </p:nvPicPr>
        <p:blipFill>
          <a:blip r:embed="rId1"/>
          <a:stretch/>
        </p:blipFill>
        <p:spPr>
          <a:xfrm>
            <a:off x="1747800" y="3552840"/>
            <a:ext cx="3024360" cy="2658960"/>
          </a:xfrm>
          <a:prstGeom prst="rect">
            <a:avLst/>
          </a:prstGeom>
          <a:ln w="0">
            <a:noFill/>
          </a:ln>
        </p:spPr>
      </p:pic>
      <p:pic>
        <p:nvPicPr>
          <p:cNvPr id="493" name="图片 4" descr=""/>
          <p:cNvPicPr/>
          <p:nvPr/>
        </p:nvPicPr>
        <p:blipFill>
          <a:blip r:embed="rId2"/>
          <a:stretch/>
        </p:blipFill>
        <p:spPr>
          <a:xfrm>
            <a:off x="5219640" y="4076640"/>
            <a:ext cx="2648160" cy="13795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826920" y="1584360"/>
            <a:ext cx="720108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Note: Please do not smooth your data in preprocessing, just smooth your data after ReHo calculation.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436720" y="565992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Zang et al., 200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5280" y="6400800"/>
            <a:ext cx="849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ahoma"/>
              </a:rPr>
              <a:t>Zang YF, Jiang TZ, Lu YL, He Y, Tian LX (2004) Regional homogeneity approach to fMRI data analysis. Neuroimage 22: 394–400.</a:t>
            </a:r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9" dur="indefinite" restart="never" nodeType="tmRoot">
          <p:childTnLst>
            <p:seq>
              <p:cTn id="1480" dur="indefinite" nodeType="mainSeq">
                <p:childTnLst>
                  <p:par>
                    <p:cTn id="1481" fill="hold">
                      <p:stCondLst>
                        <p:cond delay="0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4" dur="1" fill="hold"/>
                                        <p:tgtEl>
                                          <p:spTgt spid="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875640" cy="63450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-1045080" y="2781360"/>
            <a:ext cx="39610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635280" y="1268280"/>
            <a:ext cx="360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419640" y="2708280"/>
            <a:ext cx="2089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908000" y="3429000"/>
            <a:ext cx="115128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132000" y="5013360"/>
            <a:ext cx="2087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132000" y="5516640"/>
            <a:ext cx="482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835280" y="5950080"/>
            <a:ext cx="662436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588000" y="4221000"/>
            <a:ext cx="194472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956720" y="3500280"/>
            <a:ext cx="5745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419640" y="3068640"/>
            <a:ext cx="2089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4005360"/>
            <a:ext cx="18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If the resolution of your data is not 61*61*73, please resample your mask file at first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0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4" dur="1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2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459640" cy="307044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826920" y="1628640"/>
            <a:ext cx="17290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71640" y="2060640"/>
            <a:ext cx="302400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042920" y="242100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900000" y="314172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716360" y="177336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03280" y="4653000"/>
            <a:ext cx="61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Choose one of your functional image. e.g. your normalized functional image or image after Detrend and Filter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348000" y="4437000"/>
            <a:ext cx="47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hoose the mask file or ROI definition file. e.g. BrainMask_05_61x73x61.img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11640" y="544500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Resample Mask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268360" y="5734080"/>
            <a:ext cx="56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Resample other kind of data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716360" y="134136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Data Res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0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0" dur="1" fill="hold"/>
                                        <p:tgtEl>
                                          <p:spTgt spid="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8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2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2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27" name=""/>
          <p:cNvSpPr/>
          <p:nvPr/>
        </p:nvSpPr>
        <p:spPr>
          <a:xfrm>
            <a:off x="-181080" y="2205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Data Resample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651640" y="836640"/>
            <a:ext cx="2639880" cy="60213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5940360" y="5229360"/>
            <a:ext cx="194472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fill="hold">
                      <p:stCondLst>
                        <p:cond delay="0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8" dur="1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epa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88748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Arrange the information of the subject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6624720" cy="646596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2771640" y="2205000"/>
            <a:ext cx="504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516720" y="5734080"/>
            <a:ext cx="115236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35" name=""/>
          <p:cNvSpPr/>
          <p:nvPr/>
        </p:nvSpPr>
        <p:spPr>
          <a:xfrm>
            <a:off x="-181080" y="2205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Data Resample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708360" y="3860640"/>
            <a:ext cx="19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08360" y="4365720"/>
            <a:ext cx="388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360" y="4797360"/>
            <a:ext cx="1727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24360" y="3860640"/>
            <a:ext cx="19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443640" y="4869000"/>
            <a:ext cx="792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3645000"/>
            <a:ext cx="2987640" cy="1465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 – Nearest Neighb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– Trilinea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2- 2nd degree b-spline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08360" y="5300640"/>
            <a:ext cx="1079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708360" y="5877000"/>
            <a:ext cx="266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0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0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250920" y="2852640"/>
            <a:ext cx="2376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Please ensure the resolution of your own mask is the same as your functional data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2492280"/>
            <a:ext cx="2519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2484360" y="2513160"/>
            <a:ext cx="6659640" cy="35082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H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56000" y="249228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788000" y="2492280"/>
            <a:ext cx="4176720" cy="362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50920" y="357336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Get the smReHo -1 or mReHo - 1 data for one sample T test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556000" y="2924280"/>
            <a:ext cx="86364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812000" y="2924280"/>
            <a:ext cx="122400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869080" y="2924280"/>
            <a:ext cx="100800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3284640"/>
            <a:ext cx="2376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 the mReHo results. The FWHM kernel is the same as set in the smooth step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877080" y="2924280"/>
            <a:ext cx="93492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fill="hold">
                      <p:stCondLst>
                        <p:cond delay="0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2" dur="1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4140360" y="692280"/>
            <a:ext cx="4468680" cy="532908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80360" y="537264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Zang et al., 2007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280" y="6400800"/>
            <a:ext cx="849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Zang YF, He Y, Zhu CZ, Cao QJ, Sui MQ, et al.  (2007) Altered baseline brain activity in children with ADHD revealed by resting-state functional MRI. Brain Dev 29: 83–91. </a:t>
            </a:r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2349360"/>
            <a:ext cx="39607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LFF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Amplitude of Low Frequency Fluctu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)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1" dur="indefinite" restart="never" nodeType="tmRoot">
          <p:childTnLst>
            <p:seq>
              <p:cTn id="1792" dur="indefinite" nodeType="mainSeq">
                <p:childTnLst>
                  <p:par>
                    <p:cTn id="1793" fill="hold">
                      <p:stCondLst>
                        <p:cond delay="0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6" dur="1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fALFF</a:t>
            </a:r>
            <a:br>
              <a:rPr sz="36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fractional ALFF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80360" y="537264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Zou et al., 2008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5280" y="6400800"/>
            <a:ext cx="849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Zou QH, Zhu CZ, Yang Y, Zuo XN, Long XY, et al. (2008) An improved approach to detection of amplitude of low-frequency fluctuation (ALFF) for resting-state fMRI: fractional ALFF. J Neurosci Methods 172: 137-141.</a:t>
            </a:r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424720" cy="29034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6202440" y="4869000"/>
            <a:ext cx="293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隶书"/>
              </a:rPr>
              <a:t>PCC: posterior cingulate cortex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隶书"/>
              </a:rPr>
              <a:t>SC: suprasellar cistern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826920" y="4365720"/>
            <a:ext cx="3529080" cy="215640"/>
            <a:chOff x="826920" y="4365720"/>
            <a:chExt cx="3529080" cy="215640"/>
          </a:xfrm>
        </p:grpSpPr>
        <p:sp>
          <p:nvSpPr>
            <p:cNvPr id="571" name=""/>
            <p:cNvSpPr/>
            <p:nvPr/>
          </p:nvSpPr>
          <p:spPr>
            <a:xfrm>
              <a:off x="826920" y="436572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56000" y="436572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26920" y="4437000"/>
              <a:ext cx="3529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1042920" y="4365720"/>
            <a:ext cx="1081080" cy="215640"/>
            <a:chOff x="1042920" y="4365720"/>
            <a:chExt cx="1081080" cy="215640"/>
          </a:xfrm>
        </p:grpSpPr>
        <p:sp>
          <p:nvSpPr>
            <p:cNvPr id="575" name=""/>
            <p:cNvSpPr/>
            <p:nvPr/>
          </p:nvSpPr>
          <p:spPr>
            <a:xfrm>
              <a:off x="1042920" y="436572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24000" y="436572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42920" y="4437000"/>
              <a:ext cx="1081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4427640" y="1844640"/>
            <a:ext cx="4321080" cy="2879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826920" y="4508640"/>
            <a:ext cx="3529080" cy="215640"/>
            <a:chOff x="826920" y="4508640"/>
            <a:chExt cx="3529080" cy="215640"/>
          </a:xfrm>
        </p:grpSpPr>
        <p:sp>
          <p:nvSpPr>
            <p:cNvPr id="580" name=""/>
            <p:cNvSpPr/>
            <p:nvPr/>
          </p:nvSpPr>
          <p:spPr>
            <a:xfrm>
              <a:off x="826920" y="450864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56000" y="450864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26920" y="4579920"/>
              <a:ext cx="3529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042920" y="2349360"/>
            <a:ext cx="1081080" cy="201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292720" y="2349360"/>
            <a:ext cx="1081080" cy="201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7" dur="indefinite" restart="never" nodeType="tmRoot">
          <p:childTnLst>
            <p:seq>
              <p:cTn id="1798" dur="indefinite" nodeType="mainSeq">
                <p:childTnLst>
                  <p:par>
                    <p:cTn id="1799" fill="hold">
                      <p:stCondLst>
                        <p:cond delay="0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2" dur="1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5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9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6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658836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-1045080" y="2781360"/>
            <a:ext cx="39610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ALF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067280" y="907920"/>
            <a:ext cx="3384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708360" y="2421000"/>
            <a:ext cx="1871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348000" y="3860640"/>
            <a:ext cx="3672000" cy="50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19640" y="5445000"/>
            <a:ext cx="1873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92360" y="5950080"/>
            <a:ext cx="4535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268360" y="6308640"/>
            <a:ext cx="6264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804000" y="4653000"/>
            <a:ext cx="172872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708360" y="2781360"/>
            <a:ext cx="1871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-900000" y="429264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fALFF: </a:t>
            </a:r>
            <a:br>
              <a:rPr sz="36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DO NOT filter!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7" dur="indefinite" restart="never" nodeType="tmRoot">
          <p:childTnLst>
            <p:seq>
              <p:cTn id="1848" dur="indefinite" nodeType="mainSeq">
                <p:childTnLst>
                  <p:par>
                    <p:cTn id="1849" fill="hold">
                      <p:stCondLst>
                        <p:cond delay="0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2" dur="1" fill="hold"/>
                                        <p:tgtEl>
                                          <p:spTgt spid="5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2492280"/>
            <a:ext cx="251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Smooth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 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79280" y="2565360"/>
            <a:ext cx="237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Please ensure the resolution of your own mask is the same as your functional data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6659640" cy="357984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ALFF and fALF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556000" y="249228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788000" y="2492280"/>
            <a:ext cx="4176720" cy="362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79280" y="4724280"/>
            <a:ext cx="23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Get the mALFF - 1 or (mfALFF - 1) data for one sample T test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484360" y="3284640"/>
            <a:ext cx="86364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308720" y="3284640"/>
            <a:ext cx="183528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419640" y="3284640"/>
            <a:ext cx="79200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84720" y="3284640"/>
            <a:ext cx="2808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79280" y="3108240"/>
            <a:ext cx="23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Please DO NOT delete the detrended files before filter. DPARSF will calculated the fALFF based on data before filter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9" dur="indefinite" restart="never" nodeType="tmRoot">
          <p:childTnLst>
            <p:seq>
              <p:cTn id="1900" dur="indefinite" nodeType="mainSeq">
                <p:childTnLst>
                  <p:par>
                    <p:cTn id="1901" fill="hold">
                      <p:stCondLst>
                        <p:cond delay="0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4" dur="1" fill="hold"/>
                                        <p:tgtEl>
                                          <p:spTgt spid="6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900000" y="155736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verview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Prepar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reproces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Ho, ALFF, fALFF Calcul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Connectivity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Utiliti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42920" y="515628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3" dur="indefinite" restart="never" nodeType="tmRoot">
          <p:childTnLst>
            <p:seq>
              <p:cTn id="1964" dur="indefinite" nodeType="mainSeq">
                <p:childTnLst>
                  <p:par>
                    <p:cTn id="1965" fill="hold">
                      <p:stCondLst>
                        <p:cond delay="0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8" dur="1" fill="hold"/>
                                        <p:tgtEl>
                                          <p:spTgt spid="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692360" y="764640"/>
            <a:ext cx="640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gress out nuisance covari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26920" y="1628640"/>
            <a:ext cx="741708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Head motion parameters: rp_name.tx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Global mean signal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White matter signal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Cerebrospinal fluid signal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9" dur="indefinite" restart="never" nodeType="tmRoot">
          <p:childTnLst>
            <p:seq>
              <p:cTn id="1970" dur="indefinite" nodeType="mainSeq">
                <p:childTnLst>
                  <p:par>
                    <p:cTn id="1971" fill="hold">
                      <p:stCondLst>
                        <p:cond delay="0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4" dur="1" fill="hold"/>
                                        <p:tgtEl>
                                          <p:spTgt spid="6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22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5651640" y="836640"/>
            <a:ext cx="2639880" cy="602136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5940360" y="4508640"/>
            <a:ext cx="194472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0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0" dur="1" fill="hold"/>
                                        <p:tgtEl>
                                          <p:spTgt spid="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1763640" y="568440"/>
            <a:ext cx="7380360" cy="559908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2771640" y="2637000"/>
            <a:ext cx="504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380360" y="4508640"/>
            <a:ext cx="115236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30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7" dur="indefinite" restart="never" nodeType="tmRoot">
          <p:childTnLst>
            <p:seq>
              <p:cTn id="1998" dur="indefinite" nodeType="mainSeq">
                <p:childTnLst>
                  <p:par>
                    <p:cTn id="1999" fill="hold">
                      <p:stCondLst>
                        <p:cond delay="0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2" dur="1" fill="hold"/>
                                        <p:tgtEl>
                                          <p:spTgt spid="6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epa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188748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Information of subject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6920" y="235080"/>
            <a:ext cx="7812360" cy="662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547560" y="1204920"/>
          <a:ext cx="8212320" cy="524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7560" y="1204920"/>
                    <a:ext cx="8212320" cy="52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408720" cy="494064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7020000" y="5157720"/>
            <a:ext cx="108108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35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3" dur="indefinite" restart="never" nodeType="tmRoot">
          <p:childTnLst>
            <p:seq>
              <p:cTn id="2014" dur="indefinite" nodeType="mainSeq">
                <p:childTnLst>
                  <p:par>
                    <p:cTn id="2015" fill="hold">
                      <p:stCondLst>
                        <p:cond delay="0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8" dur="1" fill="hold"/>
                                        <p:tgtEl>
                                          <p:spTgt spid="6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989680" cy="640872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2124000" y="2060640"/>
            <a:ext cx="8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484360" y="3573360"/>
            <a:ext cx="26640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41" name=""/>
          <p:cNvSpPr/>
          <p:nvPr/>
        </p:nvSpPr>
        <p:spPr>
          <a:xfrm>
            <a:off x="6480000" y="6021360"/>
            <a:ext cx="13320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3" dur="indefinite" restart="never" nodeType="tmRoot">
          <p:childTnLst>
            <p:seq>
              <p:cTn id="2024" dur="indefinite" nodeType="mainSeq">
                <p:childTnLst>
                  <p:par>
                    <p:cTn id="2025" fill="hold">
                      <p:stCondLst>
                        <p:cond delay="0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8" dur="1" fill="hold"/>
                                        <p:tgtEl>
                                          <p:spTgt spid="6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7056360" cy="525780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4067280" y="4869000"/>
            <a:ext cx="338436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47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5" dur="indefinite" restart="never" nodeType="tmRoot">
          <p:childTnLst>
            <p:seq>
              <p:cTn id="2046" dur="indefinite" nodeType="mainSeq">
                <p:childTnLst>
                  <p:par>
                    <p:cTn id="2047" fill="hold">
                      <p:stCondLst>
                        <p:cond delay="0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0" dur="1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6480360" cy="502596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1763640" y="5516640"/>
            <a:ext cx="547236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52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-108000" y="4076640"/>
            <a:ext cx="19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Extract one subject’s Covariates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5" dur="indefinite" restart="never" nodeType="tmRoot">
          <p:childTnLst>
            <p:seq>
              <p:cTn id="2056" dur="indefinite" nodeType="mainSeq">
                <p:childTnLst>
                  <p:par>
                    <p:cTn id="2057" fill="hold">
                      <p:stCondLst>
                        <p:cond delay="0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0" dur="1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6408720" cy="49719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1835280" y="5445000"/>
            <a:ext cx="108108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58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-108000" y="4076640"/>
            <a:ext cx="19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Extract multi subjects’ Covariates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9" dur="indefinite" restart="never" nodeType="tmRoot">
          <p:childTnLst>
            <p:seq>
              <p:cTn id="2070" dur="indefinite" nodeType="mainSeq">
                <p:childTnLst>
                  <p:par>
                    <p:cTn id="2071" fill="hold">
                      <p:stCondLst>
                        <p:cond delay="0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4" dur="1" fill="hold"/>
                                        <p:tgtEl>
                                          <p:spTgt spid="6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1763640" y="568440"/>
            <a:ext cx="7380360" cy="559908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3564000" y="5229360"/>
            <a:ext cx="252072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308720" y="5300640"/>
            <a:ext cx="12970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65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3" dur="indefinite" restart="never" nodeType="tmRoot">
          <p:childTnLst>
            <p:seq>
              <p:cTn id="2084" dur="indefinite" nodeType="mainSeq">
                <p:childTnLst>
                  <p:par>
                    <p:cTn id="2085" fill="hold">
                      <p:stCondLst>
                        <p:cond delay="0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8" dur="1" fill="hold"/>
                                        <p:tgtEl>
                                          <p:spTgt spid="6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92360" y="620640"/>
            <a:ext cx="3887640" cy="293076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1908000" y="1916280"/>
            <a:ext cx="1008360" cy="50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70" name=""/>
          <p:cNvSpPr/>
          <p:nvPr/>
        </p:nvSpPr>
        <p:spPr>
          <a:xfrm>
            <a:off x="2987640" y="1916280"/>
            <a:ext cx="2160720" cy="50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-108000" y="328464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1692360" y="3357720"/>
            <a:ext cx="7200720" cy="26748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9" dur="indefinite" restart="never" nodeType="tmRoot">
          <p:childTnLst>
            <p:seq>
              <p:cTn id="2100" dur="indefinite" nodeType="mainSeq">
                <p:childTnLst>
                  <p:par>
                    <p:cTn id="2101" fill="hold">
                      <p:stCondLst>
                        <p:cond delay="0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4" dur="1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547640" y="476280"/>
            <a:ext cx="67694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gress out nuisance Covari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826920" y="1628640"/>
            <a:ext cx="720108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Covariate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Head motion parameters: rp_name.tx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Global mean signa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hite matter signa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 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Cerebrospinal fluid signa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Combine the covariates for future using in RES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971640" y="4581360"/>
            <a:ext cx="76341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RPCov=load('rp_name.txt');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BCWCov=load('ROI_FCMap_name.txt');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Cov=[RPCov,BCWCov];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ave('Cov.txt', 'Cov', '-ASCII', '-DOUBLE','-TABS');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3" dur="indefinite" restart="never" nodeType="tmRoot">
          <p:childTnLst>
            <p:seq>
              <p:cTn id="2124" dur="indefinite" nodeType="mainSeq">
                <p:childTnLst>
                  <p:par>
                    <p:cTn id="2125" fill="hold">
                      <p:stCondLst>
                        <p:cond delay="0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8" dur="1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81" name=""/>
          <p:cNvSpPr/>
          <p:nvPr/>
        </p:nvSpPr>
        <p:spPr>
          <a:xfrm>
            <a:off x="-71280" y="2205000"/>
            <a:ext cx="197928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gress ou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5651640" y="836640"/>
            <a:ext cx="2639880" cy="602136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5940360" y="3789360"/>
            <a:ext cx="194472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1" dur="indefinite" restart="never" nodeType="tmRoot">
          <p:childTnLst>
            <p:seq>
              <p:cTn id="2142" dur="indefinite" nodeType="mainSeq">
                <p:childTnLst>
                  <p:par>
                    <p:cTn id="2143" fill="hold">
                      <p:stCondLst>
                        <p:cond delay="0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6" dur="1" fill="hold"/>
                                        <p:tgtEl>
                                          <p:spTgt spid="6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6696360" cy="599292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2843280" y="2205000"/>
            <a:ext cx="45370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596360" y="4869000"/>
            <a:ext cx="64764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89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2050920" y="404640"/>
            <a:ext cx="6697800" cy="348012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2629080" y="2638440"/>
            <a:ext cx="4536720" cy="2085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CovList.tx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Covariables_List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3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2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1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415280" y="5229360"/>
            <a:ext cx="1728720" cy="360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CovList.tx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851280" y="5445000"/>
            <a:ext cx="1657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372360" y="5516640"/>
            <a:ext cx="122400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3" dur="indefinite" restart="never" nodeType="tmRoot">
          <p:childTnLst>
            <p:seq>
              <p:cTn id="2164" dur="indefinite" nodeType="mainSeq">
                <p:childTnLst>
                  <p:par>
                    <p:cTn id="2165" fill="hold">
                      <p:stCondLst>
                        <p:cond delay="0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8" dur="1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epa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191628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Arrange the information of the subject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Arrange the MRI data of the subject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3059280" y="4560840"/>
            <a:ext cx="576000" cy="1441440"/>
          </a:xfrm>
          <a:custGeom>
            <a:avLst/>
            <a:gdLst>
              <a:gd name="textAreaLeft" fmla="*/ 0 w 576000"/>
              <a:gd name="textAreaRight" fmla="*/ 208080 w 57600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4200480"/>
            <a:ext cx="511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Functional MRI data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Structural MRI data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DTI data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2484360" y="2421000"/>
            <a:ext cx="6659640" cy="316692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0" y="2492280"/>
            <a:ext cx="251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79280" y="2565360"/>
            <a:ext cx="2376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p*.tx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556000" y="3357720"/>
            <a:ext cx="266364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292720" y="3354480"/>
            <a:ext cx="2087640" cy="361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79280" y="472428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CsfMask_07_61x73x6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380360" y="3429000"/>
            <a:ext cx="1763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490920" y="3716280"/>
            <a:ext cx="1657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219640" y="3716280"/>
            <a:ext cx="2195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79280" y="310824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BrainMask_05_61x73x6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547640" y="333360"/>
            <a:ext cx="67694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gress out nuisance Covariat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08000" y="393372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hiteMask_09_61x73x6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3" dur="indefinite" restart="never" nodeType="tmRoot">
          <p:childTnLst>
            <p:seq>
              <p:cTn id="2214" dur="indefinite" nodeType="mainSeq">
                <p:childTnLst>
                  <p:par>
                    <p:cTn id="2215" fill="hold">
                      <p:stCondLst>
                        <p:cond delay="0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8" dur="1" fill="hold"/>
                                        <p:tgtEl>
                                          <p:spTgt spid="7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2556000" y="2708280"/>
            <a:ext cx="6588000" cy="310032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0" y="2492280"/>
            <a:ext cx="251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627280" y="3645000"/>
            <a:ext cx="266400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451640" y="4005360"/>
            <a:ext cx="1513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7640" y="333360"/>
            <a:ext cx="67694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gress out Covariat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7" dur="indefinite" restart="never" nodeType="tmRoot">
          <p:childTnLst>
            <p:seq>
              <p:cTn id="2278" dur="indefinite" nodeType="mainSeq">
                <p:childTnLst>
                  <p:par>
                    <p:cTn id="2279" fill="hold">
                      <p:stCondLst>
                        <p:cond delay="0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2" dur="1" fill="hold"/>
                                        <p:tgtEl>
                                          <p:spTgt spid="7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9" fill="hold">
                      <p:stCondLst>
                        <p:cond delay="indefinite"/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408720" cy="494064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7020000" y="5157720"/>
            <a:ext cx="108108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20" name=""/>
          <p:cNvSpPr/>
          <p:nvPr/>
        </p:nvSpPr>
        <p:spPr>
          <a:xfrm>
            <a:off x="-108000" y="2205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gress out 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1" dur="indefinite" restart="never" nodeType="tmRoot">
          <p:childTnLst>
            <p:seq>
              <p:cTn id="2302" dur="indefinite" nodeType="mainSeq">
                <p:childTnLst>
                  <p:par>
                    <p:cTn id="2303" fill="hold">
                      <p:stCondLst>
                        <p:cond delay="0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6" dur="1" fill="hold"/>
                                        <p:tgtEl>
                                          <p:spTgt spid="7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1835280" y="217440"/>
            <a:ext cx="6184800" cy="652464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2050920" y="765000"/>
            <a:ext cx="1729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050920" y="2133720"/>
            <a:ext cx="792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124000" y="3573360"/>
            <a:ext cx="2376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979640" y="4869000"/>
            <a:ext cx="583236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659640" y="6237360"/>
            <a:ext cx="122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3860640"/>
            <a:ext cx="190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Please ensure the resolution of your ROI file is the same as your functional data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-108000" y="2205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gress out 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1" dur="indefinite" restart="never" nodeType="tmRoot">
          <p:childTnLst>
            <p:seq>
              <p:cTn id="2312" dur="indefinite" nodeType="mainSeq">
                <p:childTnLst>
                  <p:par>
                    <p:cTn id="2313" fill="hold">
                      <p:stCondLst>
                        <p:cond delay="0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6" dur="1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2556000" y="2781360"/>
            <a:ext cx="6588000" cy="310032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0" y="2492280"/>
            <a:ext cx="251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629080" y="3716280"/>
            <a:ext cx="2663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64000" y="3645000"/>
            <a:ext cx="2087640" cy="361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547640" y="333360"/>
            <a:ext cx="67694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gress out Covariat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3" dur="indefinite" restart="never" nodeType="tmRoot">
          <p:childTnLst>
            <p:seq>
              <p:cTn id="2354" dur="indefinite" nodeType="mainSeq">
                <p:childTnLst>
                  <p:par>
                    <p:cTn id="2355" fill="hold">
                      <p:stCondLst>
                        <p:cond delay="0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8" dur="1" fill="hold"/>
                                        <p:tgtEl>
                                          <p:spTgt spid="7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8280360" cy="296532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411280" y="476280"/>
            <a:ext cx="540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gress out Covari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68360" y="1341360"/>
            <a:ext cx="85327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隶书"/>
              </a:rPr>
              <a:t>Arrange each subject's covariates (each covariate in one column) in one directory, and then put them in “RealignParameter" directory under the working directory.</a:t>
            </a:r>
            <a:endParaRPr b="0" lang="en-US" sz="2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292720" y="4149720"/>
            <a:ext cx="201600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90000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Each covariate in one column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276720" y="3141720"/>
            <a:ext cx="576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692360" y="4869000"/>
            <a:ext cx="72072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76720" y="6165720"/>
            <a:ext cx="586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RealignParameter directory, please name as thi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124000" y="3141720"/>
            <a:ext cx="1152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332000" y="4724280"/>
            <a:ext cx="1439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258920" y="3141720"/>
            <a:ext cx="865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116000" y="4076640"/>
            <a:ext cx="9349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7964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ubject 1’s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771640" y="6308640"/>
            <a:ext cx="586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Working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7" dur="indefinite" restart="never" nodeType="tmRoot">
          <p:childTnLst>
            <p:seq>
              <p:cTn id="2378" dur="indefinite" nodeType="mainSeq">
                <p:childTnLst>
                  <p:par>
                    <p:cTn id="2379" fill="hold">
                      <p:stCondLst>
                        <p:cond delay="0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2" dur="1" fill="hold"/>
                                        <p:tgtEl>
                                          <p:spTgt spid="7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5111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Functional Connce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Voxel-wise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ROI-wise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4716360" y="3645000"/>
            <a:ext cx="1657440" cy="197172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2"/>
          <a:stretch/>
        </p:blipFill>
        <p:spPr>
          <a:xfrm>
            <a:off x="6156360" y="1557360"/>
            <a:ext cx="1685880" cy="201924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3"/>
          <a:stretch/>
        </p:blipFill>
        <p:spPr>
          <a:xfrm>
            <a:off x="3708360" y="1557360"/>
            <a:ext cx="1695600" cy="200016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6084720" y="1484280"/>
            <a:ext cx="1729080" cy="2089080"/>
          </a:xfrm>
          <a:prstGeom prst="rect">
            <a:avLst/>
          </a:prstGeom>
          <a:solidFill>
            <a:srgbClr val="003399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067280" y="191628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4"/>
          <a:stretch/>
        </p:blipFill>
        <p:spPr>
          <a:xfrm>
            <a:off x="3708360" y="3573360"/>
            <a:ext cx="1695600" cy="200052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5"/>
          <a:stretch/>
        </p:blipFill>
        <p:spPr>
          <a:xfrm>
            <a:off x="6084720" y="3573360"/>
            <a:ext cx="1705320" cy="206712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5219640" y="5805360"/>
            <a:ext cx="165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r=0.36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6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7" dur="indefinite" restart="never" nodeType="tmRoot">
          <p:childTnLst>
            <p:seq>
              <p:cTn id="2438" dur="indefinite" nodeType="mainSeq">
                <p:childTnLst>
                  <p:par>
                    <p:cTn id="2439" fill="hold">
                      <p:stCondLst>
                        <p:cond delay="0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2" dur="1" fill="hold"/>
                                        <p:tgtEl>
                                          <p:spTgt spid="7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1" dur="3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3" nodeType="after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2464" dur="3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fill="hold">
                      <p:stCondLst>
                        <p:cond delay="indefinite"/>
                      </p:stCondLst>
                      <p:childTnLst>
                        <p:par>
                          <p:cTn id="2467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195960" cy="648000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1547640" y="2781360"/>
            <a:ext cx="129564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1" dur="indefinite" restart="never" nodeType="tmRoot">
          <p:childTnLst>
            <p:seq>
              <p:cTn id="2502" dur="indefinite" nodeType="mainSeq">
                <p:childTnLst>
                  <p:par>
                    <p:cTn id="2503" fill="hold">
                      <p:stCondLst>
                        <p:cond delay="0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6" dur="1" fill="hold"/>
                                        <p:tgtEl>
                                          <p:spTgt spid="7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15600" y="134136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1835280" y="217440"/>
            <a:ext cx="6184800" cy="652464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2050920" y="765000"/>
            <a:ext cx="1729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050920" y="2133720"/>
            <a:ext cx="792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124000" y="3068640"/>
            <a:ext cx="367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124000" y="3284640"/>
            <a:ext cx="4032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124000" y="3573360"/>
            <a:ext cx="2376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979640" y="4869000"/>
            <a:ext cx="583236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659640" y="6237360"/>
            <a:ext cx="122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124000" y="2852640"/>
            <a:ext cx="460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050920" y="692280"/>
            <a:ext cx="180036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3860640"/>
            <a:ext cx="190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Please ensure the resolution of your ROI file is the same as your functional data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132000" y="3141720"/>
            <a:ext cx="4392720" cy="237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eedList.tx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Seed_Time_Course_List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3Seed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2Seed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1Seed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1" dur="indefinite" restart="never" nodeType="tmRoot">
          <p:childTnLst>
            <p:seq>
              <p:cTn id="2512" dur="indefinite" nodeType="mainSeq">
                <p:childTnLst>
                  <p:par>
                    <p:cTn id="2513" fill="hold">
                      <p:stCondLst>
                        <p:cond delay="0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6" dur="1" fill="hold"/>
                                        <p:tgtEl>
                                          <p:spTgt spid="7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7" fill="hold">
                      <p:stCondLst>
                        <p:cond delay="indefinite"/>
                      </p:stCondLst>
                      <p:childTnLst>
                        <p:par>
                          <p:cTn id="2518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3" fill="hold">
                      <p:stCondLst>
                        <p:cond delay="indefinite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3919680" cy="583236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5076720" y="522936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89" name=""/>
          <p:cNvSpPr/>
          <p:nvPr/>
        </p:nvSpPr>
        <p:spPr>
          <a:xfrm>
            <a:off x="2700360" y="5229360"/>
            <a:ext cx="230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5" dur="indefinite" restart="never" nodeType="tmRoot">
          <p:childTnLst>
            <p:seq>
              <p:cTn id="2586" dur="indefinite" nodeType="mainSeq">
                <p:childTnLst>
                  <p:par>
                    <p:cTn id="2587" fill="hold">
                      <p:stCondLst>
                        <p:cond delay="0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0" dur="1" fill="hold"/>
                                        <p:tgtEl>
                                          <p:spTgt spid="7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11280" y="191628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被试信息整理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原始数据整理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777080" cy="6861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5800680" cy="619308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3348000" y="6093000"/>
            <a:ext cx="11527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95" name=""/>
          <p:cNvSpPr/>
          <p:nvPr/>
        </p:nvSpPr>
        <p:spPr>
          <a:xfrm>
            <a:off x="2268360" y="1628640"/>
            <a:ext cx="5399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1" dur="indefinite" restart="never" nodeType="tmRoot">
          <p:childTnLst>
            <p:seq>
              <p:cTn id="2602" dur="indefinite" nodeType="mainSeq">
                <p:childTnLst>
                  <p:par>
                    <p:cTn id="2603" fill="hold">
                      <p:stCondLst>
                        <p:cond delay="0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6" dur="1" fill="hold"/>
                                        <p:tgtEl>
                                          <p:spTgt spid="7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6697800" cy="494496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3780000" y="5157720"/>
            <a:ext cx="324000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7" dur="indefinite" restart="never" nodeType="tmRoot">
          <p:childTnLst>
            <p:seq>
              <p:cTn id="2618" dur="indefinite" nodeType="mainSeq">
                <p:childTnLst>
                  <p:par>
                    <p:cTn id="2619" fill="hold">
                      <p:stCondLst>
                        <p:cond delay="0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2" dur="1" fill="hold"/>
                                        <p:tgtEl>
                                          <p:spTgt spid="8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6077160" cy="435312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3780000" y="2492280"/>
            <a:ext cx="433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7" dur="indefinite" restart="never" nodeType="tmRoot">
          <p:childTnLst>
            <p:seq>
              <p:cTn id="2628" dur="indefinite" nodeType="mainSeq">
                <p:childTnLst>
                  <p:par>
                    <p:cTn id="2629" fill="hold">
                      <p:stCondLst>
                        <p:cond delay="0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2" dur="1" fill="hold"/>
                                        <p:tgtEl>
                                          <p:spTgt spid="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6282000" cy="652464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10" name=""/>
          <p:cNvSpPr/>
          <p:nvPr/>
        </p:nvSpPr>
        <p:spPr>
          <a:xfrm>
            <a:off x="3059280" y="2781360"/>
            <a:ext cx="129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843280" y="5516640"/>
            <a:ext cx="1800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843280" y="5950080"/>
            <a:ext cx="446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12000" y="4724280"/>
            <a:ext cx="172872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843280" y="4149720"/>
            <a:ext cx="4897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619280" y="6381720"/>
            <a:ext cx="576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924360" y="1268280"/>
            <a:ext cx="37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812000" y="4076640"/>
            <a:ext cx="18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CovList.t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132000" y="3141720"/>
            <a:ext cx="4537080" cy="3166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CovList.tx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Covariables_List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6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5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4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3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2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1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264360" cy="189540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7" dur="indefinite" restart="never" nodeType="tmRoot">
          <p:childTnLst>
            <p:seq>
              <p:cTn id="2638" dur="indefinite" nodeType="mainSeq">
                <p:childTnLst>
                  <p:par>
                    <p:cTn id="2639" fill="hold">
                      <p:stCondLst>
                        <p:cond delay="0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2" dur="1" fill="hold"/>
                                        <p:tgtEl>
                                          <p:spTgt spid="8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5" fill="hold">
                      <p:stCondLst>
                        <p:cond delay="indefinite"/>
                      </p:stCondLst>
                      <p:childTnLst>
                        <p:par>
                          <p:cTn id="2656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fill="hold">
                      <p:stCondLst>
                        <p:cond delay="indefinite"/>
                      </p:stCondLst>
                      <p:childTnLst>
                        <p:par>
                          <p:cTn id="2664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7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195960" cy="648000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1547640" y="3357720"/>
            <a:ext cx="129564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I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3" dur="indefinite" restart="never" nodeType="tmRoot">
          <p:childTnLst>
            <p:seq>
              <p:cTn id="2704" dur="indefinite" nodeType="mainSeq">
                <p:childTnLst>
                  <p:par>
                    <p:cTn id="2705" fill="hold">
                      <p:stCondLst>
                        <p:cond delay="0"/>
                      </p:stCondLst>
                      <p:childTnLst>
                        <p:par>
                          <p:cTn id="2706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8" dur="1" fill="hold"/>
                                        <p:tgtEl>
                                          <p:spTgt spid="8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408720" cy="494064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7020000" y="5157720"/>
            <a:ext cx="108108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I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989680" cy="640872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3"/>
          <a:stretch/>
        </p:blipFill>
        <p:spPr>
          <a:xfrm>
            <a:off x="1763640" y="1052640"/>
            <a:ext cx="6553440" cy="507996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3" dur="indefinite" restart="never" nodeType="tmRoot">
          <p:childTnLst>
            <p:seq>
              <p:cTn id="2714" dur="indefinite" nodeType="mainSeq">
                <p:childTnLst>
                  <p:par>
                    <p:cTn id="2715" fill="hold">
                      <p:stCondLst>
                        <p:cond delay="0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8" dur="1" fill="hold"/>
                                        <p:tgtEl>
                                          <p:spTgt spid="8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1" fill="hold">
                      <p:stCondLst>
                        <p:cond delay="indefinite"/>
                      </p:stCondLst>
                      <p:childTnLst>
                        <p:par>
                          <p:cTn id="2732" fill="hold">
                            <p:stCondLst>
                              <p:cond delay="0"/>
                            </p:stCondLst>
                            <p:childTnLst>
                              <p:par>
                                <p:cTn id="27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6282000" cy="652464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I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35" name=""/>
          <p:cNvSpPr/>
          <p:nvPr/>
        </p:nvSpPr>
        <p:spPr>
          <a:xfrm>
            <a:off x="3059280" y="2781360"/>
            <a:ext cx="129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43280" y="5516640"/>
            <a:ext cx="1800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43280" y="5950080"/>
            <a:ext cx="446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012000" y="4724280"/>
            <a:ext cx="172872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843280" y="4149720"/>
            <a:ext cx="4897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19280" y="6381720"/>
            <a:ext cx="576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924360" y="1268280"/>
            <a:ext cx="37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7812000" y="4076640"/>
            <a:ext cx="18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CovList.t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132000" y="3141720"/>
            <a:ext cx="4537080" cy="3166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CovList.tx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Covariables_List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6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5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4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3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2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1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264360" cy="189540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7" dur="indefinite" restart="never" nodeType="tmRoot">
          <p:childTnLst>
            <p:seq>
              <p:cTn id="2738" dur="indefinite" nodeType="mainSeq">
                <p:childTnLst>
                  <p:par>
                    <p:cTn id="2739" fill="hold">
                      <p:stCondLst>
                        <p:cond delay="0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2" dur="1" fill="hold"/>
                                        <p:tgtEl>
                                          <p:spTgt spid="8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fill="hold">
                      <p:stCondLst>
                        <p:cond delay="indefinite"/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6551640" cy="352764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0" y="2193840"/>
            <a:ext cx="2519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Covremov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FilteredCovremoved 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79280" y="2565360"/>
            <a:ext cx="237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Please ensure the resolution of your own mask is the same as your functional data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nctional Connectiv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556000" y="249228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788000" y="2492280"/>
            <a:ext cx="4176720" cy="362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643280" y="4508640"/>
            <a:ext cx="194472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732720" y="4508640"/>
            <a:ext cx="122400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3" dur="indefinite" restart="never" nodeType="tmRoot">
          <p:childTnLst>
            <p:seq>
              <p:cTn id="2804" dur="indefinite" nodeType="mainSeq">
                <p:childTnLst>
                  <p:par>
                    <p:cTn id="2805" fill="hold">
                      <p:stCondLst>
                        <p:cond delay="0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8" dur="1" fill="hold"/>
                                        <p:tgtEl>
                                          <p:spTgt spid="8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3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9" fill="hold">
                      <p:stCondLst>
                        <p:cond delay="indefinite"/>
                      </p:stCondLst>
                      <p:childTnLst>
                        <p:par>
                          <p:cTn id="2840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408720" cy="494064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7020000" y="5157720"/>
            <a:ext cx="108108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43960" y="1916280"/>
            <a:ext cx="6069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unctional Connectivity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989680" cy="640872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3"/>
          <a:stretch/>
        </p:blipFill>
        <p:spPr>
          <a:xfrm>
            <a:off x="1763640" y="1052640"/>
            <a:ext cx="6553440" cy="507996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5" dur="indefinite" restart="never" nodeType="tmRoot">
          <p:childTnLst>
            <p:seq>
              <p:cTn id="2846" dur="indefinite" nodeType="mainSeq">
                <p:childTnLst>
                  <p:par>
                    <p:cTn id="2847" fill="hold">
                      <p:stCondLst>
                        <p:cond delay="0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0" dur="1" fill="hold"/>
                                        <p:tgtEl>
                                          <p:spTgt spid="8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fill="hold">
                      <p:stCondLst>
                        <p:cond delay="indefinite"/>
                      </p:stCondLst>
                      <p:childTnLst>
                        <p:par>
                          <p:cTn id="2852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5" fill="hold">
                      <p:stCondLst>
                        <p:cond delay="indefinite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fill="hold">
                      <p:stCondLst>
                        <p:cond delay="indefinite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3419640" y="2565360"/>
            <a:ext cx="5543280" cy="298440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0" y="2193840"/>
            <a:ext cx="363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You will get the Voxel-wise functional connectivity results of each ROI in {working directory}\Results\FC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zROI1FCMap_Sub_00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zROI2FCMap_Sub_00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08000" y="5084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For ROI-wise results, please see Part Utilities: Extract ROI time courses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nctional Connectiv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9" dur="indefinite" restart="never" nodeType="tmRoot">
          <p:childTnLst>
            <p:seq>
              <p:cTn id="2870" dur="indefinite" nodeType="mainSeq">
                <p:childTnLst>
                  <p:par>
                    <p:cTn id="2871" fill="hold">
                      <p:stCondLst>
                        <p:cond delay="0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4" dur="1" fill="hold"/>
                                        <p:tgtEl>
                                          <p:spTgt spid="8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13:17:48Z</dcterms:created>
  <dc:creator>ibm</dc:creator>
  <dc:description/>
  <dc:language>en-US</dc:language>
  <cp:lastModifiedBy>YAN Chao-Gan</cp:lastModifiedBy>
  <dcterms:modified xsi:type="dcterms:W3CDTF">2012-10-21T03:59:24Z</dcterms:modified>
  <cp:revision>2131</cp:revision>
  <dc:subject/>
  <dc:title>幻灯片 1</dc:title>
</cp:coreProperties>
</file>