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92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69.png" ContentType="image/png"/>
  <Override PartName="/ppt/media/image71.png" ContentType="image/png"/>
  <Override PartName="/ppt/media/image89.png" ContentType="image/png"/>
  <Override PartName="/ppt/media/image77.png" ContentType="image/png"/>
  <Override PartName="/ppt/media/image4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81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29.png" ContentType="image/png"/>
  <Override PartName="/ppt/media/image9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0.png" ContentType="image/png"/>
  <Override PartName="/ppt/media/image25.png" ContentType="image/png"/>
  <Override PartName="/ppt/media/image6.png" ContentType="image/png"/>
  <Override PartName="/ppt/media/image18.png" ContentType="image/png"/>
  <Override PartName="/ppt/media/image8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E1B2-E936-43A1-8707-41BCE3A4F2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C0DD-9F91-4556-BEE4-BD7F834369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9B83-B13B-46BF-9558-CC52C73602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1BCF-5281-40B0-9D1A-18838BE0E5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ACD5-9FA7-4D57-B560-13774D32A9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B2E7-FBD1-43F0-B90D-3F00618FC6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31E8-EDD9-4916-98DA-8ECE809A97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71C1-CC64-4E79-B5F7-C97FD0538B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B75F-9BD4-416B-915F-DDAB521E60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D29B-ADB9-4FCA-A31B-EAA267D66B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62CE-863D-4EB9-B696-626D80EBF6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9815-6C4E-4393-8C52-D3F6C152E8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059C-985D-49F4-A997-49EE28E703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5939-C805-4147-A595-476DA4478A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10F1-3319-4129-A35F-75BA2F0DFF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8630-1E2A-4F0B-8B10-49F2692BAD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444C-F3B4-4A7B-902E-B651CF3A2D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D501-2F2F-4957-A56F-3418280C55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4403-706C-4691-832E-66EFA29EAB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B84E-6162-46C6-BAAA-9C33307FC7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6AA7-F9F3-4218-9DB9-234ED8FB7F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AF7B-94A7-46DD-AE27-FAB4017228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12E7-4811-4941-B01B-126AFF82F0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3EAE-4D50-4E97-A700-41F96FF091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058E-9D91-4A1A-AFD7-770D5E844B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D63A-E7A7-4EE1-AFDA-4375B2CC6F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937B-6A17-467A-B31E-24E9F485D9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2E5F-4198-4E54-8A84-12B4807DE8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F15A-E384-42B8-8D7D-632D6110DE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E642-B876-4C80-98FB-C21D07CF2E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6D89-5718-42CB-87BD-87AF4DDF0C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53D5-C1DE-4AC9-8154-9CB771972D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EEC3-6169-4924-831C-CBEA2AB084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5CC9-55E7-4EE9-9FAB-4C2163E26F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6950-0AA9-4D82-8F45-C38D43B8A0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8F03-0682-4CD3-92DE-2046E5DB90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6028-18E1-4652-8278-01BCA83BC2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C3EC-46B8-43B7-81A2-F090BCEBD4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6DE2-3197-4B50-85A5-6FB0ACE18E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E592-3C9C-4B67-8155-D354780F91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2387-0036-4316-973C-F9218A90B2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3902-9B06-45E2-8090-306D839218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6A2F-9E3A-412A-B21B-BFC55BA107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82F9-EADB-47CC-B5C9-B33C0F65C1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09BF-FB2A-472A-9ED2-7223D3A280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8B4C-0FBF-4006-8CCE-7904585365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CA23-C11B-43DE-A7B8-5FEC463A9B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C5BA-61AE-47DD-8616-41EEC73439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79E4-197B-431E-8234-BC562A3E2D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486B-DC69-40FB-A25C-D9C235F04B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B70E-D826-4C01-A5ED-FC499B12E0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9AA4-B7DB-46E5-AADB-0B2773B250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E01D-C43B-476C-A284-6E9CC08456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1588-223A-4AD2-BB90-588DCB5AFB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138B-A491-49E1-8838-CBE8AFF43B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FA74-C75B-4D5E-9FC7-7926BABD21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1383-21B4-4D7C-8532-A3FD0FEA62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4F74-67AC-486B-843F-A428F6C6AE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CE14-92D5-41A0-84BA-53EA480977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32D5-7B44-4149-B12F-8E87133D98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EC63-63FD-4282-81AE-7444BD5450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2118-CA0C-4FD2-8370-59AD1A1AA7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8ED7-2627-46EF-AA1B-D1FB7CB8CB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8701-1DBC-48FE-91A0-4C57A41E61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C253-991E-486E-9841-B4697AF497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ADA1-2D63-4617-A546-8793C91076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069D-CE35-4F15-B4AF-C55BBA7FC9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DDBC-AD7B-4917-975E-C677FCA7B5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1B0A-B9FB-4CDA-84EC-4B2B8DD175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ED9D-818B-4A1E-BD7B-7E9BFA55BD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8537-6429-46D4-AF7F-297CBED1C8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63E8-B40D-497D-B7B6-A1ED747CC7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BFF1-9887-48AA-AD34-AE87D5F6A2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A824-91E4-4847-A57A-85B67C031F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534E-1BDF-440E-938F-4B22A0410C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8542-ED40-4BAC-9D88-FE161CC1937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8472-BFC8-451D-A015-4BF94540E3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A300-A086-48FB-99AC-1173C5CF7A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CF09-5BC3-4335-B155-06B136B688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89D6-2B3C-45C0-A53D-3FAF8C446A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6BF7-7ACE-44B5-BACB-02B4497DC6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38D2-D631-40E8-A147-1A2699AF7D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88F4-86AA-457F-A151-C0C4274DD6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A61F-4ED1-4DBB-BCE0-BD8957A06D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F903-78BE-4B0C-8FA6-7DF326707D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AE6E-B8E9-4CDF-80B1-EB3AD29ED8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F770-0091-4B50-AD78-1148A66C2E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AFF7-24C4-48B6-B21D-029CED8D1A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A210-CC56-4671-93D3-010C31B2CE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EB24-3F8C-4F8C-95A8-A77481CE73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BD16-B480-41B2-8155-F8B3C6D261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EC27-830E-4416-AAB3-BAFE089D18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B4FC-C995-4293-A4C7-F64EB0CF77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7F4D-475D-4523-A047-417E463C51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5479-EF56-4A71-BEAF-7A33FE3598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18A3-7EB8-43FC-9C8E-CE638EBC3BF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0CEF-C3BA-42AB-A779-7BBBF55276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CF64-4B1F-4C63-A5E2-A6ED98A422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46E6-6A99-45F2-8308-4E075C9D28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7C04-CE12-407C-B93B-9568F5A512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8BC5-094E-4C2D-B494-AB35697802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BB90-DDE3-4AF0-8907-367DC86269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1E86-FF24-45B0-B69A-820FB47C48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76C9-EC5D-4DA1-A410-7E7D6F3B0B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C88A-A309-46F2-A9A4-3D7CB0EAF0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6B75-2855-4364-84D3-538337F2D8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5DCA-FCA0-44AE-B7CD-75C61CFB54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F850-E748-411D-AAC6-73576B8018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0F96-E00D-48C9-9B09-5C79E2CDF1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footer&gt;</a:t>
            </a:r>
            <a:fld id="{6FAFA1D9-8834-48F6-8EB8-1710B2C45813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9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9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9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280" y="622440"/>
            <a:ext cx="6696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楷体_GB2312"/>
              </a:rPr>
              <a:t>Data Processing Assistant for Resting-State fMRI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楷体_GB2312"/>
              </a:rPr>
              <a:t>Speed Up Your Data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AN Chao-Gan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严超赣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Ph. D.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cg.yan@gmail.com</a:t>
            </a:r>
            <a:br>
              <a:rPr sz="2400"/>
            </a:b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State Key Laboratory of Cognitive Neuroscience and Learning,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Beijing Normal University, Chin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16360" y="0"/>
            <a:ext cx="532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Course: Data Processing of Resting-State fMRI (Part 1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Sort DICOM data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56360" y="6165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42920" y="595008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fill="hold">
                      <p:stCondLst>
                        <p:cond delay="0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4" dur="1" fill="hold"/>
                                        <p:tgtEl>
                                          <p:spTgt spid="8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480360" cy="34480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0" y="2193840"/>
            <a:ext cx="251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Covremov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Covremov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ROI time cour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556000" y="4437000"/>
            <a:ext cx="2016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659640" y="4437000"/>
            <a:ext cx="12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0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0" dur="1" fill="hold"/>
                                        <p:tgtEl>
                                          <p:spTgt spid="8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43960" y="1916280"/>
            <a:ext cx="6069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tract ROI time courses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989680" cy="640872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1763640" y="1052640"/>
            <a:ext cx="6553440" cy="507996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9" dur="indefinite" restart="never" nodeType="tmRoot">
          <p:childTnLst>
            <p:seq>
              <p:cTn id="2920" dur="indefinite" nodeType="mainSeq">
                <p:childTnLst>
                  <p:par>
                    <p:cTn id="2921" fill="hold">
                      <p:stCondLst>
                        <p:cond delay="0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4" dur="1" fill="hold"/>
                                        <p:tgtEl>
                                          <p:spTgt spid="8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9" fill="hold">
                      <p:stCondLst>
                        <p:cond delay="indefinite"/>
                      </p:stCondLst>
                      <p:childTnLst>
                        <p:par>
                          <p:cTn id="2930" fill="hold">
                            <p:stCondLst>
                              <p:cond delay="0"/>
                            </p:stCondLst>
                            <p:childTnLst>
                              <p:par>
                                <p:cTn id="29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4535640" cy="241308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0" y="2193840"/>
            <a:ext cx="42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in {working direcotry}\FunImgNormalizedDetrendedFilteredCovremoved_RESTdefinedROITC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ROI time cour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429264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ub_001_ROITimeCourses.txt: Time courses, each column represent a time course of one ROI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ub_001_ResultCorr.txt: ROI-wise Functional Connectivit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0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8" dur="1" fill="hold"/>
                                        <p:tgtEl>
                                          <p:spTgt spid="8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6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480360" cy="344808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0" y="2193840"/>
            <a:ext cx="251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Covremov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Covremov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AAL time cour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627280" y="4797360"/>
            <a:ext cx="2881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7" dur="indefinite" restart="never" nodeType="tmRoot">
          <p:childTnLst>
            <p:seq>
              <p:cTn id="2968" dur="indefinite" nodeType="mainSeq">
                <p:childTnLst>
                  <p:par>
                    <p:cTn id="2969" fill="hold">
                      <p:stCondLst>
                        <p:cond delay="0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2" dur="1" fill="hold"/>
                                        <p:tgtEl>
                                          <p:spTgt spid="8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fill="hold">
                      <p:stCondLst>
                        <p:cond delay="indefinite"/>
                      </p:stCondLst>
                      <p:childTnLst>
                        <p:par>
                          <p:cTn id="2986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4535640" cy="241308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>
            <a:off x="0" y="2193840"/>
            <a:ext cx="42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in {working direcotry}\FunImgNormalizedDetrendedFilteredCovremoved_AALTC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AAL time cour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4292640"/>
            <a:ext cx="889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ub_001_AALTC.mat: Time courses of each AAL region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9" dur="indefinite" restart="never" nodeType="tmRoot">
          <p:childTnLst>
            <p:seq>
              <p:cTn id="2990" dur="indefinite" nodeType="mainSeq">
                <p:childTnLst>
                  <p:par>
                    <p:cTn id="2991" fill="hold">
                      <p:stCondLst>
                        <p:cond delay="0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4" dur="1" fill="hold"/>
                                        <p:tgtEl>
                                          <p:spTgt spid="9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6" dur="5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6516720" cy="348588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0" y="2193840"/>
            <a:ext cx="27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ation by using T1 image segmentation: co*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 without Slice Timeing: a*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Change prefix of Im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292720" y="4437000"/>
            <a:ext cx="79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3924360" y="2205000"/>
            <a:ext cx="4103640" cy="178596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4643280" y="2997360"/>
            <a:ext cx="266544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7" dur="indefinite" restart="never" nodeType="tmRoot">
          <p:childTnLst>
            <p:seq>
              <p:cTn id="3008" dur="indefinite" nodeType="mainSeq">
                <p:childTnLst>
                  <p:par>
                    <p:cTn id="3009" fill="hold">
                      <p:stCondLst>
                        <p:cond delay="0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2" dur="1" fill="hold"/>
                                        <p:tgtEl>
                                          <p:spTgt spid="9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5761080" cy="437508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0" y="2193840"/>
            <a:ext cx="27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ation by using T1 image segmentation: co*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Change prefix of Im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284720" y="4797360"/>
            <a:ext cx="1079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356000" y="5229360"/>
            <a:ext cx="93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419640" y="3357720"/>
            <a:ext cx="39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572000" y="4797360"/>
            <a:ext cx="576360" cy="358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4365720"/>
            <a:ext cx="270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*.img -&gt; ra*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5229360"/>
            <a:ext cx="720720" cy="358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r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156360" y="5084640"/>
            <a:ext cx="1008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5" dur="indefinite" restart="never" nodeType="tmRoot">
          <p:childTnLst>
            <p:seq>
              <p:cTn id="3036" dur="indefinite" nodeType="mainSeq">
                <p:childTnLst>
                  <p:par>
                    <p:cTn id="3037" fill="hold">
                      <p:stCondLst>
                        <p:cond delay="0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0" dur="1" fill="hold"/>
                                        <p:tgtEl>
                                          <p:spTgt spid="9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6" dur="5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7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480360" cy="344808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0" y="219384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ave parameters to *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ave and Load Parame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780000" y="5445000"/>
            <a:ext cx="86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859280" y="5445000"/>
            <a:ext cx="93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39337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Load parameters from *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3" dur="indefinite" restart="never" nodeType="tmRoot">
          <p:childTnLst>
            <p:seq>
              <p:cTn id="3094" dur="indefinite" nodeType="mainSeq">
                <p:childTnLst>
                  <p:par>
                    <p:cTn id="3095" fill="hold">
                      <p:stCondLst>
                        <p:cond delay="0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8" dur="1" fill="hold"/>
                                        <p:tgtEl>
                                          <p:spTgt spid="9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2484360" y="1916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6920" y="13809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826920" y="2749680"/>
            <a:ext cx="79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professional data analysis service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484360" y="3446640"/>
            <a:ext cx="64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 Imaging Data Analysis and Consultation Section (BIDACS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idacs@gmail.com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9" dur="indefinite" restart="never" nodeType="tmRoot">
          <p:childTnLst>
            <p:seq>
              <p:cTn id="3120" dur="indefinite" nodeType="mainSeq">
                <p:childTnLst>
                  <p:par>
                    <p:cTn id="3121" fill="hold">
                      <p:stCondLst>
                        <p:cond delay="0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4" dur="1" fill="hold"/>
                                        <p:tgtEl>
                                          <p:spTgt spid="9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4920" y="476280"/>
            <a:ext cx="6913440" cy="6048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148360" y="1989000"/>
            <a:ext cx="86364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1844640"/>
            <a:ext cx="1655640" cy="1079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IMA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dcm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none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3068640"/>
            <a:ext cx="482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5734080"/>
            <a:ext cx="100800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4581360"/>
            <a:ext cx="403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5084640"/>
            <a:ext cx="2233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5373720"/>
            <a:ext cx="2233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5805360"/>
            <a:ext cx="2016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"/>
          <p:cNvSpPr/>
          <p:nvPr/>
        </p:nvSpPr>
        <p:spPr>
          <a:xfrm>
            <a:off x="5003640" y="465300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All the group members!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MRIcroN Team: Chris Rorden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5" dur="indefinite" restart="never" nodeType="tmRoot">
          <p:childTnLst>
            <p:seq>
              <p:cTn id="3126" dur="indefinite" nodeType="mainSeq">
                <p:childTnLst>
                  <p:par>
                    <p:cTn id="3127" fill="hold">
                      <p:stCondLst>
                        <p:cond delay="0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0" dur="1" fill="hold"/>
                                        <p:tgtEl>
                                          <p:spTgt spid="9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971640" y="2997000"/>
            <a:ext cx="77976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Thanks for your attention!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1" dur="indefinite" restart="never" nodeType="tmRoot">
          <p:childTnLst>
            <p:seq>
              <p:cTn id="3132" dur="indefinite" nodeType="mainSeq">
                <p:childTnLst>
                  <p:par>
                    <p:cTn id="3133" fill="hold">
                      <p:stCondLst>
                        <p:cond delay="0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6" dur="1" fill="hold"/>
                                        <p:tgtEl>
                                          <p:spTgt spid="9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700280"/>
            <a:ext cx="8532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each subject's fMRI DICOM images in one directory, and then put them in "FunRaw" directory under the working directory.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353440" cy="2738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32000" y="3429000"/>
            <a:ext cx="5185080" cy="24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COM fil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314172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19280" y="4653000"/>
            <a:ext cx="72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unRaw directory, please name as thi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314172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58920" y="4508640"/>
            <a:ext cx="792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3141720"/>
            <a:ext cx="86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292640"/>
            <a:ext cx="934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1640" y="6308640"/>
            <a:ext cx="586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Working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353440" cy="2765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700280"/>
            <a:ext cx="8532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each subject's T1 DICOM images in one directory, and then put them in “T1Raw" directory under the working directory.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3429000"/>
            <a:ext cx="5185080" cy="24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COM fil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314172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4653000"/>
            <a:ext cx="72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T1Raw directory, please name as thi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314172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4508640"/>
            <a:ext cx="792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3141720"/>
            <a:ext cx="86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4076640"/>
            <a:ext cx="934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6308640"/>
            <a:ext cx="586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Working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6192720" cy="2762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700280"/>
            <a:ext cx="8532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Set the parameters in DPARSF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3716280"/>
            <a:ext cx="446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et the working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4221000"/>
            <a:ext cx="2737080" cy="1079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et the time points (volumes)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4508640"/>
            <a:ext cx="719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4941720"/>
            <a:ext cx="71928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The detected subjects’ I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51640" y="616572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et the T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080" y="184464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ICOM-&gt;NIF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628640"/>
            <a:ext cx="7201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RIcroN’s dcm2niigui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PM5’s DICOM Impor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608720" cy="1806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067280" y="5373720"/>
            <a:ext cx="4248000" cy="1303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564000" y="2997360"/>
            <a:ext cx="230328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627280" y="2349360"/>
            <a:ext cx="4753080" cy="1905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771640" y="1585800"/>
            <a:ext cx="6121440" cy="52722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ICOM-&gt;NIF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4292640"/>
            <a:ext cx="14396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080" y="270972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843280" y="1527120"/>
            <a:ext cx="5976720" cy="5330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4148280"/>
            <a:ext cx="2376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0" y="357336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35640" y="3429000"/>
            <a:ext cx="3311640" cy="3135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3960720" cy="2976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111640" y="189000"/>
            <a:ext cx="4032360" cy="29653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68360" y="0"/>
            <a:ext cx="4392720" cy="3170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90920" y="64998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Huettel et al., 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852" t="0" r="0" b="0"/>
          <a:stretch/>
        </p:blipFill>
        <p:spPr>
          <a:xfrm>
            <a:off x="539640" y="1916280"/>
            <a:ext cx="8317080" cy="3984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00000" y="292428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328464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364500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400536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436572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472428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2708280"/>
            <a:ext cx="52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:2:25,2:2:24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88000" y="213372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2708280"/>
            <a:ext cx="52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5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2708280"/>
            <a:ext cx="52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2708280"/>
            <a:ext cx="52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-(2/25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92360" y="2708280"/>
            <a:ext cx="52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5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5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9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056360" cy="33987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2920" y="2133720"/>
            <a:ext cx="30974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00720" y="1773360"/>
            <a:ext cx="1942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76360" y="2708280"/>
            <a:ext cx="19432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771640" y="1585800"/>
            <a:ext cx="6121440" cy="52722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43280" y="4653000"/>
            <a:ext cx="107928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5640" y="4653000"/>
            <a:ext cx="129708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4653000"/>
            <a:ext cx="1728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236000" y="4581360"/>
            <a:ext cx="158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544500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:2:25,2:2:24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39640" y="3646440"/>
            <a:ext cx="8137800" cy="2292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6360" y="1341360"/>
            <a:ext cx="8532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If you start with NIFTI images (.hdr/.img pairs) before slice timing, you need to arrange each subject's fMRI NIFTI images in one directory, and then put them in "FunImg" directory under the working directory.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3933720"/>
            <a:ext cx="4392720" cy="194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4000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unImg directory, please name as thi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364500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4797360"/>
            <a:ext cx="792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080" y="4365720"/>
            <a:ext cx="39528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5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5688000" cy="5014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3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08000" y="242100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869000"/>
            <a:ext cx="35272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Based on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Matlab, SPM, REST, MRIcroN’s dcm2nii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08360" y="57240"/>
            <a:ext cx="4581720" cy="67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848360" cy="29206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42920" y="328464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921440" cy="35402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55640" y="1916280"/>
            <a:ext cx="129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3789360"/>
            <a:ext cx="352908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2637000"/>
            <a:ext cx="360036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771640" y="1585800"/>
            <a:ext cx="6121440" cy="52722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43280" y="501336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Check head motion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44360" y="2565360"/>
            <a:ext cx="8964720" cy="3214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971640" y="4221000"/>
            <a:ext cx="17287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2565360"/>
            <a:ext cx="266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87640" y="3068640"/>
            <a:ext cx="1655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87640" y="3500280"/>
            <a:ext cx="1871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4514760" cy="40482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337560" y="765000"/>
            <a:ext cx="4322880" cy="56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xcluding Criteria: 2.5mm and 2.5 degre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Non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xcluding Criteria: 2.0mm and 2.0 degre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xcluding Criteria: 1.5mm and 1.5 degre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xcluding Criteria: 1.0mm and 1.0 degre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07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2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7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8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9" dur="1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0" y="515772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195640" y="1658880"/>
            <a:ext cx="6264000" cy="5199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-1440" y="5732640"/>
            <a:ext cx="200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Huettel et al., 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5" dur="1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thod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3280" y="2349360"/>
            <a:ext cx="748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. Normalize by using EPI templ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I. Normalize by using T1 image unified segment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5040360" cy="1571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2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8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54816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332000" y="98100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32000" y="155736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32000" y="227664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32000" y="566100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32000" y="609300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88000" y="69228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an_name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88000" y="141300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*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213372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EPI.nii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88000" y="5445000"/>
            <a:ext cx="47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90 -126  -72; 90  90  108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88000" y="5845320"/>
            <a:ext cx="47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3 3 3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1" dur="1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3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7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3994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3280" y="2421000"/>
            <a:ext cx="30974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59280" y="1700280"/>
            <a:ext cx="19432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35280" y="4149720"/>
            <a:ext cx="1942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1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360" y="141300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thod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03280" y="2708280"/>
            <a:ext cx="748980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EPI templ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335772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tructural image was coregistered to the mean functional image after the motion correction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transformed structural image was then segmented into gray matter, white matter, cerebrospinal fluid by using a unified segmentation algorithm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: the motion corrected functional volumes were spatially normalized to the MNI space using the normalization parameters estimated during unified segmentation (*_seg_sn.mat)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3" dur="1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4394E-006 L 4.16667E-006 -0.21207 E">
                                      <p:cBhvr>
                                        <p:cTn id="880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8064720" cy="2895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II: Coregis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00000" y="2421000"/>
            <a:ext cx="30974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32360" y="2349360"/>
            <a:ext cx="2232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961080" cy="2765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332000" y="2997360"/>
            <a:ext cx="259236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328464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76720" y="2637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an_name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03640" y="306864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T1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87280" y="414972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4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's standard proced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887480"/>
            <a:ext cx="820872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Convert DICOM files to NIFTI images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Remove First 10 Time Points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Slice Timing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Realign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Normalize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Smooth (optional)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Detrend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Filter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Calculate ReHo, ALFF, fALFF (optional)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Regress out the Covariables (optional)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Calculate Functional Connectivity (optional)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Extract AAL or ROI time courses for further analysis         (optional)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II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971640" y="1457280"/>
            <a:ext cx="3754440" cy="5400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114560" y="1773360"/>
            <a:ext cx="2592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03280" y="342900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59280" y="141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T1_Coregisted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32360" y="30686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Light Clea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03280" y="458136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32360" y="4292640"/>
            <a:ext cx="396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ICBM space template – East Asian brain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European brain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8" dur="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0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7632720" cy="27050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2448000" cy="7207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II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71640" y="2133720"/>
            <a:ext cx="1152360" cy="71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95640" y="2133720"/>
            <a:ext cx="1224000" cy="71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9280" y="220500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ew “Segment”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58920" y="3429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76360" y="371628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59280" y="3429000"/>
            <a:ext cx="230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0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8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381480" cy="53006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826920" y="1555920"/>
            <a:ext cx="1873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2205000"/>
            <a:ext cx="1224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63640" y="2924280"/>
            <a:ext cx="2232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76360" y="4941720"/>
            <a:ext cx="208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76360" y="5300640"/>
            <a:ext cx="20876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00720" y="1268280"/>
            <a:ext cx="46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ew “Normalize: Write”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184464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ew “Subject”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2637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ame_seg_sn.ma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4797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90 -126  -72; 90  90  108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16360" y="5229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3 3 3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63640" y="3284640"/>
            <a:ext cx="2232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299736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*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Normalize I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4" dur="1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6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8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2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916360" y="1643040"/>
            <a:ext cx="5903640" cy="53150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24360" y="5013360"/>
            <a:ext cx="863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59280" y="5013360"/>
            <a:ext cx="230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36000" y="5013360"/>
            <a:ext cx="1511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987640" y="5373720"/>
            <a:ext cx="23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64000" y="5373720"/>
            <a:ext cx="3529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14560" y="5589720"/>
            <a:ext cx="1513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9280" y="4508640"/>
            <a:ext cx="23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1 Data should be arranged in T1Raw or T1Img (co*.img) directory!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16360" y="5950080"/>
            <a:ext cx="23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3573360"/>
            <a:ext cx="237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elete files before normalization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aw NIfTI files, slice timing files, realign files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27640" y="5589720"/>
            <a:ext cx="3529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956720" y="558972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8" dur="1" fill="hold"/>
                                        <p:tgtEl>
                                          <p:spTgt spid="3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Check Normalization with 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276640"/>
            <a:ext cx="6697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{WROKDIR}\PicturesForChkNormalization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6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7"/>
          <a:stretch/>
        </p:blipFill>
        <p:spPr>
          <a:xfrm>
            <a:off x="755640" y="260280"/>
            <a:ext cx="7629480" cy="63151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1258560" y="1557360"/>
            <a:ext cx="6337440" cy="4392000"/>
            <a:chOff x="1258560" y="1557360"/>
            <a:chExt cx="6337440" cy="4392000"/>
          </a:xfrm>
        </p:grpSpPr>
        <p:sp>
          <p:nvSpPr>
            <p:cNvPr id="411" name=""/>
            <p:cNvSpPr/>
            <p:nvPr/>
          </p:nvSpPr>
          <p:spPr>
            <a:xfrm>
              <a:off x="1258920" y="1557360"/>
              <a:ext cx="6337080" cy="4392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58920" y="1557360"/>
              <a:ext cx="6337080" cy="4392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1258560" y="1557360"/>
              <a:ext cx="6337080" cy="4392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55640" y="260280"/>
            <a:ext cx="1152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6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80" y="5950080"/>
            <a:ext cx="39528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9" dur="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moo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50920" y="2852640"/>
            <a:ext cx="65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duce the effects of the bad normaliz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…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7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260360" y="2494080"/>
            <a:ext cx="4714920" cy="2195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547640" y="2997360"/>
            <a:ext cx="35290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47640" y="3357720"/>
            <a:ext cx="35290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92720" y="270972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*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92720" y="321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WHM kernel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moo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3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5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6193080" cy="53020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moo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59640" y="5661000"/>
            <a:ext cx="8650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9280" y="4508640"/>
            <a:ext cx="23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LFF, fALFF, Funtional Connectivity: Data with smooth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596360" y="5661000"/>
            <a:ext cx="1223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0920" y="35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without smooth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6237360"/>
            <a:ext cx="14414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308720" y="6237360"/>
            <a:ext cx="1584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8000" y="2637000"/>
            <a:ext cx="251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843280" y="4221000"/>
            <a:ext cx="3168720" cy="1800360"/>
            <a:chOff x="2843280" y="4221000"/>
            <a:chExt cx="3168720" cy="1800360"/>
          </a:xfrm>
        </p:grpSpPr>
        <p:sp>
          <p:nvSpPr>
            <p:cNvPr id="443" name=""/>
            <p:cNvSpPr/>
            <p:nvPr/>
          </p:nvSpPr>
          <p:spPr>
            <a:xfrm>
              <a:off x="2843280" y="4221000"/>
              <a:ext cx="3168720" cy="1800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43280" y="4221000"/>
              <a:ext cx="3168720" cy="180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843280" y="4221000"/>
              <a:ext cx="3168720" cy="180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1" dur="1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27640" y="530064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0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4" dur="1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908000" y="1490760"/>
            <a:ext cx="5977080" cy="53672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Detr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87640" y="4508640"/>
            <a:ext cx="338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08720" y="5661000"/>
            <a:ext cx="136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0920" y="2205000"/>
            <a:ext cx="136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72360" y="2205000"/>
            <a:ext cx="13665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2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27640" y="602136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0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0" dur="1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滤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124000" y="170028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Low frequency (0.01–0.08 Hz) fluctuations (LFFs) of the resting-state fMRI signal were of physiological importance. (Biswal et al., 2005) 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LFFs of resting-state fMRI signal were suggested to reflect spontaneous neuronal activity (Logothetis et al., 2001; Lu et al., 2007).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32000" y="5299200"/>
            <a:ext cx="7127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1e2f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 </a:t>
            </a: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Biswal B, Yetkin FZ, Haughton VM, Hyde JS (1995) Functional connectivity in the motor cortex of resting human brain using echo-planar MRI. Magn Reson Med 34: 537–541.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1e2f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 </a:t>
            </a: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Logothetis NK, Pauls J, Augath M, Trinath T, Oeltermann A (2001) Neurophysiological investigation of the basis of the fMRI signal. Nature 412: 150–157. 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1e2f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 </a:t>
            </a: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Lu H, Zuo Y, Gu H, Waltz JA, Zhan W, et al. (2007) Synchronized delta oscillations correlate with the resting-state functional MRI signal. Proc Natl Acad Sci U S A 104: 18265–18269. 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8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6337440" cy="534816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Fil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50920" y="3500280"/>
            <a:ext cx="338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427640" y="479736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1280" y="1916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63640" y="1916280"/>
            <a:ext cx="2016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35640" y="1916280"/>
            <a:ext cx="1297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4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6193080" cy="530208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etrend and Fil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843280" y="6568920"/>
            <a:ext cx="792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708360" y="6568920"/>
            <a:ext cx="934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0920" y="3573360"/>
            <a:ext cx="237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If you want to calculate fALFF, please do not delete the detrended fil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16360" y="6568920"/>
            <a:ext cx="1727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16720" y="6568920"/>
            <a:ext cx="1800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8000" y="2637000"/>
            <a:ext cx="2519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 or FunImgNormalizedSmooth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8" dur="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2920" y="436392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0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8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44640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Ho </a:t>
            </a:r>
            <a:br>
              <a:rPr sz="36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Regional Homogeneity)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图片 3" descr=""/>
          <p:cNvPicPr/>
          <p:nvPr/>
        </p:nvPicPr>
        <p:blipFill>
          <a:blip r:embed="rId1"/>
          <a:stretch/>
        </p:blipFill>
        <p:spPr>
          <a:xfrm>
            <a:off x="1747800" y="3552840"/>
            <a:ext cx="3024360" cy="265896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4" descr=""/>
          <p:cNvPicPr/>
          <p:nvPr/>
        </p:nvPicPr>
        <p:blipFill>
          <a:blip r:embed="rId2"/>
          <a:stretch/>
        </p:blipFill>
        <p:spPr>
          <a:xfrm>
            <a:off x="5219640" y="4076640"/>
            <a:ext cx="2648160" cy="13795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826920" y="1584360"/>
            <a:ext cx="720108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ote: Please do not smooth your data in preprocessing, just smooth your data after ReHo calculation.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36720" y="565992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Zang et al., 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5280" y="6400800"/>
            <a:ext cx="84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ahoma"/>
              </a:rPr>
              <a:t>Zang YF, Jiang TZ, Lu YL, He Y, Tian LX (2004) Regional homogeneity approach to fMRI data analysis. Neuroimage 22: 394–400.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0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4" dur="1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875640" cy="6345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1045080" y="2781360"/>
            <a:ext cx="39610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635280" y="1268280"/>
            <a:ext cx="360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19640" y="2708280"/>
            <a:ext cx="2089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08000" y="3429000"/>
            <a:ext cx="1151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132000" y="5013360"/>
            <a:ext cx="208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132000" y="5516640"/>
            <a:ext cx="482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35280" y="5950080"/>
            <a:ext cx="662436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588000" y="4221000"/>
            <a:ext cx="194472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956720" y="3500280"/>
            <a:ext cx="5745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19640" y="3068640"/>
            <a:ext cx="2089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4005360"/>
            <a:ext cx="18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If the resolution of your data is not 61*61*73, please resample your mask file at first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4" dur="1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2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459640" cy="30704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826920" y="1628640"/>
            <a:ext cx="1729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71640" y="2060640"/>
            <a:ext cx="302400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42920" y="242100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00000" y="314172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177336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03280" y="4653000"/>
            <a:ext cx="61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Choose one of your functional image. e.g. your normalized functional image or image after Detrend and Filter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48000" y="4437000"/>
            <a:ext cx="47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oose the mask file or ROI definition file. e.g. BrainMask_05_61x73x61.img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11640" y="5445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esample Mask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68360" y="5734080"/>
            <a:ext cx="56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esample other kind of data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16360" y="134136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Data Res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0" dur="1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8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2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27" name=""/>
          <p:cNvSpPr/>
          <p:nvPr/>
        </p:nvSpPr>
        <p:spPr>
          <a:xfrm>
            <a:off x="-18108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Data Resampl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651640" y="836640"/>
            <a:ext cx="2639880" cy="60213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5940360" y="5229360"/>
            <a:ext cx="1944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0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8" dur="1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8874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the information of the subject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624720" cy="64659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2771640" y="220500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16720" y="5734080"/>
            <a:ext cx="1152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35" name=""/>
          <p:cNvSpPr/>
          <p:nvPr/>
        </p:nvSpPr>
        <p:spPr>
          <a:xfrm>
            <a:off x="-18108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Data Resampl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708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360" y="4365720"/>
            <a:ext cx="388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360" y="4797360"/>
            <a:ext cx="1727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24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43640" y="4869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645000"/>
            <a:ext cx="298764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 – Nearest Neighb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– Trilinea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2- 2nd degree b-spline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08360" y="5300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08360" y="5877000"/>
            <a:ext cx="266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0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0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50920" y="2852640"/>
            <a:ext cx="237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own mask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2492280"/>
            <a:ext cx="2519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484360" y="2513160"/>
            <a:ext cx="6659640" cy="35082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H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56000" y="249228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788000" y="2492280"/>
            <a:ext cx="4176720" cy="362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35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Get the smReHo -1 or mReHo - 1 data for one sample T test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56000" y="2924280"/>
            <a:ext cx="8636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812000" y="2924280"/>
            <a:ext cx="1224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69080" y="2924280"/>
            <a:ext cx="1008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284640"/>
            <a:ext cx="237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 the mReHo results. The FWHM kernel is the same as set in the smooth step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77080" y="2924280"/>
            <a:ext cx="9349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2" dur="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4468680" cy="53290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80360" y="537264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Zang et al., 2007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280" y="6400800"/>
            <a:ext cx="84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Zang YF, He Y, Zhu CZ, Cao QJ, Sui MQ, et al.  (2007) Altered baseline brain activity in children with ADHD revealed by resting-state functional MRI. Brain Dev 29: 83–91. 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2349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LFF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Amplitude of Low Frequency Fluctu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)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0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6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fALFF</a:t>
            </a:r>
            <a:br>
              <a:rPr sz="36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fractional ALFF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80360" y="537264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Zou et al., 2008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5280" y="6400800"/>
            <a:ext cx="84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Zou QH, Zhu CZ, Yang Y, Zuo XN, Long XY, et al. (2008) An improved approach to detection of amplitude of low-frequency fluctuation (ALFF) for resting-state fMRI: fractional ALFF. J Neurosci Methods 172: 137-141.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24720" cy="29034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202440" y="4869000"/>
            <a:ext cx="293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隶书"/>
              </a:rPr>
              <a:t>PCC: posterior cingulate cortex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隶书"/>
              </a:rPr>
              <a:t>SC: suprasellar cistern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826920" y="4365720"/>
            <a:ext cx="3529080" cy="215640"/>
            <a:chOff x="826920" y="4365720"/>
            <a:chExt cx="3529080" cy="215640"/>
          </a:xfrm>
        </p:grpSpPr>
        <p:sp>
          <p:nvSpPr>
            <p:cNvPr id="571" name=""/>
            <p:cNvSpPr/>
            <p:nvPr/>
          </p:nvSpPr>
          <p:spPr>
            <a:xfrm>
              <a:off x="826920" y="436572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56000" y="436572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26920" y="4437000"/>
              <a:ext cx="3529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042920" y="4365720"/>
            <a:ext cx="1081080" cy="215640"/>
            <a:chOff x="1042920" y="4365720"/>
            <a:chExt cx="1081080" cy="215640"/>
          </a:xfrm>
        </p:grpSpPr>
        <p:sp>
          <p:nvSpPr>
            <p:cNvPr id="575" name=""/>
            <p:cNvSpPr/>
            <p:nvPr/>
          </p:nvSpPr>
          <p:spPr>
            <a:xfrm>
              <a:off x="1042920" y="436572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24000" y="436572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42920" y="4437000"/>
              <a:ext cx="1081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4427640" y="1844640"/>
            <a:ext cx="4321080" cy="2879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826920" y="4508640"/>
            <a:ext cx="3529080" cy="215640"/>
            <a:chOff x="826920" y="4508640"/>
            <a:chExt cx="3529080" cy="215640"/>
          </a:xfrm>
        </p:grpSpPr>
        <p:sp>
          <p:nvSpPr>
            <p:cNvPr id="580" name=""/>
            <p:cNvSpPr/>
            <p:nvPr/>
          </p:nvSpPr>
          <p:spPr>
            <a:xfrm>
              <a:off x="826920" y="450864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56000" y="450864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6920" y="4579920"/>
              <a:ext cx="3529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2349360"/>
            <a:ext cx="1081080" cy="201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92720" y="2349360"/>
            <a:ext cx="1081080" cy="201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0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2" dur="1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658836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-1045080" y="2781360"/>
            <a:ext cx="39610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AL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067280" y="907920"/>
            <a:ext cx="3384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708360" y="2421000"/>
            <a:ext cx="1871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348000" y="3860640"/>
            <a:ext cx="3672000" cy="50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19640" y="5445000"/>
            <a:ext cx="1873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92360" y="5950080"/>
            <a:ext cx="4535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268360" y="6308640"/>
            <a:ext cx="6264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804000" y="4653000"/>
            <a:ext cx="1728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708360" y="2781360"/>
            <a:ext cx="1871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-900000" y="429264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fALFF: </a:t>
            </a:r>
            <a:br>
              <a:rPr sz="36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O NOT filter!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2" dur="1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2492280"/>
            <a:ext cx="25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Smooth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79280" y="2565360"/>
            <a:ext cx="23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own mask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659640" cy="357984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ALFF and fALF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556000" y="249228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788000" y="2492280"/>
            <a:ext cx="4176720" cy="362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79280" y="4724280"/>
            <a:ext cx="23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Get the mALFF - 1 or (mfALFF - 1) data for one sample T test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484360" y="3284640"/>
            <a:ext cx="8636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308720" y="3284640"/>
            <a:ext cx="183528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419640" y="3284640"/>
            <a:ext cx="792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3284640"/>
            <a:ext cx="2808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79280" y="3108240"/>
            <a:ext cx="23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DO NOT delete the detrended files before filter. DPARSF will calculated the fALFF based on data before filter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9" dur="indefinite" restart="never" nodeType="tmRoot">
          <p:childTnLst>
            <p:seq>
              <p:cTn id="1900" dur="indefinite" nodeType="mainSeq">
                <p:childTnLst>
                  <p:par>
                    <p:cTn id="1901" fill="hold">
                      <p:stCondLst>
                        <p:cond delay="0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4" dur="1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42920" y="515628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0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8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692360" y="764640"/>
            <a:ext cx="640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nuisance covar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6920" y="1628640"/>
            <a:ext cx="741708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Head motion parameters: rp_name.tx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Global mean signal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hite matter signal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Cerebrospinal fluid signal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0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4" dur="1" fill="hold"/>
                                        <p:tgtEl>
                                          <p:spTgt spid="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22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5651640" y="836640"/>
            <a:ext cx="2639880" cy="602136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5940360" y="4508640"/>
            <a:ext cx="1944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0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763640" y="568440"/>
            <a:ext cx="7380360" cy="559908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2771640" y="263700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380360" y="4508640"/>
            <a:ext cx="1152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30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0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2" dur="1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18874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Information of subject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235080"/>
            <a:ext cx="7812360" cy="662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547560" y="1204920"/>
          <a:ext cx="8212320" cy="524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7560" y="1204920"/>
                    <a:ext cx="821232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35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8" dur="1" fill="hold"/>
                                        <p:tgtEl>
                                          <p:spTgt spid="6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989680" cy="640872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2124000" y="206064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484360" y="3573360"/>
            <a:ext cx="2664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41" name=""/>
          <p:cNvSpPr/>
          <p:nvPr/>
        </p:nvSpPr>
        <p:spPr>
          <a:xfrm>
            <a:off x="6480000" y="6021360"/>
            <a:ext cx="1332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3" dur="indefinite" restart="never" nodeType="tmRoot">
          <p:childTnLst>
            <p:seq>
              <p:cTn id="2024" dur="indefinite" nodeType="mainSeq">
                <p:childTnLst>
                  <p:par>
                    <p:cTn id="2025" fill="hold">
                      <p:stCondLst>
                        <p:cond delay="0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8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7056360" cy="525780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4067280" y="4869000"/>
            <a:ext cx="338436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47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0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0" dur="1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80360" cy="50259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763640" y="5516640"/>
            <a:ext cx="547236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52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-108000" y="4076640"/>
            <a:ext cx="19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Extract one subject’s Covariates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5" dur="indefinite" restart="never" nodeType="tmRoot">
          <p:childTnLst>
            <p:seq>
              <p:cTn id="2056" dur="indefinite" nodeType="mainSeq">
                <p:childTnLst>
                  <p:par>
                    <p:cTn id="2057" fill="hold">
                      <p:stCondLst>
                        <p:cond delay="0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0" dur="1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08720" cy="49719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1835280" y="544500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58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-108000" y="4076640"/>
            <a:ext cx="19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Extract multi subjects’ Covariates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fill="hold">
                      <p:stCondLst>
                        <p:cond delay="0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4" dur="1" fill="hold"/>
                                        <p:tgtEl>
                                          <p:spTgt spid="6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1763640" y="568440"/>
            <a:ext cx="7380360" cy="559908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3564000" y="5229360"/>
            <a:ext cx="252072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308720" y="5300640"/>
            <a:ext cx="12970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65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0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8" dur="1" fill="hold"/>
                                        <p:tgtEl>
                                          <p:spTgt spid="6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92360" y="620640"/>
            <a:ext cx="3887640" cy="29307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1908000" y="1916280"/>
            <a:ext cx="100836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70" name=""/>
          <p:cNvSpPr/>
          <p:nvPr/>
        </p:nvSpPr>
        <p:spPr>
          <a:xfrm>
            <a:off x="2987640" y="1916280"/>
            <a:ext cx="216072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08000" y="328464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7200720" cy="26748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9" dur="indefinite" restart="never" nodeType="tmRoot">
          <p:childTnLst>
            <p:seq>
              <p:cTn id="2100" dur="indefinite" nodeType="mainSeq">
                <p:childTnLst>
                  <p:par>
                    <p:cTn id="2101" fill="hold">
                      <p:stCondLst>
                        <p:cond delay="0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4" dur="1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67694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nuisance Covar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26920" y="1628640"/>
            <a:ext cx="720108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Covariate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Head motion parameters: rp_name.t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Global mean signa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hite matter signa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erebrospinal fluid signa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Combine the covariates for future using in RES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971640" y="4581360"/>
            <a:ext cx="7634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RPCov=load('rp_name.txt');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BCWCov=load('ROI_FCMap_name.txt');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=[RPCov,BCWCov];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ave('Cov.txt', 'Cov', '-ASCII', '-DOUBLE','-TABS');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0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8" dur="1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81" name=""/>
          <p:cNvSpPr/>
          <p:nvPr/>
        </p:nvSpPr>
        <p:spPr>
          <a:xfrm>
            <a:off x="-71280" y="2205000"/>
            <a:ext cx="197928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gress ou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5651640" y="836640"/>
            <a:ext cx="2639880" cy="602136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5940360" y="3789360"/>
            <a:ext cx="1944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fill="hold">
                      <p:stCondLst>
                        <p:cond delay="0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6" dur="1" fill="hold"/>
                                        <p:tgtEl>
                                          <p:spTgt spid="6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6696360" cy="599292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2843280" y="2205000"/>
            <a:ext cx="4537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96360" y="4869000"/>
            <a:ext cx="64764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89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2050920" y="404640"/>
            <a:ext cx="6697800" cy="34801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2629080" y="2638440"/>
            <a:ext cx="4536720" cy="2085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Covariables_List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3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2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1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415280" y="5229360"/>
            <a:ext cx="1728720" cy="360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51280" y="5445000"/>
            <a:ext cx="1657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372360" y="5516640"/>
            <a:ext cx="122400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fill="hold">
                      <p:stCondLst>
                        <p:cond delay="0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8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91628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the information of the subject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the MRI data of the subject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3059280" y="4560840"/>
            <a:ext cx="576000" cy="1441440"/>
          </a:xfrm>
          <a:custGeom>
            <a:avLst/>
            <a:gdLst>
              <a:gd name="textAreaLeft" fmla="*/ 0 w 576000"/>
              <a:gd name="textAreaRight" fmla="*/ 208080 w 57600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4200480"/>
            <a:ext cx="511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MRI data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Structural MRI data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DTI data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2484360" y="2421000"/>
            <a:ext cx="6659640" cy="31669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0" y="2492280"/>
            <a:ext cx="25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79280" y="2565360"/>
            <a:ext cx="2376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p*.t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556000" y="3357720"/>
            <a:ext cx="26636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92720" y="3354480"/>
            <a:ext cx="2087640" cy="361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79280" y="472428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sfMask_07_61x73x6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80360" y="3429000"/>
            <a:ext cx="1763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490920" y="3716280"/>
            <a:ext cx="1657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219640" y="3716280"/>
            <a:ext cx="2195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79280" y="310824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Mask_05_61x73x6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547640" y="333360"/>
            <a:ext cx="6769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nuisance Covari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08000" y="39337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hiteMask_09_61x73x6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3" dur="indefinite" restart="never" nodeType="tmRoot">
          <p:childTnLst>
            <p:seq>
              <p:cTn id="2214" dur="indefinite" nodeType="mainSeq">
                <p:childTnLst>
                  <p:par>
                    <p:cTn id="2215" fill="hold">
                      <p:stCondLst>
                        <p:cond delay="0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8" dur="1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6588000" cy="310032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0" y="2492280"/>
            <a:ext cx="25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627280" y="3645000"/>
            <a:ext cx="2664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451640" y="4005360"/>
            <a:ext cx="1513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7640" y="333360"/>
            <a:ext cx="6769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Covari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0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2" dur="1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20" name=""/>
          <p:cNvSpPr/>
          <p:nvPr/>
        </p:nvSpPr>
        <p:spPr>
          <a:xfrm>
            <a:off x="-10800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gress out 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fill="hold">
                      <p:stCondLst>
                        <p:cond delay="0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6" dur="1" fill="hold"/>
                                        <p:tgtEl>
                                          <p:spTgt spid="7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1835280" y="217440"/>
            <a:ext cx="6184800" cy="652464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2050920" y="765000"/>
            <a:ext cx="1729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050920" y="2133720"/>
            <a:ext cx="79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124000" y="3573360"/>
            <a:ext cx="2376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979640" y="4869000"/>
            <a:ext cx="583236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659640" y="6237360"/>
            <a:ext cx="122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3860640"/>
            <a:ext cx="190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ROI file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-10800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gress out 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1" dur="indefinite" restart="never" nodeType="tmRoot">
          <p:childTnLst>
            <p:seq>
              <p:cTn id="2312" dur="indefinite" nodeType="mainSeq">
                <p:childTnLst>
                  <p:par>
                    <p:cTn id="2313" fill="hold">
                      <p:stCondLst>
                        <p:cond delay="0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6" dur="1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2556000" y="2781360"/>
            <a:ext cx="6588000" cy="310032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0" y="2492280"/>
            <a:ext cx="25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629080" y="3716280"/>
            <a:ext cx="2663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64000" y="3645000"/>
            <a:ext cx="2087640" cy="361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547640" y="333360"/>
            <a:ext cx="6769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Covari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3" dur="indefinite" restart="never" nodeType="tmRoot">
          <p:childTnLst>
            <p:seq>
              <p:cTn id="2354" dur="indefinite" nodeType="mainSeq">
                <p:childTnLst>
                  <p:par>
                    <p:cTn id="2355" fill="hold">
                      <p:stCondLst>
                        <p:cond delay="0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8" dur="1" fill="hold"/>
                                        <p:tgtEl>
                                          <p:spTgt spid="7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280360" cy="296532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411280" y="476280"/>
            <a:ext cx="540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gress out Covari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68360" y="1341360"/>
            <a:ext cx="85327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each subject's covariates (each covariate in one column) in one directory, and then put them in “RealignParameter" directory under the working directory.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4149720"/>
            <a:ext cx="201600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90000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Each covariate in one column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276720" y="3141720"/>
            <a:ext cx="576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692360" y="4869000"/>
            <a:ext cx="72072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7672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RealignParameter directory, please name as thi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124000" y="3141720"/>
            <a:ext cx="1152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332000" y="4724280"/>
            <a:ext cx="1439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58920" y="3141720"/>
            <a:ext cx="86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16000" y="4076640"/>
            <a:ext cx="934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7964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771640" y="6308640"/>
            <a:ext cx="586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Working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7" dur="indefinite" restart="never" nodeType="tmRoot">
          <p:childTnLst>
            <p:seq>
              <p:cTn id="2378" dur="indefinite" nodeType="mainSeq">
                <p:childTnLst>
                  <p:par>
                    <p:cTn id="2379" fill="hold">
                      <p:stCondLst>
                        <p:cond delay="0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2" dur="1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5111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ce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Voxel-wis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OI-wis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4716360" y="3645000"/>
            <a:ext cx="1657440" cy="197172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6156360" y="1557360"/>
            <a:ext cx="1685880" cy="201924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3"/>
          <a:stretch/>
        </p:blipFill>
        <p:spPr>
          <a:xfrm>
            <a:off x="3708360" y="1557360"/>
            <a:ext cx="1695600" cy="200016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084720" y="1484280"/>
            <a:ext cx="1729080" cy="2089080"/>
          </a:xfrm>
          <a:prstGeom prst="rect">
            <a:avLst/>
          </a:prstGeom>
          <a:solidFill>
            <a:srgbClr val="003399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067280" y="191628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4"/>
          <a:stretch/>
        </p:blipFill>
        <p:spPr>
          <a:xfrm>
            <a:off x="3708360" y="3573360"/>
            <a:ext cx="1695600" cy="20005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5"/>
          <a:stretch/>
        </p:blipFill>
        <p:spPr>
          <a:xfrm>
            <a:off x="6084720" y="3573360"/>
            <a:ext cx="1705320" cy="206712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5219640" y="5805360"/>
            <a:ext cx="16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r=0.36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6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fill="hold">
                      <p:stCondLst>
                        <p:cond delay="0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2" dur="1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1" dur="3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3" nodeType="after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2464" dur="3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195960" cy="648000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1547640" y="2781360"/>
            <a:ext cx="12956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1" dur="indefinite" restart="never" nodeType="tmRoot">
          <p:childTnLst>
            <p:seq>
              <p:cTn id="2502" dur="indefinite" nodeType="mainSeq">
                <p:childTnLst>
                  <p:par>
                    <p:cTn id="2503" fill="hold">
                      <p:stCondLst>
                        <p:cond delay="0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6" dur="1" fill="hold"/>
                                        <p:tgtEl>
                                          <p:spTgt spid="7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15600" y="134136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1835280" y="217440"/>
            <a:ext cx="6184800" cy="652464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2050920" y="765000"/>
            <a:ext cx="1729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50920" y="2133720"/>
            <a:ext cx="79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24000" y="3068640"/>
            <a:ext cx="367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124000" y="3284640"/>
            <a:ext cx="403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124000" y="3573360"/>
            <a:ext cx="2376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979640" y="4869000"/>
            <a:ext cx="583236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659640" y="6237360"/>
            <a:ext cx="122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124000" y="2852640"/>
            <a:ext cx="460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50920" y="692280"/>
            <a:ext cx="1800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3860640"/>
            <a:ext cx="190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ROI file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132000" y="3141720"/>
            <a:ext cx="4392720" cy="237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eed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Seed_Time_Course_List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3Seed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2Seed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1Seed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1" dur="indefinite" restart="never" nodeType="tmRoot">
          <p:childTnLst>
            <p:seq>
              <p:cTn id="2512" dur="indefinite" nodeType="mainSeq">
                <p:childTnLst>
                  <p:par>
                    <p:cTn id="2513" fill="hold">
                      <p:stCondLst>
                        <p:cond delay="0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6" dur="1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3919680" cy="583236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5076720" y="522936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89" name=""/>
          <p:cNvSpPr/>
          <p:nvPr/>
        </p:nvSpPr>
        <p:spPr>
          <a:xfrm>
            <a:off x="2700360" y="5229360"/>
            <a:ext cx="230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5" dur="indefinite" restart="never" nodeType="tmRoot">
          <p:childTnLst>
            <p:seq>
              <p:cTn id="2586" dur="indefinite" nodeType="mainSeq">
                <p:childTnLst>
                  <p:par>
                    <p:cTn id="2587" fill="hold">
                      <p:stCondLst>
                        <p:cond delay="0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0" dur="1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11280" y="191628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被试信息整理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原始数据整理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777080" cy="6861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5800680" cy="619308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3348000" y="6093000"/>
            <a:ext cx="11527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95" name=""/>
          <p:cNvSpPr/>
          <p:nvPr/>
        </p:nvSpPr>
        <p:spPr>
          <a:xfrm>
            <a:off x="2268360" y="1628640"/>
            <a:ext cx="5399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1" dur="indefinite" restart="never" nodeType="tmRoot">
          <p:childTnLst>
            <p:seq>
              <p:cTn id="2602" dur="indefinite" nodeType="mainSeq">
                <p:childTnLst>
                  <p:par>
                    <p:cTn id="2603" fill="hold">
                      <p:stCondLst>
                        <p:cond delay="0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6" dur="1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697800" cy="494496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3780000" y="5157720"/>
            <a:ext cx="3240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7" dur="indefinite" restart="never" nodeType="tmRoot">
          <p:childTnLst>
            <p:seq>
              <p:cTn id="2618" dur="indefinite" nodeType="mainSeq">
                <p:childTnLst>
                  <p:par>
                    <p:cTn id="2619" fill="hold">
                      <p:stCondLst>
                        <p:cond delay="0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1" fill="hold"/>
                                        <p:tgtEl>
                                          <p:spTgt spid="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6077160" cy="43531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3780000" y="2492280"/>
            <a:ext cx="433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0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2" dur="1" fill="hold"/>
                                        <p:tgtEl>
                                          <p:spTgt spid="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282000" cy="652464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10" name=""/>
          <p:cNvSpPr/>
          <p:nvPr/>
        </p:nvSpPr>
        <p:spPr>
          <a:xfrm>
            <a:off x="3059280" y="2781360"/>
            <a:ext cx="129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843280" y="5516640"/>
            <a:ext cx="1800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843280" y="5950080"/>
            <a:ext cx="446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12000" y="4724280"/>
            <a:ext cx="17287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843280" y="4149720"/>
            <a:ext cx="4897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619280" y="6381720"/>
            <a:ext cx="576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924360" y="1268280"/>
            <a:ext cx="37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812000" y="4076640"/>
            <a:ext cx="18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CovList.t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132000" y="3141720"/>
            <a:ext cx="4537080" cy="316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Covariables_List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6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5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4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3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2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1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264360" cy="189540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7" dur="indefinite" restart="never" nodeType="tmRoot">
          <p:childTnLst>
            <p:seq>
              <p:cTn id="2638" dur="indefinite" nodeType="mainSeq">
                <p:childTnLst>
                  <p:par>
                    <p:cTn id="2639" fill="hold">
                      <p:stCondLst>
                        <p:cond delay="0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2" dur="1" fill="hold"/>
                                        <p:tgtEl>
                                          <p:spTgt spid="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195960" cy="648000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1547640" y="3357720"/>
            <a:ext cx="12956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I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3" dur="indefinite" restart="never" nodeType="tmRoot">
          <p:childTnLst>
            <p:seq>
              <p:cTn id="2704" dur="indefinite" nodeType="mainSeq">
                <p:childTnLst>
                  <p:par>
                    <p:cTn id="2705" fill="hold">
                      <p:stCondLst>
                        <p:cond delay="0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8" dur="1" fill="hold"/>
                                        <p:tgtEl>
                                          <p:spTgt spid="8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I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989680" cy="64087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3"/>
          <a:stretch/>
        </p:blipFill>
        <p:spPr>
          <a:xfrm>
            <a:off x="1763640" y="1052640"/>
            <a:ext cx="6553440" cy="507996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3" dur="indefinite" restart="never" nodeType="tmRoot">
          <p:childTnLst>
            <p:seq>
              <p:cTn id="2714" dur="indefinite" nodeType="mainSeq">
                <p:childTnLst>
                  <p:par>
                    <p:cTn id="2715" fill="hold">
                      <p:stCondLst>
                        <p:cond delay="0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8" dur="1" fill="hold"/>
                                        <p:tgtEl>
                                          <p:spTgt spid="8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282000" cy="652464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I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35" name=""/>
          <p:cNvSpPr/>
          <p:nvPr/>
        </p:nvSpPr>
        <p:spPr>
          <a:xfrm>
            <a:off x="3059280" y="2781360"/>
            <a:ext cx="129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3280" y="5516640"/>
            <a:ext cx="1800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43280" y="5950080"/>
            <a:ext cx="446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012000" y="4724280"/>
            <a:ext cx="17287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843280" y="4149720"/>
            <a:ext cx="4897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19280" y="6381720"/>
            <a:ext cx="576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924360" y="1268280"/>
            <a:ext cx="37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812000" y="4076640"/>
            <a:ext cx="18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CovList.t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132000" y="3141720"/>
            <a:ext cx="4537080" cy="316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Covariables_List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6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5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4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3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2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1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264360" cy="189540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7" dur="indefinite" restart="never" nodeType="tmRoot">
          <p:childTnLst>
            <p:seq>
              <p:cTn id="2738" dur="indefinite" nodeType="mainSeq">
                <p:childTnLst>
                  <p:par>
                    <p:cTn id="2739" fill="hold">
                      <p:stCondLst>
                        <p:cond delay="0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2" dur="1" fill="hold"/>
                                        <p:tgtEl>
                                          <p:spTgt spid="8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551640" cy="352764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0" y="2193840"/>
            <a:ext cx="251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Covremov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Covremov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79280" y="2565360"/>
            <a:ext cx="23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own mask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ecti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556000" y="249228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788000" y="2492280"/>
            <a:ext cx="4176720" cy="362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643280" y="4508640"/>
            <a:ext cx="1944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732720" y="4508640"/>
            <a:ext cx="122400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3" dur="indefinite" restart="never" nodeType="tmRoot">
          <p:childTnLst>
            <p:seq>
              <p:cTn id="2804" dur="indefinite" nodeType="mainSeq">
                <p:childTnLst>
                  <p:par>
                    <p:cTn id="2805" fill="hold">
                      <p:stCondLst>
                        <p:cond delay="0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8" dur="1" fill="hold"/>
                                        <p:tgtEl>
                                          <p:spTgt spid="8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43960" y="1916280"/>
            <a:ext cx="6069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nctional Connectivity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989680" cy="640872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763640" y="1052640"/>
            <a:ext cx="6553440" cy="507996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5" dur="indefinite" restart="never" nodeType="tmRoot">
          <p:childTnLst>
            <p:seq>
              <p:cTn id="2846" dur="indefinite" nodeType="mainSeq">
                <p:childTnLst>
                  <p:par>
                    <p:cTn id="2847" fill="hold">
                      <p:stCondLst>
                        <p:cond delay="0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0" dur="1" fill="hold"/>
                                        <p:tgtEl>
                                          <p:spTgt spid="8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5543280" cy="298440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0" y="2193840"/>
            <a:ext cx="363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You will get the Voxel-wise functional connectivity results of each ROI in {working directory}\Results\FC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zROI1FCMap_Sub_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zROI2FCMap_Sub_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08000" y="5084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or ROI-wise results, please see Part Utilities: Extract ROI time courses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ecti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0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4" dur="1" fill="hold"/>
                                        <p:tgtEl>
                                          <p:spTgt spid="8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ibm</dc:creator>
  <dc:description/>
  <dc:language>en-US</dc:language>
  <cp:lastModifiedBy>YAN Chao-Gan</cp:lastModifiedBy>
  <dcterms:modified xsi:type="dcterms:W3CDTF">2012-10-21T03:59:24Z</dcterms:modified>
  <cp:revision>2131</cp:revision>
  <dc:subject/>
  <dc:title>幻灯片 1</dc:title>
</cp:coreProperties>
</file>