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516E-18EE-452D-B61B-ECE147460F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DA7E-88F9-4DFB-9FEF-A752C8852D9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05C5-91BB-471D-8D61-D41357E7194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1070-F85E-48FC-BF62-CE69C651FCF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63A-28A3-4B0C-AE01-CE516A4D9D4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B874-3F0B-43F2-A403-13E8AD1B17C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626-18DB-4DE8-A356-6F686AE301D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66AB-362B-4955-8B27-DFB612D7CAA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7241-1303-400D-BD60-D0782E789C7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F24F-38FB-4F81-BAEC-A0830739033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4113-4EDF-4622-90E1-21F40FD9D373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40A-0DFA-48E8-97D6-CBBAB47DBB1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ADFE-002C-4C0C-A584-61C04616562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80C-6918-4389-BA18-DD4FC1B25FD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AB4-8F6D-4AD4-A5C5-5A2BEFB9C5E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BBB-BDA9-471F-A4E3-D8223F03121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71E5-F261-4306-8110-2E7B98107A9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5B60-DB9C-4012-A169-1C7A147C494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0F24-F087-4734-849B-92CB44F1A50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DD7-D4B3-43EB-B7E4-46723899AD3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6E37-D394-452C-AD16-28BE77720510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8C7-ACD4-4D32-9B2B-D349D3496E8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562F-E42C-45DB-ADA4-D89E86E25CD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46BD-F493-4C53-872A-2DCCF1807BC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394D-E440-418A-B23A-366B2A46A56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B273-BBC5-4173-BB66-B6B2465EA22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E9C-A093-4DE5-B9C8-B0A91780BE0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0A4-75DE-4595-86DA-CE893AEBF45A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D18D-53F4-4AED-AB6F-5394E0315C0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C3E2-994F-4713-BA4B-6131F8B2E89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3044-9EFD-42D6-890B-CB66C35396D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1B0C-4DC7-421D-8ABB-4B3618047E8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6F65-56C6-4926-9BE1-80815A0C86B0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02C3-A8F8-4A99-8736-FDB7C4EA74F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73F7-4122-4ADF-BD17-B012EEBEFB9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BF4A-85A4-45BC-811C-DAB849D3CD4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B37C-9AE0-4B01-A399-B1B6CD174D5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CF1F-9C81-4C09-9CF0-111DFD595CB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D422-3542-4D97-A189-D07CDE2AEFB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2755-6329-4D7D-8883-6156AE7C9B0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A368-C141-498B-8299-8543C87BBDC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A2FF-E20D-42B5-9654-6191F9472B1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846F-0F88-4EED-AF64-DEC251F1620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3873-2E1D-436D-A5E6-1B3A2F26B8C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ABE-9FAD-44AF-877B-ED24EBF8E76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358E-1753-491F-A506-2CEE1563052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C9BF-556C-4B91-9AFA-D158E1136B3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6:43Z</dcterms:modified>
  <cp:revision>2539</cp:revision>
  <dc:subject/>
  <dc:title>Data Processing Demo of Resting-State fMRI</dc:title>
</cp:coreProperties>
</file>