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9F07-9A87-4E91-9346-6A5D5676A9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C9EC-5CEB-47C0-8FC3-A6D94727838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logo1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Freeform 3"/>
            <p:cNvSpPr/>
            <p:nvPr/>
          </p:nvSpPr>
          <p:spPr>
            <a:xfrm>
              <a:off x="-4680" y="2708280"/>
              <a:ext cx="9151920" cy="150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-9360" y="2747880"/>
              <a:ext cx="9183600" cy="1420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D7D9-BD9C-47A6-A21C-8A0B6DE6BBF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1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ata Processing of Resting-State fMRI (Part 3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PARSF Advance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AN Chao-Gan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严超赣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. D.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cg.yan@gmail.com</a:t>
            </a:r>
            <a:br>
              <a:rPr sz="2400"/>
            </a:b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te Key Laboratory of Cognitive Neuroscience and Learning,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eijing Normal University, China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33720"/>
            <a:ext cx="439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3F24-9173-491C-BAD2-BC048D0F383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349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972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 to NIfTI, based on MRIcroN’s dcm2ni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234936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403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several first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263700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4463-F7F9-46AC-876A-C52D0E2E973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210360"/>
            <a:ext cx="40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32D9-540D-4158-89B3-0CC8C6AF266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637000"/>
            <a:ext cx="1008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869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otal slice numb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12000" y="263700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661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ference slice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acquired in the middle time of each 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637000"/>
            <a:ext cx="1224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084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order: 1:2:33,2:2:32 (interleaved scanning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645080" y="2925720"/>
            <a:ext cx="647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16572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621036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1 DICOM files to NIfT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BD10-24F8-480F-97B1-0DA62EF78C8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852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30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65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ED30-5712-4DA1-83E7-DB894ED1651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270828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T1 imag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mean*.img generated in realign step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re is no mean*.img generated in realign step DPARSFA wi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gener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0210-0236-4E13-BE2B-1197F4F3AE0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orientat interactively if the images in a bad orient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9A20-92BB-4AA9-A29E-731CBEA2960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971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10B8-0B2F-43D9-92F6-E0F7A7E73593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5445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152720" cy="144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5805360"/>
            <a:ext cx="1224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13000"/>
            <a:ext cx="21456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6381720"/>
            <a:ext cx="7920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62C2-0BB8-402D-8FA9-B0ED881DAD2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eorientation effects 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d T1 imag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if realign is performed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imag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CA27-00CA-4F23-8C1F-E280E7FF426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DA14-2920-4828-854C-108D3FE96FC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860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141720"/>
            <a:ext cx="4176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515772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w it can be used in VBM alone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969840"/>
            <a:ext cx="7343640" cy="590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6360" y="1844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2205000"/>
            <a:ext cx="3095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565360"/>
            <a:ext cx="309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300640"/>
            <a:ext cx="3313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292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765000"/>
            <a:ext cx="17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18446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435780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350028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odulated 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2997360"/>
            <a:ext cx="331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276640"/>
            <a:ext cx="16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CSF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0000" y="155160"/>
            <a:ext cx="4535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y-Product: V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89360"/>
            <a:ext cx="33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708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individual space to MNI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645000"/>
            <a:ext cx="37432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7343640" y="2924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MNI space 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49A4-F12E-4F07-A7EE-9C89C52FB73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342900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58136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ounding box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64500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3429000"/>
            <a:ext cx="107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79736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 s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3429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1341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1A08-54D9-4AB3-9117-DD22BB44CB4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3645000"/>
            <a:ext cx="2521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sn.mat generated in 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Functional images (e.g., r*.img if realign is performe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4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7526-451C-48AA-9F9F-6EAFA1A849F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860640"/>
            <a:ext cx="172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files before normalization to save disk space. The raw data (FunRaw and T1Raw) will be reserv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5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B861-8BC7-4F4E-91DD-C2B80F56DAB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3860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28608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4365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Un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ReHo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860640"/>
            <a:ext cx="719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787920"/>
            <a:ext cx="302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ALFF, fALFF, Fun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08D0-A162-485E-9F94-B9D925713C8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422100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linear trend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291280" y="422100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deal band pass filt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22100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516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detrented files to save disk space. Do not select this option if fALFF is want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37D2-1F02-45BA-A075-F2D2097A1B7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4437000"/>
            <a:ext cx="288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645080" y="4437000"/>
            <a:ext cx="863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852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ault mask: SPM5 apriori mask (brainmask.nii) thresholded at 50%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42900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User-defined mask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default mask or user-defined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6624360" cy="6465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564000" y="162864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308720" y="5734080"/>
            <a:ext cx="1152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197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</a:rPr>
              <a:t>Mask Resample</a:t>
            </a:r>
            <a:endParaRPr b="1" lang="en-US" sz="23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3860640"/>
            <a:ext cx="31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885080" y="4365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797360"/>
            <a:ext cx="29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236000" y="486900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-71280" y="4486320"/>
            <a:ext cx="298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 – Nearest Neighbo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5877000"/>
            <a:ext cx="26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2E71-3F66-4043-86CE-B38CC3CFE942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206064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fault mask (BrainMask_05_91x109x91.img, voxel size: 2x2x2) or user-defined mask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082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first time point of functional image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157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{Work Dir}\Mask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F127-2940-4007-A30F-414B3D097A2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472428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494172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/fALFF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113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65246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(Yan and Zang, 2010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989B-F354-4E63-B9EB-5FCF2D7A89A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p*.txt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sfMask_07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rainMask_05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hiteMask_09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2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9330-67A6-403F-8E12-988A188EB9C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masks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*_91x109x91.img, voxel size: 2x2x2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 (also for ROI-wise Func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3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C68C-0FBA-4741-B20E-7E901F9CBD1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voxel-wise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5734080"/>
            <a:ext cx="136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65300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RO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048B-C88D-4B7D-8B4F-D355E022D63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7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D73E-CEE6-4AF7-9A7E-3B391DA3B57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90960" y="2671920"/>
            <a:ext cx="2962080" cy="151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32000" y="3213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645000"/>
            <a:ext cx="115272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5084640"/>
            <a:ext cx="511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means define ROI Radius for each ROI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eperately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5D4A-EAAC-44F8-9A27-0767CCBDB92E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1125360"/>
            <a:ext cx="2142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638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6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E929-7E35-466C-B358-CBFFFED327F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595008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Extract AAL time cours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AAL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aal.nii, voxel size: 1x1x1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9173-01B9-4AEE-A510-3E47C08287B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 which is estimated in the T1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B24E-26B7-42EE-B88E-6C5E3D9A939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1. The calculation mask (also regarded as the whole-barin mask, e.g. the "Default mask")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2. The covariates masks in regressing out covari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. The ROI masks used in Functional Connectivity or Extracting ROI Time cours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4. The AAL mask used in Extracting AAL time courses (90 regions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4643280" y="4437000"/>
            <a:ext cx="396108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5229360"/>
            <a:ext cx="4321440" cy="5047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5950080"/>
            <a:ext cx="208764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8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B52D-24A7-4514-B982-4868623A03E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0828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ored in {Work Dir}\Mask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48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OIs defined Interactively wi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be warped since they are defined i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0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3566-26E5-4552-A2BE-C2AB5E2E5D00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124520" cy="607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6600" y="260280"/>
            <a:ext cx="4127400" cy="625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3095640" cy="24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291636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tlab, SPM, REST, MRIcroN’s dcm2nii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29636 -3.7037E-006 E">
                                      <p:cBhvr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9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84D-C3E9-4C8A-8FBB-23479BD9F1B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616572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5264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Starting Directory Nam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0356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start with raw DICOM images, you need to specif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.g. "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ImgAR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" means you start with images which have been slice timed, realigned and normaliz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Abbreviation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A - Slice Timing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 - Realign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W - Normalize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S - Smooth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 - Detren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F - Filte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C - Covariates Remove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A667-EC7D-44F0-A4BA-9647599C39B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C6C1-EB06-42D6-9C2D-5599E15AE6D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643280" y="2781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299736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213000"/>
            <a:ext cx="1513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335772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ndard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AAD6-C65A-487F-A6A1-39CA6DBE509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4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vert DICOM files to NIFTI image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move First 10 Time Point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lice Timing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lign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malize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mooth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trend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lter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ReHo, ALFF, fALFF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ress out the Covariables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Functional Connectivity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ract AAL or ROI time courses for further analysis        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068560" y="6491160"/>
            <a:ext cx="66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 refer to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ta Processing Multimed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urse (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art 1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360" y="159552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alculate in Original Space (War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BB34-D2A5-470B-81AA-8E90BFD11CA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165720"/>
            <a:ext cx="19447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321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o produce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arp masks in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4149720"/>
            <a:ext cx="439272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15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calculation is per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traoperative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09B3-EF24-41C1-AA1A-4A431A03393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4643280" y="2852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7451640" y="2924280"/>
            <a:ext cx="129708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278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here is no head motion. DPARSFA will generate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4437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1 images are in a bad orientation. Reorientation eff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s aft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595008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51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normalization is not perform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8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VB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6BB2-91F9-4DE3-93D1-B28B58AE4B0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643280" y="3068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8101080" y="6165720"/>
            <a:ext cx="718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278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On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checkbox is check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the Starting Directory Name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Raw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84360" y="28926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2357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6592-0C88-4081-ABF2-9ABBD8AD2E5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l the group members!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RIcroN Team: Chris RORDE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jview Team: CUI Xu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Basic Ed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A2CD-1054-4EA1-99FB-6D20EC9EC45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imple but not flexible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trong parameters checking and wrong processing preven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2B1D-E852-4DEC-BE9E-3969AB50D89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99308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宋体"/>
              </a:rPr>
              <a:t>Thanks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2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E664-7352-43A8-94D4-2A7C2DC1D02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4842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steps can be free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kipped or combin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can be start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ReHo, ALFF/fALFF and Functional Connectivity calcul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would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d 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dimension mismatched the functional images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0856-DEC9-415D-BCD2-C37B1068F6D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in standard space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arped into individual sp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using the parameters estimated in unified segmenta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VBM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checking "Segment" onl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ation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images in a bad ori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egions of interes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ased on the participant's T1 image 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F099-6B5B-49B6-A0BE-19CF2D647B1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052640"/>
            <a:ext cx="2952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orking Dir where stored Starting Directory (e.g., FunRaw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170028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94172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umber of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413000"/>
            <a:ext cx="2016360" cy="93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97360"/>
            <a:ext cx="25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tected participa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245440" y="19890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300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3E5-FBF2-4046-A384-E240B32421E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6:43Z</dcterms:modified>
  <cp:revision>2539</cp:revision>
  <dc:subject/>
  <dc:title>Data Processing Demo of Resting-State fMRI</dc:title>
</cp:coreProperties>
</file>