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6F7E-066E-4CC6-BF25-77AEC2EA8F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D95-3B00-483B-90F8-0494B29DE3C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87D-F870-46E1-BACC-B81FEC2EA5D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4CE-E79E-40F8-B2BB-19D11ACB69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F2B-F955-4995-9EE5-3F59CD1A437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B2E6-6F9B-4716-A745-D1722A6CDE0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1A1-1FA7-4E9E-B338-24691201052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3ED-1496-468B-9CD0-6D55961F17E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BFA-A181-4A20-B2A6-96D43C03F20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351-6BD7-4AD0-817D-3D4A6D5E328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1CE8-FFBA-4CE1-9625-2BB03DF2BFBD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E1CA-7B06-417A-B307-9B5FEE0EB54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FE05-ED1D-4F07-9A22-950E44D6C49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1D6-C62B-4F84-BFF0-DA3CB8B2C50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F6BD-B302-43D2-BFB7-5D6A6D06C42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D7DF-9FE3-4032-B40D-1BBC20C730F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970-327C-466C-9E1A-AED89074440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699-27EB-43CF-8269-85704E5A9A9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1BF3-C260-4DB3-BD03-AC08C6C5555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969-51C2-40DB-9A0F-2A6D8E9EC18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B39-0290-44F4-A1FD-19E0E47FF94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5DB-E25A-46B7-A177-2171427DF89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787-A9FC-44F0-8538-413AD967472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E2CD-11E5-4F10-97A7-CED07C2FB3F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C90C-DF2F-4458-83F5-1D28B6C5C87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F3B-3A0A-4702-9F92-867DFEBD89D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648-7344-4198-8B20-C025329C6A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E874-3C10-4D27-B4F7-60452245525B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BE5-E69F-40CA-A7FE-16BB7326DBE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785-8B08-485B-851D-052E18B68E8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5AC-2E19-432E-BD1D-FE65AF9AA66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364D-21D3-4891-B568-B26F199B69D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19DD-63B0-4C71-88FE-71FB68EEE2C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5CEE-9ABF-4075-B915-0AFDB06FDF2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85F-1111-42D9-AA4A-BDDA23BA0C4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FC1B-B45D-41C7-9518-C921B930AEB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AEED-91B7-486C-8F18-D137BA61DB1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BE5-619A-4C4E-8139-16EC65658F8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08EB-BF2D-4060-B08B-BE04CEB71B7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18D-13AA-49BA-9DCD-DECE13F2507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56FA-937E-4E2F-BA4B-D1DCA2575A4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20A2-F8C0-4D7C-B0DA-9D148613243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8754-E63E-4E0B-9722-42D6A6BB2BD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BCE-54AC-4948-828D-311AD46A502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A55-AB45-4B4B-87E2-DD5D7343EBB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F5F0-21D4-4E02-82BE-FE376F6875F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9BC-0064-4D74-B6D9-12A5F0A47E8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6:43Z</dcterms:modified>
  <cp:revision>2539</cp:revision>
  <dc:subject/>
  <dc:title>Data Processing Demo of Resting-State fMRI</dc:title>
</cp:coreProperties>
</file>