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4466-506C-40E4-95BB-D539BC544F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DCC-95DA-40ED-9520-4B531E783BE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1" descr="logo1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Freeform 3"/>
            <p:cNvSpPr/>
            <p:nvPr/>
          </p:nvSpPr>
          <p:spPr>
            <a:xfrm>
              <a:off x="-4680" y="2708280"/>
              <a:ext cx="9151920" cy="150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-9360" y="2747880"/>
              <a:ext cx="9183600" cy="1420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b1e2fb"/>
                </a:solidFill>
                <a:latin typeface="Tahoma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3162-37BD-4E47-B7C2-511C81B40AF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1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ata Processing of Resting-State fMRI (Part 3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黑体"/>
              </a:rPr>
              <a:t>DPARSF Advance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AN Chao-Gan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严超赣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. D.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cg.yan@gmail.com</a:t>
            </a:r>
            <a:br>
              <a:rPr sz="2400"/>
            </a:b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te Key Laboratory of Cognitive Neuroscience and Learning,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1e2f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eijing Normal University, China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33720"/>
            <a:ext cx="439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520F-77DC-46C1-8880-6EFDE0961E6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349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972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 to NIfTI, based on MRIcroN’s dcm2ni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234936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403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several first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2637000"/>
            <a:ext cx="863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497E-E54E-4D36-AF61-90AC2E70CEB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210360"/>
            <a:ext cx="40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1B82-426E-49E8-8E22-C04D41211FB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637000"/>
            <a:ext cx="1008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869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otal slice numb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12000" y="263700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661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ference slice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acquired in the middle time of each 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637000"/>
            <a:ext cx="1224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084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order: 1:2:33,2:2:32 (interleaved scanning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645080" y="2925720"/>
            <a:ext cx="647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16572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621036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1 DICOM files to NIfT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834F-82FC-498F-A636-19E1D40D40F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852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30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65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 T1 imag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o functional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25BE-9639-441D-A518-9FF34648A30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270828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our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T1 imag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fer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: mean*.img generated in realign step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re is no mean*.img generated in realign step DPARSFA wi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gener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5416-CEC2-4E40-94F1-B8832633F59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orientat interactively if the images in a bad orient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0621-AFFD-47B1-8DA0-F5DAFC0049D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971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3617-289D-4A11-8C26-27CD090766E8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5445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152720" cy="144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5805360"/>
            <a:ext cx="1224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13000"/>
            <a:ext cx="21456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6381720"/>
            <a:ext cx="7920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622C-2DB9-473D-83B7-24828040D7B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01336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eorientation effects o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d T1 imag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if realign is performed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imag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852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4CFF-8D9B-4330-86C3-7FBC813C4EC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634C-C007-40A2-AC77-850600F097D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860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 hidden step in normalization by using T1 image segmentation in DPARSF Basic Edi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141720"/>
            <a:ext cx="4176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515772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w it can be used in VBM alone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969840"/>
            <a:ext cx="7343640" cy="590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6360" y="184464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2205000"/>
            <a:ext cx="3095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565360"/>
            <a:ext cx="309564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300640"/>
            <a:ext cx="3313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292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765000"/>
            <a:ext cx="17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51640" y="18446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M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435780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350028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odulated GM in normalized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2997360"/>
            <a:ext cx="331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276640"/>
            <a:ext cx="16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CSF in origin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0000" y="155160"/>
            <a:ext cx="4535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y-Product: V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89360"/>
            <a:ext cx="3384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708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individual space to MNI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645000"/>
            <a:ext cx="37432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7343640" y="2924280"/>
            <a:ext cx="21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Matrix to warp image from MNI space 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2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8AC6-25A8-48B1-ADAA-304775EB1B5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3429000"/>
            <a:ext cx="172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58136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ounding box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64500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by using EPI templ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164360" y="3429000"/>
            <a:ext cx="107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79736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 s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3429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1341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2BC8-7B5F-4AE2-ACE8-11EF9C0ADFA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3645000"/>
            <a:ext cx="2521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sn.mat generated in 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: Functional images (e.g., r*.img if realign is performe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4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D246-E817-4F1C-ACEF-0C03899F7C9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3860640"/>
            <a:ext cx="1729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5373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files before normalization to save disk space. The raw data (FunRaw and T1Raw) will be reserv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5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B039-EE1C-4E5C-90F0-CBC2694395D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3860640"/>
            <a:ext cx="1008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28608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436572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Un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ReHo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860640"/>
            <a:ext cx="719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787920"/>
            <a:ext cx="3024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heck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The following processing steps are based on Dat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 smoo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e.g., ALFF, fALFF, Fun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6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7EC1-5E72-4F34-AB2E-9998149B4C7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4221000"/>
            <a:ext cx="64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linear trend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291280" y="422100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deal band pass filte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22100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516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lete detrented files to save disk space. Do not select this option if fALFF is want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27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76CC-BD14-4CCA-A7F4-35936553934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4437000"/>
            <a:ext cx="2880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4920" y="1341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ask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645080" y="4437000"/>
            <a:ext cx="863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852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ault mask: SPM5 apriori mask (brainmask.nii) thresholded at 50%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42900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User-defined mask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default mask or user-defined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6624360" cy="6465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564000" y="162864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308720" y="5734080"/>
            <a:ext cx="1152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197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ahoma"/>
              </a:rPr>
              <a:t>Mask Resample</a:t>
            </a:r>
            <a:endParaRPr b="1" lang="en-US" sz="23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3860640"/>
            <a:ext cx="31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885080" y="4365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797360"/>
            <a:ext cx="2950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7236000" y="486900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-71280" y="4486320"/>
            <a:ext cx="298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 – Nearest Neighbo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5877000"/>
            <a:ext cx="26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F368-D777-4AD0-88EA-3E369F977187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206064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fault mask (BrainMask_05_91x109x91.img, voxel size: 2x2x2) or user-defined mask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082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first time point of functional image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157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{Work Dir}\Masks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AABC-3EEC-4C15-AA92-B15C4180DB5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472428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4941720"/>
            <a:ext cx="4321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/fALFF Calculation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113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652464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Arial"/>
              </a:rPr>
              <a:t>(Yan and Zang, 2010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0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139E-148E-4FD2-81C8-29601E741B6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rp*.txt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sfMask_07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BrainMask_05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hiteMask_09_61x73x61.im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2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F562-929B-4306-B958-B7590DAC97F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5229360"/>
            <a:ext cx="1729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5229360"/>
            <a:ext cx="14414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885080" y="5229360"/>
            <a:ext cx="107964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5445000"/>
            <a:ext cx="1150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5445000"/>
            <a:ext cx="1368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Regress out nuisance Covariat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masks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*_91x109x91.img, voxel size: 2x2x2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9280" y="5300640"/>
            <a:ext cx="302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 (also for ROI-wise Functional Connectivity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3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F5EA-6DA3-4141-AE51-AB076CE67AE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3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508464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voxel-wise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5734080"/>
            <a:ext cx="136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65300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ROI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45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839C-6FAF-431C-9CAE-CE64FC5718C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643280" y="5734080"/>
            <a:ext cx="129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7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9AAD-9C85-4B87-B1AE-3408C1ED753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90960" y="2671920"/>
            <a:ext cx="2962080" cy="151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32000" y="3213000"/>
            <a:ext cx="115272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645000"/>
            <a:ext cx="115272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5084640"/>
            <a:ext cx="511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means define ROI Radius for each ROI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eperately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FD2F-FA86-4909-9017-888F60245DA3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1125360"/>
            <a:ext cx="2142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6381720"/>
            <a:ext cx="79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63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0264-1F5F-4363-BB77-14A8189095E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595008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Extract AAL time courses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3141720"/>
            <a:ext cx="424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olu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of AAL mask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ffer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from the functional data: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1) In DPARSF (Basic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Erro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(2) In DPARSF (Advanced Edition)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the mask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(based on aal.nii, voxel size: 1x1x1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E394-33E7-407C-9CE2-D90EB3E8A27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Parame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ile: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 which is estimated in the T1 im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unified segm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6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7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9608-4550-4EE6-A5B2-32DFF1EEFA4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70828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mages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rit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: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1. The calculation mask (also regarded as the whole-barin mask, e.g. the "Default mask")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2. The covariates masks in regressing out covariat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. The ROI masks used in Functional Connectivity or Extracting ROI Time course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4. The AAL mask used in Extracting AAL time courses (90 regions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4643280" y="4437000"/>
            <a:ext cx="396108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5229360"/>
            <a:ext cx="4321440" cy="5047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5734080"/>
            <a:ext cx="79236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5950080"/>
            <a:ext cx="208764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8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C148-31EA-42DC-8DE6-188B425A880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616572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19700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Warp Masks into Individual Spac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70828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ored in {Work Dir}\Mask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148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he ROIs defined Interactively wil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be warped since they are defined i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5950080"/>
            <a:ext cx="1297080" cy="215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0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966F-519C-46CC-82BB-2CEF192AF068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124520" cy="607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6600" y="260280"/>
            <a:ext cx="4127400" cy="625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3095640" cy="2476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291636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Matlab, SPM, REST, MRIcroN’s dcm2nii</a:t>
            </a:r>
            <a:endParaRPr b="1" lang="en-US" sz="2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29636 -3.7037E-006 E">
                                      <p:cBhvr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39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679C-C120-43C8-B070-A332ECD97F7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6165720"/>
            <a:ext cx="20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52640"/>
            <a:ext cx="40323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Starting Directory Name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203560"/>
            <a:ext cx="42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start with raw DICOM images, you need to specif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E.g. "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unImgARW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" means you start with images which have been slice timed, realigned and normalized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Abbreviation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: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A - Slice Timing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R - Realign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W - Normalize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S - Smooth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D - Detren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F - Filter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  <a:p>
            <a:pPr marL="41040" indent="-4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隶书"/>
              </a:rPr>
              <a:t>C - Covariates Removed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07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30FD-2E07-4007-A3F8-4AB78CA0C53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Template Parame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B4BB-C57F-4057-A41E-04B909220B3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3645000"/>
            <a:ext cx="424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Standard Step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Calculate in Original Space (Warp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raoperative Processing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VBM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643280" y="278136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2997360"/>
            <a:ext cx="201636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213000"/>
            <a:ext cx="1513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335772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0072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tandard Ste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F3F0-B01A-4D9B-9829-383D4DFA67E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4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vert DICOM files to NIFTI image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move First 10 Time Points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lice Timing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align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malize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mooth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trend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lter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ReHo, ALFF, fALFF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ress out the Covariables (optional). 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ate Functional Connectivity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ract AAL or ROI time courses for further analysis         (optional).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068560" y="6491160"/>
            <a:ext cx="66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 refer to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ta Processing Multimed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urse (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art 1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360" y="159552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alculate in Original Space (War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5E28-2A4D-480C-8561-D51358EC99C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3141720"/>
            <a:ext cx="649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165720"/>
            <a:ext cx="19447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3213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to produce *_seg_inv_sn.mat stored in "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Img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" director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Warp masks into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4149720"/>
            <a:ext cx="439272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515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calculation is per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traoperative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FCC2-2830-4AEF-BC84-70BB3E5F6A7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4643280" y="2852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7451640" y="2924280"/>
            <a:ext cx="129708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9280" y="278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here is no head motion. DPARSFA will generate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functional imag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4437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T1 images are in a bad orientation. Reorientation eff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registe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mages aft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 correc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595008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51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OI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since normalization is not perform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8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36360" y="112500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VB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7860-FD80-467D-8574-EFB8C793274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716360" y="2421000"/>
            <a:ext cx="1081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643280" y="3068640"/>
            <a:ext cx="649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8101080" y="6165720"/>
            <a:ext cx="718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278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On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eg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checkbox is check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44370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Define the Starting Directory Name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T1Raw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84360" y="28926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2357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1" lang="en-US" sz="32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F934-7C55-43E5-8BBE-86E3C8B894C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003640" y="508464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l the group members!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RIcroN Team: Chris RORDE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jview Team: CUI Xu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Basic Ed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B44-05B7-4A8A-9A94-AE98BC0EFE7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imple but not flexible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trong parameters checking and wrong processing prevention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878A-2D88-49ED-9885-4F46404551E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799308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  <a:ea typeface="宋体"/>
              </a:rPr>
              <a:t>Thanks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2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B61B-893C-4374-9213-3A36E88ACD1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4842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ype in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” to start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steps can be free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kipped or combined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processing can be start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Starting Directory Nam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ReHo, ALFF/fALFF and Functional Connectivity calculati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would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sampled automatical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dimension mismatched the functional images.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4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PARSF Advanced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958C-6CD7-449D-8DFF-F1B4254B770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4842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masks or ROI files in standard space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warped into individual sp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using the parameters estimated in unified segmenta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VBM analy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y checking "Segment" only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reorientation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if the images in a bad orientation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uppor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define regions of interest interactive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based on the participant's T1 image in individual space</a:t>
            </a:r>
            <a:endParaRPr b="1" lang="en-US" sz="2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55736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ew Function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Template Parameters</a:t>
            </a: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18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23CE-F8E5-411E-B015-6666F020B06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37080" y="-33480"/>
            <a:ext cx="4572000" cy="6924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08000" y="21718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ame as DPARSF Basic Edition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lease refer to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ocessing Multimedi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Course (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art 1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052640"/>
            <a:ext cx="2952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65300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Working Dir where stored Starting Directory (e.g., FunRaw)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170028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941720"/>
            <a:ext cx="25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Number of time poi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413000"/>
            <a:ext cx="2016360" cy="93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97360"/>
            <a:ext cx="25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Detected participants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245440" y="19890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30064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TR</a:t>
            </a:r>
            <a:endParaRPr b="1" lang="en-US" sz="2000" spc="-1" strike="noStrike">
              <a:solidFill>
                <a:srgbClr val="b1e2fb"/>
              </a:solidFill>
              <a:latin typeface="Tahoma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8604360" y="6537240"/>
            <a:ext cx="539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4D8-CF14-4789-A20B-86D5E207FB9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1e2f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YAN Chao-Gan</dc:creator>
  <dc:description/>
  <dc:language>en-US</dc:language>
  <cp:lastModifiedBy>YAN Chao-Gan</cp:lastModifiedBy>
  <dcterms:modified xsi:type="dcterms:W3CDTF">2012-10-21T03:56:43Z</dcterms:modified>
  <cp:revision>2539</cp:revision>
  <dc:subject/>
  <dc:title>Data Processing Demo of Resting-State fMRI</dc:title>
</cp:coreProperties>
</file>