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BF04-5843-421A-B6DB-EB6BCE5DB5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BFC-B37E-4D79-AAC7-DAF6DE584B1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09C-B468-4D9D-BE46-2284335CEC5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5831-0E0C-436B-9C54-A57A33CEC94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70D-DDAA-45E9-870A-4B90396726E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D2E-FBC5-4E8C-B9A8-A5F33133525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1E3-8852-4727-A058-9556A8B5FC0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C3F-8212-44F6-BDC8-D52F0B86F6C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00C-A40A-4863-9546-05DC4204671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1BF-2981-42E2-9725-81336409CCA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8505-A0BC-4F5B-87E7-BFCE337EC755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A08-6F20-411A-B7E3-6BE64FEA845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DEC5-83D0-4A42-8C71-64EAF66C2A4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A7C6-A762-4309-8223-28FFCAA9BC3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536-7B90-47EC-A1B2-E8D538E3B99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FAF1-1EA1-46EA-AB3F-32012C9C606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F6F-D750-47A2-9604-CC63F8346F0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441D-64BF-4BFC-9DC9-5B8CC2F0B10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AE0-72D9-4ACA-9805-DC35C9BCE9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2CB-E2DE-4C44-9AA3-CBFB51959E6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27FD-DEDE-4502-9785-B696C7F733D4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0EAB-53F5-4BDE-8D03-BFE78933D6B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EE5-121B-46C4-87E6-5A9FE4DD951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36AC-1034-4E46-882A-34A97DD7A46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AFF-8E76-431E-AAB1-35A5C1D8F26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9EA-127B-4DE7-BE51-84079643C0D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8EFE-2AF8-4780-8A64-E14F2B4AF9D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08A4-953A-4B9B-9E3E-EA985C95F65A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EC3-6CED-4289-B2D1-59368623B50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F2B-A263-4383-A766-4F405905A97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985-DCA4-4958-8FD5-BD38441BCBF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AC7E-0340-4B11-8BCB-0A7210151C4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5E89-779B-436C-90BB-B4225D25614C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6E05-3EC0-4F0E-BF16-A6A65628640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7378-9F44-4DF8-B0F5-10AA2EA31CE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911-D2E1-4EA6-9B0F-7F54EAE65CD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B48-7403-4E16-BC3B-CAE266D15F7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023C-57E8-413D-B070-F78F58E2516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42ED-EDF3-47DC-B868-54CD0DBFA26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6C9-5B3B-4BFF-BA91-B890C37855B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165-0220-41C5-BAEB-2CD97F84941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E19-ECCC-478E-830E-5BFC9647352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EA61-25DA-4B6A-8368-0A26E066F0E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5922-752E-48EB-9210-86680CD8717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E7FA-24F3-4B1A-BE74-EF41D005DB1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654B-426C-45D4-90CC-35E25BC6ED5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D76-E1D5-4D1A-9BEB-022D86BCFEF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5:25Z</dcterms:modified>
  <cp:revision>2541</cp:revision>
  <dc:subject/>
  <dc:title>Data Processing Demo of Resting-State fMRI</dc:title>
</cp:coreProperties>
</file>