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53E-4D09-4382-81F0-DD12FE11E8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3DCE-90FF-4341-88EC-32CF7A29615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CC9-5BB2-4774-9B5B-BBED6822B80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BFD-772A-48DE-8776-697CB55A208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8AA1-3081-4076-8022-AD151350C08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FF2-5717-42A5-8A4D-ABDD26074A6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984-82F8-4E69-9E6A-6254BFE6FC9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8986-8DA7-4661-9965-016F3C8AE60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9A09-5F51-418F-A66B-419A6C4D7FD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63D-187F-4363-8B47-A41C2330DBB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560-F33A-4E1B-8C0D-D0C19775730C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929-7135-4295-A527-B89162E64CA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3D3E-4DAF-48C1-8B36-F9CD7FB52A5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C9A4-A7E3-421A-A270-680A7756B6F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FD8-B185-42BB-A838-14DE0DC6B89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AEA-6BC0-43C0-BE0A-1F4954C24F7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D789-BE17-4275-BEF1-3143BEA3396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C15-7965-46B4-8380-38406A408BE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27C-5A35-40C9-92FA-3D0E4466B6A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C816-6855-4A9B-90D2-54B32778ED8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53F-5E4D-48B4-BBC1-E8C864A1E84A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4F6C-DAF6-4BC3-BE0D-D0FBE7A8CBD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BFE-3E9D-4198-BD32-EC64F59EC61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4B2-919B-4EC9-8050-AAF24595501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EA30-B68C-4CEF-B0A9-A613E8FC46C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5A9-62E9-4B3F-A496-8604ED1D97A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4DF2-79D7-434A-B9DD-28F4AE35DD0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936-CD87-45C6-988D-35B41D34627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B841-203E-4BD2-A7C1-5B65E1A381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911-F894-491B-9621-B88CDF6E03D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AE49-37EE-4C6B-9175-6D7BD50F647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EB14-E94A-444A-93AB-C10E6A92FF6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9E0-E2B8-4CCB-9918-20377DCD1800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6CF-3201-4442-8B16-4699DDAA98F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861-1435-426D-8028-3D2C939B96C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84C-D8B9-417F-9DDB-9D147791BB9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052-7096-4EF2-964D-18FB8F58AF8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9E9-2623-4DC5-8611-13E42422EC2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61B7-9AAE-4ECE-B92D-6003C86995E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2022-40A7-407E-9E93-D00D07ACB16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942-E7C7-4452-8FA7-18435E5CF1B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D4A-89CB-46ED-85CE-C62C9C19D18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E370-B363-4FE5-8254-2EB52821771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1A66-5A18-4045-99F8-B184D9BE9B3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7DB-B441-49DF-9A8D-330438B5FFE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044-FE7A-492D-BDF9-124C175C441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4630-C133-4920-A409-75C3619CCC5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5:25Z</dcterms:modified>
  <cp:revision>2541</cp:revision>
  <dc:subject/>
  <dc:title>Data Processing Demo of Resting-State fMRI</dc:title>
</cp:coreProperties>
</file>