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08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452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64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08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452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2208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452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964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2208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452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baaf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1e2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E527-692E-4835-9D90-D03A4A2F43D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8604000" y="6536880"/>
            <a:ext cx="539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EB47-C9FB-4FCD-B88D-7CBEAEE9E721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11" descr="logo1"/>
          <p:cNvPicPr/>
          <p:nvPr/>
        </p:nvPicPr>
        <p:blipFill>
          <a:blip r:embed="rId2"/>
          <a:stretch/>
        </p:blipFill>
        <p:spPr>
          <a:xfrm>
            <a:off x="39600" y="41400"/>
            <a:ext cx="1219320" cy="122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9360" y="2708280"/>
            <a:ext cx="9183600" cy="1501920"/>
            <a:chOff x="-9360" y="2708280"/>
            <a:chExt cx="9183600" cy="1501920"/>
          </a:xfrm>
        </p:grpSpPr>
        <p:sp>
          <p:nvSpPr>
            <p:cNvPr id="42" name="Freeform 3"/>
            <p:cNvSpPr/>
            <p:nvPr/>
          </p:nvSpPr>
          <p:spPr>
            <a:xfrm>
              <a:off x="-4680" y="2708280"/>
              <a:ext cx="9151920" cy="150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  <a:effectLst>
              <a:outerShdw dist="77353" dir="4837521" blurRad="0" rotWithShape="0">
                <a:srgbClr val="000066">
                  <a:alpha val="1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b1e2fb"/>
                </a:solidFill>
                <a:latin typeface="Tahoma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-9360" y="2747880"/>
              <a:ext cx="9183600" cy="142092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b1e2fb"/>
                </a:solidFill>
                <a:latin typeface="Tahoma"/>
              </a:endParaRPr>
            </a:p>
          </p:txBody>
        </p:sp>
      </p:grpSp>
      <p:sp>
        <p:nvSpPr>
          <p:cNvPr id="44" name="Text Box 6"/>
          <p:cNvSpPr/>
          <p:nvPr/>
        </p:nvSpPr>
        <p:spPr>
          <a:xfrm>
            <a:off x="304920" y="304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LOGO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baaf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1e2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AF1D-F19D-4E92-91BE-1B4E9959710A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828180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  <a:ea typeface="黑体"/>
              </a:rPr>
              <a:t>Data Processing of Resting-State fMRI (Part 3):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 Black"/>
                <a:ea typeface="黑体"/>
              </a:rPr>
              <a:t>DPARSF Advanced E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89480" y="3068640"/>
            <a:ext cx="636192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AN Chao-Gan</a:t>
            </a:r>
            <a:endParaRPr b="1" lang="en-US" sz="2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严超赣</a:t>
            </a:r>
            <a:endParaRPr b="1" lang="en-US" sz="2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. D.</a:t>
            </a:r>
            <a:endParaRPr b="1" lang="en-US" sz="2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cg.yan@gmail.com</a:t>
            </a:r>
            <a:br>
              <a:rPr sz="2400"/>
            </a:b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tate Key Laboratory of Cognitive Neuroscience and Learning,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eijing Normal University, China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0072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Template Paramet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16360" y="242100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3933720"/>
            <a:ext cx="4392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Standard Step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Calculate in Original Space (Warp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ntraoperative Processing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VBM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36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99F8-97DB-4EA0-B659-14A3F7EB8BB2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84720" y="234936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558972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DICOM to NIfTI, based on MRIcroN’s dcm2nii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7236000" y="2349360"/>
            <a:ext cx="17287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5877000"/>
            <a:ext cx="4030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emove several first time point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643280" y="2637000"/>
            <a:ext cx="8636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45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3ED8-0ACF-49E0-99CD-A66E0EBAF81B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210360"/>
            <a:ext cx="4030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Slice Timing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C3AD-6E45-44A3-B774-25BD07902EBC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5435640" y="2637000"/>
            <a:ext cx="100800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486900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Total slice numbe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7812000" y="2637000"/>
            <a:ext cx="10796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566100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eference slice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slice acquired in the middle time of each T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6516720" y="2637000"/>
            <a:ext cx="122400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5084640"/>
            <a:ext cx="302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Slice order: 1:2:33,2:2:32 (interleaved scanning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4645080" y="2925720"/>
            <a:ext cx="6476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6165720"/>
            <a:ext cx="2808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ealign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621036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T1 DICOM files to NIfTI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2924280"/>
            <a:ext cx="10796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92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Coregister T1 image to functional sp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9E81-F068-41B0-976F-C34210172108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5013360"/>
            <a:ext cx="316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A hidden step in normalization by using T1 image segmentation in DPARSF Basic Edition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6443640" y="2852640"/>
            <a:ext cx="1079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3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1413000"/>
            <a:ext cx="72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Methods: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403280" y="2708280"/>
            <a:ext cx="7489800" cy="22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 by using EPI template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 by using T1 image unified segmentation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1258920" y="3357720"/>
            <a:ext cx="77770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Structural image was coregistered to the mean functional image after the motion correctio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transformed structural image was then segmented into gray matter, white matter, cerebrospinal fluid by using a unified segmentation algorithm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: the motion corrected functional volumes were spatially normalized to the MNI space using the normalization parameters estimated during unified segmentation (*_seg_sn.mat)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4394E-006 L 4.16667E-006 -0.21207 E">
                                      <p:cBhvr>
                                        <p:cTn id="300" dur="2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80658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Coregister T1 image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to functional sp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679A-A486-4DA8-B59A-DE22EB674428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2708280"/>
            <a:ext cx="77770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Sour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Image: T1 imag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Referen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Image: mean*.img generated in realign step.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If there is no mean*.img generated in realign step DPARSFA will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generat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a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mea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functional imag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automatical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492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orient Interactive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1B4E-8CBC-4147-98DE-19BC07B39CF7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5013360"/>
            <a:ext cx="316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eorientat interactively if the images in a bad orientation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7524720" y="2852640"/>
            <a:ext cx="1224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8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9BF0-81F2-46A9-9C5B-C0E38BDBAB34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313000" y="0"/>
            <a:ext cx="4518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8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297160" y="0"/>
            <a:ext cx="454824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F64B-755A-483D-9852-8841287B48BF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2987640" y="5445000"/>
            <a:ext cx="115272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2987640" y="5661000"/>
            <a:ext cx="1152720" cy="1443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2916360" y="5805360"/>
            <a:ext cx="1224000" cy="1447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5076720" y="1413000"/>
            <a:ext cx="214560" cy="215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2843280" y="6381720"/>
            <a:ext cx="79200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4" dur="1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492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orient Interactive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116E-DE1C-40F4-8F84-9024CF1237CE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5013360"/>
            <a:ext cx="316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The reorientation effects on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coregisted T1 imag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and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e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(if realign is performed)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functional imag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7524720" y="2852640"/>
            <a:ext cx="1224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8" dur="1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557360"/>
            <a:ext cx="769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Overview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New Function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Template Parameter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142920" y="184464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9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DF1B-2934-4518-B8EC-7997904CAECB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92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eg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12AB-8ED7-4331-8F92-1494B78F0AA7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395280" y="3860640"/>
            <a:ext cx="3168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A hidden step in normalization by using T1 image segmentation in DPARSF Basic Edition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3141720"/>
            <a:ext cx="417672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395280" y="5157720"/>
            <a:ext cx="316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Now it can be used in VBM alone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" dur="1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4920" y="969840"/>
            <a:ext cx="7343640" cy="59058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916360" y="1844640"/>
            <a:ext cx="1224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2268360" y="2205000"/>
            <a:ext cx="309564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2268360" y="2565360"/>
            <a:ext cx="309564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2195640" y="5300640"/>
            <a:ext cx="331308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2124000" y="4292640"/>
            <a:ext cx="338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7380360" y="765000"/>
            <a:ext cx="176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GM in origin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7451640" y="1844640"/>
            <a:ext cx="169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WM in origin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7451640" y="4357800"/>
            <a:ext cx="172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GM in normalized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7380360" y="3500280"/>
            <a:ext cx="212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Modulated GM in normalized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2124000" y="2997360"/>
            <a:ext cx="3311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7524720" y="2276640"/>
            <a:ext cx="161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CSF in origin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00000" y="155160"/>
            <a:ext cx="453564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By-Product: VB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3789360"/>
            <a:ext cx="3384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7308720" y="2708280"/>
            <a:ext cx="212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Matrix to warp image from individual space to MNI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2124000" y="3645000"/>
            <a:ext cx="37432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7343640" y="2924280"/>
            <a:ext cx="212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Matrix to warp image from MNI space to individu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2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8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2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27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F323-ADDB-4D88-9FD0-2D0AF26D3F04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5435640" y="3429000"/>
            <a:ext cx="17287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468360" y="4581360"/>
            <a:ext cx="252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Bounding box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4643280" y="3645000"/>
            <a:ext cx="1729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537372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 by using EPI template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7164360" y="3429000"/>
            <a:ext cx="10796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179280" y="4797360"/>
            <a:ext cx="302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Voxel size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4643280" y="3429000"/>
            <a:ext cx="7207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468360" y="465300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0" dur="1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4920" y="1341000"/>
            <a:ext cx="3960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 by using T1 image unified seg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E253-53ED-404D-BCC7-18000D65602A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6443640" y="3645000"/>
            <a:ext cx="2521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250920" y="3645000"/>
            <a:ext cx="42498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Paramete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File: *_seg_sn.mat generated in unified segmentatio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Images to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Writ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: Functional images (e.g., r*.img if realign is performe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4643280" y="3141720"/>
            <a:ext cx="649440" cy="216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6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47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46A1-C773-4CFE-8429-EEFE136A7A8F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49" name=""/>
          <p:cNvSpPr/>
          <p:nvPr/>
        </p:nvSpPr>
        <p:spPr>
          <a:xfrm>
            <a:off x="4643280" y="3860640"/>
            <a:ext cx="1729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468360" y="537372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Delete files before normalization to save disk space. The raw data (FunRaw and T1Raw) will be reserved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0" dur="1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53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CF20-D4C8-4708-A9E6-0CED49652A11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55" name=""/>
          <p:cNvSpPr/>
          <p:nvPr/>
        </p:nvSpPr>
        <p:spPr>
          <a:xfrm>
            <a:off x="7020000" y="3860640"/>
            <a:ext cx="1008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468360" y="328608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FWHM kernel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468360" y="436572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Unchecke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: The following processing steps are based on Data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out smooth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(e.g., ReHo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6300720" y="3860640"/>
            <a:ext cx="71928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179280" y="3787920"/>
            <a:ext cx="3024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Checke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: The following processing steps are based on Data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 smooth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(e.g., ALFF, fALFF, Funtional Connectivity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34920" y="1341360"/>
            <a:ext cx="39607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Smooth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0" dur="1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64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DDA0-9870-4CFB-B38F-68D3313D750F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66" name=""/>
          <p:cNvSpPr/>
          <p:nvPr/>
        </p:nvSpPr>
        <p:spPr>
          <a:xfrm>
            <a:off x="4643280" y="4221000"/>
            <a:ext cx="648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468360" y="5084640"/>
            <a:ext cx="252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emove linear trend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5291280" y="4221000"/>
            <a:ext cx="2016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179280" y="5300640"/>
            <a:ext cx="302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deal band pass filte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7308720" y="4221000"/>
            <a:ext cx="13687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468360" y="551664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Delete detrented files to save disk space. Do not select this option if fALFF is wanted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1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74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D8CF-0370-4A75-B004-49810CAEE61D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76" name=""/>
          <p:cNvSpPr/>
          <p:nvPr/>
        </p:nvSpPr>
        <p:spPr>
          <a:xfrm>
            <a:off x="6084720" y="4437000"/>
            <a:ext cx="2880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34920" y="1341360"/>
            <a:ext cx="39607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Mask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4645080" y="4437000"/>
            <a:ext cx="8636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250920" y="2852640"/>
            <a:ext cx="302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Default mask: SPM5 apriori mask (brainmask.nii) thresholded at 50%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250920" y="3429000"/>
            <a:ext cx="302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User-defined mask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324000" y="3141720"/>
            <a:ext cx="42494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f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olu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of default mask or user-defined mask i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differen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from the functional data: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1) In DPARSF (Basic Edition)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Erro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2) In DPARSF (Advanced Edition)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ampl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the mask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automaticall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1" dur="1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2556000" y="333360"/>
            <a:ext cx="6624360" cy="6465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564000" y="1628640"/>
            <a:ext cx="504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85" name=""/>
          <p:cNvSpPr/>
          <p:nvPr/>
        </p:nvSpPr>
        <p:spPr>
          <a:xfrm>
            <a:off x="7308720" y="5734080"/>
            <a:ext cx="115272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19700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Tahoma"/>
              </a:rPr>
              <a:t>Mask Resample</a:t>
            </a:r>
            <a:endParaRPr b="1" lang="en-US" sz="23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3276720" y="3860640"/>
            <a:ext cx="3166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89" name=""/>
          <p:cNvSpPr/>
          <p:nvPr/>
        </p:nvSpPr>
        <p:spPr>
          <a:xfrm>
            <a:off x="7885080" y="4365720"/>
            <a:ext cx="503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3276720" y="4797360"/>
            <a:ext cx="2950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7236000" y="4869000"/>
            <a:ext cx="79200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2" name=""/>
          <p:cNvSpPr/>
          <p:nvPr/>
        </p:nvSpPr>
        <p:spPr>
          <a:xfrm>
            <a:off x="-71280" y="4486320"/>
            <a:ext cx="298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0 – Nearest Neighbor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4500720" y="5877000"/>
            <a:ext cx="2663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4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2F48-5538-49C2-BDB8-BAF8D77FF59C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34920" y="2060640"/>
            <a:ext cx="244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efault mask (BrainMask_05_91x109x91.img, voxel size: 2x2x2) or user-defined mask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2708280"/>
            <a:ext cx="244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e first time point of functional images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515772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{Work Dir}\Masks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0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5" dur="1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01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8F87-04BB-4776-A8C7-380F3C9B04FE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03" name=""/>
          <p:cNvSpPr/>
          <p:nvPr/>
        </p:nvSpPr>
        <p:spPr>
          <a:xfrm>
            <a:off x="4643280" y="4724280"/>
            <a:ext cx="43214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04" name=""/>
          <p:cNvSpPr/>
          <p:nvPr/>
        </p:nvSpPr>
        <p:spPr>
          <a:xfrm>
            <a:off x="468360" y="5084640"/>
            <a:ext cx="252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eHo Calculation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4643280" y="4941720"/>
            <a:ext cx="43214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179280" y="5300640"/>
            <a:ext cx="302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ALFF/fALFF Calculation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5" dur="1" fill="hold"/>
                                        <p:tgtEl>
                                          <p:spTgt spid="3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97800" cy="5445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95280" y="-360"/>
            <a:ext cx="511308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652464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Arial"/>
              </a:rPr>
              <a:t>(Yan and Zang, 2010)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09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2FFA-A0D9-4D5E-AA1D-F5E98ED255AA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11" name=""/>
          <p:cNvSpPr/>
          <p:nvPr/>
        </p:nvSpPr>
        <p:spPr>
          <a:xfrm>
            <a:off x="179280" y="2565360"/>
            <a:ext cx="2376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p*.txt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4643280" y="5229360"/>
            <a:ext cx="1729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6443640" y="5229360"/>
            <a:ext cx="14414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179280" y="4724280"/>
            <a:ext cx="23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CsfMask_07_61x73x61.img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7885080" y="5229360"/>
            <a:ext cx="10796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5292720" y="5445000"/>
            <a:ext cx="115092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6443640" y="5445000"/>
            <a:ext cx="136836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179280" y="3108240"/>
            <a:ext cx="23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BrainMask_05_61x73x61.img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9" name=""/>
          <p:cNvSpPr/>
          <p:nvPr/>
        </p:nvSpPr>
        <p:spPr>
          <a:xfrm>
            <a:off x="108000" y="3933720"/>
            <a:ext cx="23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WhiteMask_09_61x73x61.img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119700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Regress out nuisance Covariates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7" dur="1" fill="hold"/>
                                        <p:tgtEl>
                                          <p:spTgt spid="3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23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9183-183E-4BC3-A3D0-73B9C4CC97E3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25" name=""/>
          <p:cNvSpPr/>
          <p:nvPr/>
        </p:nvSpPr>
        <p:spPr>
          <a:xfrm>
            <a:off x="4643280" y="5229360"/>
            <a:ext cx="1729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26" name=""/>
          <p:cNvSpPr/>
          <p:nvPr/>
        </p:nvSpPr>
        <p:spPr>
          <a:xfrm>
            <a:off x="6443640" y="5229360"/>
            <a:ext cx="14414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7885080" y="5229360"/>
            <a:ext cx="10796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28" name=""/>
          <p:cNvSpPr/>
          <p:nvPr/>
        </p:nvSpPr>
        <p:spPr>
          <a:xfrm>
            <a:off x="5292720" y="5445000"/>
            <a:ext cx="115092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6443640" y="5445000"/>
            <a:ext cx="136836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119700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Regress out nuisance Covariates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324000" y="3141720"/>
            <a:ext cx="42494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f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olu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of masks i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differen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from the functional data: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1) In DPARSF (Basic Edition)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Erro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2) In DPARSF (Advanced Edition)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ampl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the mask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automaticall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(based on *_91x109x91.img, voxel size: 2x2x2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0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3" dur="1" fill="hold"/>
                                        <p:tgtEl>
                                          <p:spTgt spid="3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79280" y="5300640"/>
            <a:ext cx="302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Extract ROI time courses (also for ROI-wise Functional Connectivity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35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0011-57D3-46EE-A7AF-FB0BB7BD0A9A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37" name=""/>
          <p:cNvSpPr/>
          <p:nvPr/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4643280" y="5734080"/>
            <a:ext cx="1297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468360" y="5084640"/>
            <a:ext cx="252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Functional Connectivity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voxel-wise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40" name=""/>
          <p:cNvSpPr/>
          <p:nvPr/>
        </p:nvSpPr>
        <p:spPr>
          <a:xfrm>
            <a:off x="5940360" y="5734080"/>
            <a:ext cx="1368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41" name=""/>
          <p:cNvSpPr/>
          <p:nvPr/>
        </p:nvSpPr>
        <p:spPr>
          <a:xfrm>
            <a:off x="7451640" y="5734080"/>
            <a:ext cx="792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50920" y="4653000"/>
            <a:ext cx="252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Define ROI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5" dur="1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45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DD36-2826-43A6-8F1F-481DED112FDD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47" name=""/>
          <p:cNvSpPr/>
          <p:nvPr/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efine ROI Interactively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48" name=""/>
          <p:cNvSpPr/>
          <p:nvPr/>
        </p:nvSpPr>
        <p:spPr>
          <a:xfrm>
            <a:off x="4643280" y="5734080"/>
            <a:ext cx="1297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49" name=""/>
          <p:cNvSpPr/>
          <p:nvPr/>
        </p:nvSpPr>
        <p:spPr>
          <a:xfrm>
            <a:off x="4643280" y="5950080"/>
            <a:ext cx="1297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0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7" dur="1" fill="hold"/>
                                        <p:tgtEl>
                                          <p:spTgt spid="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6" dur="250" autoRev="1" fill="hold"/>
                                        <p:tgtEl>
                                          <p:spTgt spid="3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E95F-D858-4CBC-A91E-AD3EB7FE3888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3090960" y="2671920"/>
            <a:ext cx="2962080" cy="15141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132000" y="3213000"/>
            <a:ext cx="115272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3132000" y="3645000"/>
            <a:ext cx="1152720" cy="215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55" name=""/>
          <p:cNvSpPr/>
          <p:nvPr/>
        </p:nvSpPr>
        <p:spPr>
          <a:xfrm>
            <a:off x="2050920" y="5084640"/>
            <a:ext cx="5113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means define ROI Radius for each ROI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seperately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0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2" dur="1" fill="hold"/>
                                        <p:tgtEl>
                                          <p:spTgt spid="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1800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BD45-8B5D-4684-8055-050BC0AED8DF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5580000" y="1125360"/>
            <a:ext cx="21420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60" name=""/>
          <p:cNvSpPr/>
          <p:nvPr/>
        </p:nvSpPr>
        <p:spPr>
          <a:xfrm>
            <a:off x="3635280" y="6381720"/>
            <a:ext cx="79236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0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0" dur="1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63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7B89-607D-4D97-8C7F-C33CD79336C6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65" name=""/>
          <p:cNvSpPr/>
          <p:nvPr/>
        </p:nvSpPr>
        <p:spPr>
          <a:xfrm>
            <a:off x="5940360" y="5950080"/>
            <a:ext cx="201636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119700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Extract AAL time courses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67" name=""/>
          <p:cNvSpPr/>
          <p:nvPr/>
        </p:nvSpPr>
        <p:spPr>
          <a:xfrm>
            <a:off x="324000" y="3141720"/>
            <a:ext cx="42494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f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olu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of AAL mask i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differen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from the functional data: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1) In DPARSF (Basic Edition)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Erro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2) In DPARSF (Advanced Edition)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ampl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the mask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automaticall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(based on aal.nii, voxel size: 1x1x1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0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6" dur="1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7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0977-0989-4750-9C2C-1D7200802AC0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72" name=""/>
          <p:cNvSpPr/>
          <p:nvPr/>
        </p:nvSpPr>
        <p:spPr>
          <a:xfrm>
            <a:off x="4643280" y="6165720"/>
            <a:ext cx="2016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119700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Warp Masks into Individual Space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2708280"/>
            <a:ext cx="42498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Paramete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File: *_seg_inv_sn.mat stored in "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T1ImgSegm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" directory which is estimated in the T1 imag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unified segmentatio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75" name=""/>
          <p:cNvSpPr/>
          <p:nvPr/>
        </p:nvSpPr>
        <p:spPr>
          <a:xfrm>
            <a:off x="4643280" y="3141720"/>
            <a:ext cx="649440" cy="216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0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6" dur="1" fill="hold"/>
                                        <p:tgtEl>
                                          <p:spTgt spid="3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78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9E91-3AAA-4344-8F79-27D57F9EFEE0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80" name=""/>
          <p:cNvSpPr/>
          <p:nvPr/>
        </p:nvSpPr>
        <p:spPr>
          <a:xfrm>
            <a:off x="4643280" y="6165720"/>
            <a:ext cx="2016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119700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Warp Masks into Individual Space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2708280"/>
            <a:ext cx="42498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mages to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rit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: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260640" indent="-260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1. The calculation mask (also regarded as the whole-barin mask, e.g. the "Default mask")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260640" indent="-260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2. The covariates masks in regressing out covariate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260640" indent="-260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3. The ROI masks used in Functional Connectivity or Extracting ROI Time course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260640" indent="-260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4. The AAL mask used in Extracting AAL time courses (90 regions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83" name=""/>
          <p:cNvSpPr/>
          <p:nvPr/>
        </p:nvSpPr>
        <p:spPr>
          <a:xfrm>
            <a:off x="4643280" y="4437000"/>
            <a:ext cx="3961080" cy="216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84" name=""/>
          <p:cNvSpPr/>
          <p:nvPr/>
        </p:nvSpPr>
        <p:spPr>
          <a:xfrm>
            <a:off x="4643280" y="5229360"/>
            <a:ext cx="4321440" cy="50472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7451640" y="5734080"/>
            <a:ext cx="792360" cy="216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5940360" y="5950080"/>
            <a:ext cx="2087640" cy="21564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0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0" dur="1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89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9706-6C09-4260-9544-267D3D10889C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91" name=""/>
          <p:cNvSpPr/>
          <p:nvPr/>
        </p:nvSpPr>
        <p:spPr>
          <a:xfrm>
            <a:off x="4643280" y="6165720"/>
            <a:ext cx="2016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119700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Warp Masks into Individual Space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2708280"/>
            <a:ext cx="4249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Stored in {Work Dir}\Mask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214800"/>
            <a:ext cx="42498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The ROIs defined Interactively will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NO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be warped since they are defined in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INDIVIDUAL SPACE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4643280" y="5950080"/>
            <a:ext cx="1297080" cy="21564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0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0" dur="1" fill="hold"/>
                                        <p:tgtEl>
                                          <p:spTgt spid="3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7903-3CD4-46A5-B8F2-6D694A60D131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771640" y="333360"/>
            <a:ext cx="4124520" cy="6070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016600" y="260280"/>
            <a:ext cx="4127400" cy="6251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11280" y="2349360"/>
            <a:ext cx="3095640" cy="2476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867280" y="2205000"/>
            <a:ext cx="2916360" cy="2536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4869000"/>
            <a:ext cx="35272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Based on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Matlab, SPM, REST, MRIcroN’s dcm2nii</a:t>
            </a:r>
            <a:endParaRPr b="1" lang="en-US" sz="2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7037E-006 L -0.29636 -3.7037E-006 E">
                                      <p:cBhvr>
                                        <p:cTn id="32" dur="1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98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9048-C257-41DC-BEF6-41D41231A43B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00" name=""/>
          <p:cNvSpPr/>
          <p:nvPr/>
        </p:nvSpPr>
        <p:spPr>
          <a:xfrm>
            <a:off x="6877080" y="6165720"/>
            <a:ext cx="2016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105264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Starting Directory Name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2203560"/>
            <a:ext cx="4249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2000"/>
          </a:bodyPr>
          <a:p>
            <a:pPr marL="41040" indent="-41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f you do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no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start with raw DICOM images, you need to specify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Starting Directory Nam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E.g. "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FunImgARW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" means you start with images which have been slice timed, realigned and normalized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Abbreviation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: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A - Slice Timing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R - Realign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W - Normalize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S - Smooth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D - Detrend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F - Filter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C - Covariates Removed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0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6" dur="1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900000" y="1557360"/>
            <a:ext cx="769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Overview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New Function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Template Parameter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142920" y="3500280"/>
            <a:ext cx="46836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07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83E2-64A2-46E3-B946-EB12B598FA12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0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8" dur="1" fill="hold"/>
                                        <p:tgtEl>
                                          <p:spTgt spid="4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450072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Template Paramet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716360" y="242100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12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3608-4F61-480C-9B5A-C90633775201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13" name=""/>
          <p:cNvSpPr/>
          <p:nvPr/>
        </p:nvSpPr>
        <p:spPr>
          <a:xfrm>
            <a:off x="539640" y="3645000"/>
            <a:ext cx="42498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Standard Step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Calculate in Original Space (Warp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ntraoperative Processing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VBM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4643280" y="278136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4643280" y="2997360"/>
            <a:ext cx="201636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4643280" y="3213000"/>
            <a:ext cx="1513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643280" y="3357720"/>
            <a:ext cx="1513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0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4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450072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tandard Ste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ADA9-088D-452D-A463-DFC95AC1EAF9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22" name=""/>
          <p:cNvSpPr/>
          <p:nvPr/>
        </p:nvSpPr>
        <p:spPr>
          <a:xfrm>
            <a:off x="4716360" y="242100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0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4" dur="1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86920" y="404280"/>
            <a:ext cx="7272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's standard proced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11280" y="1887480"/>
            <a:ext cx="8208720" cy="46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nvert DICOM files to NIFTI images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move First 10 Time Points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lice Timing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align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ormalize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mooth (optional)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etrend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lter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lculate ReHo, ALFF, fALFF (optional)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gress out the Covariables (optional)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lculate Functional Connectivity (optional)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xtract AAL or ROI time courses for further analysis         (optional)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26" name=""/>
          <p:cNvSpPr/>
          <p:nvPr/>
        </p:nvSpPr>
        <p:spPr>
          <a:xfrm>
            <a:off x="2068560" y="6491160"/>
            <a:ext cx="66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lease refer to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Data Processing Multimedia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ourse (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Part 1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0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2" dur="1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-36360" y="159552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Calculate in Original Space (War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7150-A76B-407F-90CC-8F4EB51E13D3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4716360" y="242100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4643280" y="3141720"/>
            <a:ext cx="6494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3" name=""/>
          <p:cNvSpPr/>
          <p:nvPr/>
        </p:nvSpPr>
        <p:spPr>
          <a:xfrm>
            <a:off x="4572000" y="6165720"/>
            <a:ext cx="1944720" cy="2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4" name=""/>
          <p:cNvSpPr/>
          <p:nvPr/>
        </p:nvSpPr>
        <p:spPr>
          <a:xfrm>
            <a:off x="179280" y="321300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Segm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to produce *_seg_inv_sn.mat stored in "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T1ImgSegm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" directory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179280" y="443700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Warp masks into Individu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4149720"/>
            <a:ext cx="4392720" cy="1150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7" name=""/>
          <p:cNvSpPr/>
          <p:nvPr/>
        </p:nvSpPr>
        <p:spPr>
          <a:xfrm>
            <a:off x="179280" y="515772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calculation is performed i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individu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8" dur="1" fill="hold"/>
                                        <p:tgtEl>
                                          <p:spTgt spid="4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-36360" y="1125000"/>
            <a:ext cx="3960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Intraoperative Proces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2EE0-BE55-4939-9F3E-05E14258C910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2" name=""/>
          <p:cNvSpPr/>
          <p:nvPr/>
        </p:nvSpPr>
        <p:spPr>
          <a:xfrm>
            <a:off x="4716360" y="242100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3" name=""/>
          <p:cNvSpPr/>
          <p:nvPr/>
        </p:nvSpPr>
        <p:spPr>
          <a:xfrm>
            <a:off x="4643280" y="2852640"/>
            <a:ext cx="6494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4" name=""/>
          <p:cNvSpPr/>
          <p:nvPr/>
        </p:nvSpPr>
        <p:spPr>
          <a:xfrm>
            <a:off x="7451640" y="2924280"/>
            <a:ext cx="1297080" cy="217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5" name=""/>
          <p:cNvSpPr/>
          <p:nvPr/>
        </p:nvSpPr>
        <p:spPr>
          <a:xfrm>
            <a:off x="179280" y="2781360"/>
            <a:ext cx="40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N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since there is no head motion. DPARSFA will generate th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mea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functional image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automatical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.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6" name=""/>
          <p:cNvSpPr/>
          <p:nvPr/>
        </p:nvSpPr>
        <p:spPr>
          <a:xfrm>
            <a:off x="179280" y="4437000"/>
            <a:ext cx="40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Reorient interactive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since T1 images are in a bad orientation. Reorientation effects o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coregistere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T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image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functiona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images afte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slice timing correctio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7" name=""/>
          <p:cNvSpPr/>
          <p:nvPr/>
        </p:nvSpPr>
        <p:spPr>
          <a:xfrm>
            <a:off x="4643280" y="5950080"/>
            <a:ext cx="136872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8" name=""/>
          <p:cNvSpPr/>
          <p:nvPr/>
        </p:nvSpPr>
        <p:spPr>
          <a:xfrm>
            <a:off x="179280" y="515772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Define ROI Interactive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since normalization is not performed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0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8" dur="1" fill="hold"/>
                                        <p:tgtEl>
                                          <p:spTgt spid="4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-36360" y="1125000"/>
            <a:ext cx="3960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VB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A6D6-B25E-43ED-B01E-CD7B4A28BA8A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4716360" y="242100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4643280" y="3068640"/>
            <a:ext cx="6494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55" name=""/>
          <p:cNvSpPr/>
          <p:nvPr/>
        </p:nvSpPr>
        <p:spPr>
          <a:xfrm>
            <a:off x="8101080" y="6165720"/>
            <a:ext cx="7189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56" name=""/>
          <p:cNvSpPr/>
          <p:nvPr/>
        </p:nvSpPr>
        <p:spPr>
          <a:xfrm>
            <a:off x="179280" y="278136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Only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Segm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checkbox is checked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57" name=""/>
          <p:cNvSpPr/>
          <p:nvPr/>
        </p:nvSpPr>
        <p:spPr>
          <a:xfrm>
            <a:off x="179280" y="443700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Define the Starting Directory Name a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T1Raw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0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8" dur="1" fill="hold"/>
                                        <p:tgtEl>
                                          <p:spTgt spid="4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2484360" y="289260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www.restfmri.net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Further Hel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26920" y="235728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Further questions: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62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8BF0-F88F-47F9-A264-6560AC41147B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0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0" dur="1" fill="hold"/>
                                        <p:tgtEl>
                                          <p:spTgt spid="4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Thank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331640" y="1412640"/>
            <a:ext cx="2879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DONG Zhang-Y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GUO Xiao-Ju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HE Yo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LONG Xiang-Yu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SONG Xiao-Wei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YAO Li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ZANG Yu-Fe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ZHANG H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ZHU Chao-Zh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ZOU Qi-Ho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ZUO Xi-Ni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……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5003640" y="5084640"/>
            <a:ext cx="3457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All the group members!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67" name=""/>
          <p:cNvSpPr/>
          <p:nvPr/>
        </p:nvSpPr>
        <p:spPr>
          <a:xfrm>
            <a:off x="5076720" y="1341360"/>
            <a:ext cx="35989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SPM Team: Wellcome Department of Imaging Neuroscience, UCL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MRIcroN Team: Chris RORDE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jview Team: CUI Xu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……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0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6" dur="1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6048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 Basic Edi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60E6-11EA-40D9-94A5-EB63DA1499A5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1484280"/>
            <a:ext cx="7696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Type in 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” to start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Simple but not flexible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Strong parameters checking and wrong processing prevention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306E-ED51-4A10-B416-834FBDD6CC4E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26560" y="1988640"/>
            <a:ext cx="799308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  <a:ea typeface="宋体"/>
              </a:rPr>
              <a:t>Thanks for your attentio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0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2" dur="1" fill="hold"/>
                                        <p:tgtEl>
                                          <p:spTgt spid="4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6048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 Advanced Ed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C1FC-ECDA-4488-BFCD-489016C9F1D5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148428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ype in “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” to start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processing steps can be freely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skipped or combined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processing can be start wit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an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Starting Directory Nam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Support ReHo, ALFF/fALFF and Functional Connectivity calculatio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in individu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masks or ROI files would b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resampled automatical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if the dimension mismatched the functional images.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6048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 Advanced Ed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2684-BD6A-41AC-997C-2C738E27CE1B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971640" y="1484280"/>
            <a:ext cx="7696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masks or ROI files in standard space can b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warped into individual spa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by using the parameters estimated in unified segmentaio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Suppor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VBM analysi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by checking "Segment" only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Suppor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reorientation interactive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if the images in a bad orientatio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Suppor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define regions of interest interactive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based on the participant's T1 image in individu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1557360"/>
            <a:ext cx="769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Overview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New Function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Template Parameter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42920" y="263700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18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E3AE-5272-40D7-A0A9-CF06137A63F9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51640" y="1052640"/>
            <a:ext cx="295272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465300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Working Dir where stored Starting Directory (e.g., FunRaw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8244000" y="1700280"/>
            <a:ext cx="5032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4941720"/>
            <a:ext cx="252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Number of time point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5219640" y="1413000"/>
            <a:ext cx="2016360" cy="93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4797360"/>
            <a:ext cx="2521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Detected participant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8245440" y="1989000"/>
            <a:ext cx="5032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530064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T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3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CD10-3D17-4C19-8186-205F8B1B0589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8T13:17:48Z</dcterms:created>
  <dc:creator>YAN Chao-Gan</dc:creator>
  <dc:description/>
  <dc:language>en-US</dc:language>
  <cp:lastModifiedBy>YAN Chao-Gan</cp:lastModifiedBy>
  <dcterms:modified xsi:type="dcterms:W3CDTF">2012-10-21T03:55:25Z</dcterms:modified>
  <cp:revision>2541</cp:revision>
  <dc:subject/>
  <dc:title>Data Processing Demo of Resting-State fMRI</dc:title>
</cp:coreProperties>
</file>