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E67-538C-4BB4-84B9-A4C7CEDD49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C18-020F-4EE5-9977-6AB1B2BD346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EB8-8CBB-41DA-862F-C6E86C89EB1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1B73-C451-45B4-98F6-00A11343B63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54E-1616-4FCD-94E3-8809E7141FC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B864-4D86-4548-8C19-DC7E4CA10DA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06A8-30DD-48DD-9765-06B8204F00B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6989-345E-41CA-A77F-61CBA847F0D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F42F-DDF7-488E-A090-8B82FA712CF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C62E-0317-46A8-9CCF-57FE876ED7A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751D-3DCD-4346-B3F6-5D20AC56D84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DA85-BE9E-4D50-B7E1-0E1C9B5D48B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F1DF-47AE-447E-AB4F-3E439A197B1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C5D6-8188-48DC-893F-C07D749463E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531B-BB30-4CFD-A106-4BD2FD5AA95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3835-CD03-4A74-8535-823517156C6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503C-C1B6-4F02-9CC0-E8CC05ACCEA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9BB-8FA3-455C-8950-D2CF0C47FCA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50C-EFF6-43BB-B7EB-939490F6F1A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7F9-C750-4A43-A6D0-25C98279816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37EF-C784-4CB3-BBD6-640C3548D1D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B107-0376-4E03-83AA-E0896322067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7BB8-9010-468C-893C-F451C1BF51B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D75-0B06-4645-A3AB-0CC2D5D21C8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C74E-3642-4239-8BBD-6C9433C6838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DEA7-6EFE-4330-B99A-0A8C13C3695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A17B-0D3E-4238-AFF6-A187DF5FDF5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0BE-5F17-444E-ABF5-9B8D80182EFC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7D5D-89CF-4F63-A3CE-1A1166AE03D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1B89-5801-443B-80B3-73E8DF6503B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2435-2BD6-461C-8785-9D65DDCDD9F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4C1-9759-471D-BDEE-414D2504B99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F74E-927E-45CA-BF11-EB92BBD6194C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0EC4-8D74-423E-A66B-7B3C2EEC9D6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D452-5F37-4D1B-9618-5B301F8FD13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7B0-B1D8-4F3B-A37E-077E1692657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ECB-6866-4A56-9C1D-7A90FE52018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C43F-A83D-4BBA-9FF5-24718C93593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D3B-F9C6-4A6B-887E-421743BC828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A34-74A8-4DC9-9EAA-03CA3914F63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678-4D85-4E55-8120-9D3CCBE2722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A15-6CE6-4FF8-89FD-E43B9E3B8F6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417-C2FF-4603-8CDB-4B21882095B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683-1750-4A07-95CF-5235DFC9C48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230-701D-4FF4-B90B-719297B4D29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2288-D58D-4FB7-99B2-010DFAF0C57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4DC-7329-4796-B740-B0DFACC1CB4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5:25Z</dcterms:modified>
  <cp:revision>2541</cp:revision>
  <dc:subject/>
  <dc:title>Data Processing Demo of Resting-State fMRI</dc:title>
</cp:coreProperties>
</file>