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84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78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E4C7-D4F6-4230-8866-CB4ECAB6A4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AA01-9E87-4E54-B05A-0548C1E1D7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4978-F04B-4ED5-A404-383247E34A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EACA-68C2-4EAD-B1FB-1F20A02AD2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7A06-3398-49DA-8BD3-EE8A598EC5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19DF-A9BD-4406-A8E6-56A86DF7AB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E0D1-DC9B-4CD5-BF4B-F28157B1A6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D004-5D2E-4A87-87DF-0A93FA56A5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F497-3508-4708-A904-946DA4F2CA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590A-6646-458E-BF57-AA32C91F6B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D9B3-3B49-4CA4-ABEE-BE3077BADE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C34F-0458-4667-9FD5-82417E4548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07FC-C214-4877-BA6A-51447B75B9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4C6F-64E8-4E5A-892F-8F8D7AE78D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EFD3-6280-4375-A7CA-F952F0B8CD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3DFB-4C7F-4682-A0FC-F7ABB98722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3B61-20AC-4A1D-B94C-BCB7BBA81A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AF72-EDEE-41DD-9558-0731A4AD3D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5066-3117-450E-9005-C2471EACFA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72F-C32F-4ABB-88F4-A157A90016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944-7F79-4B2A-AC50-9568925818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2FD9-A6F2-4356-9214-F55E4C94C8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A41-10D8-4FC1-B85F-F5700269AB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C8E2-1C7A-4B8C-880B-D7BD6279D3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0452-5047-4242-B74D-5DA9F0377B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87A-5D97-4915-BC30-D1BE7D4DEB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D8F1-7C55-41BF-AF50-01C51ACE58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4607-1622-4EA7-BE65-149E825FAA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E549-0FAD-481F-8471-5166409E06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44F9-34B5-4E8E-B006-B7B306C416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F53-1B1D-4FB2-A681-1C06B8FFB5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4099-5B18-47D9-84AD-92814D4FB8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B8D0-66BD-4701-99B1-3D080F38AF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98E-A4D7-4BDE-BF5E-0A53B6E5FC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76D8-491C-4983-AF5E-56BF0DE64F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A260-2A58-4731-B0EE-38ADB58FF5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2A7C-7C09-4600-86C7-42574D153E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BAC-3C38-4627-841A-A8624D4FEF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C8F5-BBA7-4364-9D8C-7340063A12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D176-55E2-4F89-8AE9-1713FDD84A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33A-CB3E-4DBF-94C1-7E2C1B450F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BE4-C5CF-42BF-8C39-5ADEFE2F2C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E65C-57F4-4776-AEB6-8C1E7A6E75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02CF-8402-4C71-9C1F-EA1B3CBD02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CE9D-F007-4680-B4CC-EE8B40A454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605-3C46-43A5-85DE-EF4F4BB410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F6E6-4128-45D5-BE67-E736B37EC7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D89F-1A2A-4472-AE64-D4775AC6DC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9577-9E88-4A8D-A1AA-7200B59799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2181-AB42-4D7B-B984-3BB4F93FED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A85C-D478-4720-B553-3839BD3A0A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2F0C-0ABE-46DB-A226-513D60E8AE10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0FD2-339A-4C42-8514-88228EDE86F6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2919-D9EE-4A24-9FF1-557905B061E1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D591-BF61-4598-A953-48080FBDDC6B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3DD7-B630-4BBA-8C21-7AE4E75975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8709-20F1-458D-A090-5D755DFCF1A5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E0DB-0B96-48A0-855C-5350FDA97A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8937-0120-44E5-88F5-D03D0FAE81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5E8F-9B3E-4E7C-B7D8-6F72574369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4405-21FB-49A5-BAE0-4101E98C26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7FE-7B34-4756-9F0B-FFD7B775D1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ACCF-E9E3-473E-8832-16B51261B0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E57F-EB08-4F59-A34D-58BC30604D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908F-8633-4257-93D5-36A4AA9CE2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D6DE-6B36-415E-B462-A672FA198F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AF2A-7FD4-4BF5-8E02-EE452536C8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89E5-E6F6-4AD0-AFC3-787A96E61A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A86D-941E-404D-829D-9AE41B9AB9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4262-69FC-4D7B-9DBC-322FAE3D44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627-B724-4671-8CB0-3C5548BA84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1E1D-F5A6-418E-8401-C5ED06FF04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FEE9-324E-453E-A99F-F439E89910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37CA-397D-482E-8B75-C82B097D39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7B32-14BB-47C0-9BA2-F510EE65F2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2A3A-A84D-4256-9D90-FFA2FF2019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9C5B-1521-451F-A416-7F12B5BC9F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56DF-9712-4128-AF57-F1437BB4F1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02C7-3A57-468D-9699-D64D56558B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52EE-6478-4EB9-B4D1-5C60CF294B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19C1-6F7A-47C8-877B-2BCDC7708C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D1E1-B7FB-40AA-BECA-7F3CE12319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7BD-C8BC-4E49-8799-B7D437C56A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0E264CA4-1DB3-40C4-A76F-26D0878CDA75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of Resting-State fMRI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(Part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7280" y="191628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28140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32000" y="314172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4681800" cy="17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27640" y="3284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4897440" cy="143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0720" y="335772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71628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2.687659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1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6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5616720" cy="265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3213000"/>
            <a:ext cx="151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628640"/>
            <a:ext cx="7201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692280"/>
            <a:ext cx="8317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sk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Mask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Mask=(Patient_1T.img&gt;Thrd)+(CON_1T.img&gt;Thrd)&gt;0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2604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357336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Patient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N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789360"/>
            <a:ext cx="1656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50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436572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157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5013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(i1&gt;1.96+i2&gt;1.96)&gt;0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3396960" cy="568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34080"/>
            <a:ext cx="35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the two group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5950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773360"/>
            <a:ext cx="237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950080"/>
            <a:ext cx="16556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93372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 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3895560" cy="4903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205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487680" cy="40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342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 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51280" y="2997360"/>
            <a:ext cx="4932360" cy="115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16720" y="364500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24360" y="3357720"/>
            <a:ext cx="4895640" cy="111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000" y="4005360"/>
            <a:ext cx="2159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Inf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5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42100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3800" cy="590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00720" y="213372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each pai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9700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7200"/>
            <a:ext cx="165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40464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508464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143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977080" cy="5183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28284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444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31399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00480" cy="666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92720" y="19890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48428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429264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213372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14972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rresponding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3716280"/>
            <a:ext cx="144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75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465300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4581360"/>
            <a:ext cx="34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mages for this group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1612800"/>
            <a:ext cx="6048720" cy="524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314172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751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395440" cy="4176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5329440" cy="4343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187280" y="530064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88000" y="2349360"/>
            <a:ext cx="208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189000"/>
            <a:ext cx="6264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 in REST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5400720" cy="51195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2708280"/>
            <a:ext cx="1727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2205000"/>
            <a:ext cx="26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 for m*-1 imag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1 for m* imag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2637000"/>
            <a:ext cx="122400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573264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5661000"/>
            <a:ext cx="1152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4360" y="4581360"/>
            <a:ext cx="3816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5640" y="4510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314172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508464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3440" y="140976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42920" y="249228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285264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6019920"/>
            <a:ext cx="7634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: positive corresponds to the mean of Group 1 is greater than the mean of Group 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522936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580536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Two-Sample T-Test with covariates: e.g. gray matter proportion images (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  <a:ea typeface="宋体"/>
              </a:rPr>
              <a:t>Oakes et al., 2007, Neuroimag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8360" y="2492280"/>
            <a:ext cx="144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0" y="61657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Other covariate can be also specified as text files. (E.g. age, brain size, IQ etc.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249228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2924280"/>
            <a:ext cx="23749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6093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sure the correspondence between the group images and the covariate images: 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宋体"/>
              </a:rPr>
              <a:t>order and voxel siz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732720" y="5618160"/>
            <a:ext cx="2160360" cy="547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3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4360" y="1406520"/>
            <a:ext cx="5400360" cy="5118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2708280"/>
            <a:ext cx="165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220500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ituation 1 – Situation 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ure th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rrespondenc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19280" y="3141720"/>
            <a:ext cx="3384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7640" y="573408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0920" y="5734080"/>
            <a:ext cx="115272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9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or ANC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580536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ANCOVA: e.g. gray matter proportion images (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  <a:ea typeface="宋体"/>
              </a:rPr>
              <a:t>Oakes et al., 2007, Neuroimag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2349360"/>
            <a:ext cx="143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61657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Other covariate can be also specified as text files. (E.g. age, brain size, IQ etc.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43640" y="234936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6093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sure the correspondence between the group images and the covariate images: order and voxel siz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2349360"/>
            <a:ext cx="144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4720" y="5877000"/>
            <a:ext cx="25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F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084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1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One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wo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aired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NOVA analysi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6335640" cy="48913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95280" y="189000"/>
            <a:ext cx="576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rrelation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1916280"/>
            <a:ext cx="30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he imaging measure: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LFF maps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2565360"/>
            <a:ext cx="2952720" cy="93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3573360"/>
            <a:ext cx="295272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88000" y="3213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Traits: e.g. 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MMSE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9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5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2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4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2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…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2421000"/>
            <a:ext cx="2736720" cy="107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5516640"/>
            <a:ext cx="13669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3573360"/>
            <a:ext cx="2736720" cy="10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1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6920" y="148428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PM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jview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RIcr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Slice Viewer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2044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5640" y="2565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580000" y="242100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362560" cy="4276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619280" y="242100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0" y="3068640"/>
            <a:ext cx="936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4743360" cy="6200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84360" y="220500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457800" cy="3067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84360" y="249228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4591080" cy="3324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3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41800" cy="2782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3080" y="3789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3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果呈现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76360" y="100080"/>
            <a:ext cx="8099280" cy="67485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95640" y="5589720"/>
            <a:ext cx="576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595008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68360" y="5805360"/>
            <a:ext cx="9352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24000" y="2997360"/>
            <a:ext cx="511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3284640"/>
            <a:ext cx="165708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3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MRIc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2060640"/>
            <a:ext cx="15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0" y="2060640"/>
            <a:ext cx="719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-36360" y="1628640"/>
            <a:ext cx="3752640" cy="1590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835280" y="227664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075600" cy="3641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7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7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lic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Viewe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156360" y="836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6160" cy="6359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976320" y="0"/>
            <a:ext cx="1724040" cy="2276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971640" y="350028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6424560"/>
            <a:ext cx="1079640" cy="244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400536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71640" y="765000"/>
            <a:ext cx="1512720" cy="289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5300640"/>
            <a:ext cx="57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4797360"/>
            <a:ext cx="93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19280" y="5300640"/>
            <a:ext cx="431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5472000" cy="3930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987640" y="249408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7640" y="328464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3860640"/>
            <a:ext cx="1152720" cy="28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65300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3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3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9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680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628640"/>
            <a:ext cx="7201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: m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921440" cy="6246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589720"/>
            <a:ext cx="863640" cy="43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329080" cy="3795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132000" y="2565360"/>
            <a:ext cx="79236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3284640"/>
            <a:ext cx="64800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4869000"/>
            <a:ext cx="79236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1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00000" y="1557360"/>
          <a:ext cx="181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181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2987640" y="476280"/>
            <a:ext cx="39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For Voxel size = 3*3*3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00000" y="3284640"/>
          <a:ext cx="21718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284640"/>
                    <a:ext cx="21718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900000" y="4941720"/>
          <a:ext cx="227340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941720"/>
                    <a:ext cx="227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34800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touch rmm=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3640" y="342900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or edges touch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5; </a:t>
            </a:r>
            <a:r>
              <a:rPr b="1" lang="zh-CN" sz="1800" spc="-1" strike="noStrike">
                <a:solidFill>
                  <a:srgbClr val="b1e2fb"/>
                </a:solidFill>
                <a:latin typeface="Tahoma"/>
              </a:rPr>
              <a:t>SPM_Criterio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515772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, edges, or corners touch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9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26920" y="630864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372600" cy="5772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79280" y="1125360"/>
            <a:ext cx="28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1700280"/>
            <a:ext cx="1440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84360" y="765000"/>
            <a:ext cx="439272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5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826920" y="587700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5185080" cy="27525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484360" y="4076640"/>
            <a:ext cx="11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995640" y="2708280"/>
            <a:ext cx="28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2565360"/>
            <a:ext cx="86364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1773360"/>
            <a:ext cx="1800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71640" y="1413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5280" y="141300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0000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6364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16000" cy="711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35280" y="2637000"/>
            <a:ext cx="201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0" y="119700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268360" y="5300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0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1" dur="1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835280" y="580536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270828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00720" y="263700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4653000"/>
            <a:ext cx="28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7080" cy="613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763640" y="4724280"/>
            <a:ext cx="93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60181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971640" y="2637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378936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7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97164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3528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115920"/>
            <a:ext cx="850608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his report is based on CUI Xu's xjview. (http://www.alivelearn.net/xjview/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evised by YAN Chao-Gan and ZHU Wei-Xuan 20091108: suitable for different Cluster Connectivity Criterion: surface connected, edge connected, corner connected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clusters found: 7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59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27   6 -4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 region:  // Right Cerebrum // Temporal Lobe // Superior Temporal Gyrus // White Matter // undefined // 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intensity: 3.502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# voxels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TOTAL # VOXELS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ight Cerebru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hite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Gray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p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usiform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3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Inf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iddle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Limbic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Unc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Pole_Mid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2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b-Gyral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9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-9 -78 -5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11280" y="692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35280" y="1268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95640" y="1484280"/>
            <a:ext cx="115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1773360"/>
            <a:ext cx="8280360" cy="44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9280" y="2133720"/>
            <a:ext cx="79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0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7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0184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619280" y="2565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4824720" cy="41673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843280" y="213372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285264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43280" y="364500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43280" y="4437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2781360"/>
            <a:ext cx="503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0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9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9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rcRect l="0" t="1023" r="0" b="2245"/>
          <a:stretch/>
        </p:blipFill>
        <p:spPr>
          <a:xfrm>
            <a:off x="900000" y="115920"/>
            <a:ext cx="7626600" cy="67676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47640" y="3716280"/>
            <a:ext cx="57636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71640" y="6354720"/>
            <a:ext cx="647640" cy="2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042920" y="5686560"/>
            <a:ext cx="1924200" cy="11714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042920" y="6453360"/>
            <a:ext cx="1225440" cy="24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0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9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One sample T t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6769080" cy="55008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256000" cy="30020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42920" y="465300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42920" y="638172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32000" y="314172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00720" y="3789360"/>
            <a:ext cx="414000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_61x73x61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7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769440" cy="5500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64000" y="378936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84360" y="6093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3" dur="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1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9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0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1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40200" cy="43005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763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71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40360" y="4508640"/>
            <a:ext cx="23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40000" y="47973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      0.95           0.95           0.95         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</a:t>
            </a:r>
            <a:r>
              <a:rPr b="1" lang="fr-FR" sz="2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=0.774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3640" y="443700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0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7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112536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onferroni correction: 0.05/5=0.0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mily-Wise Error (FWE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se Discovery Rates (FDR) correction   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fill="hold">
                      <p:stCondLst>
                        <p:cond delay="0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5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BD9D-92A9-4778-9EEE-DB365D3FBA66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72360" cy="2863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16000" y="3284640"/>
            <a:ext cx="698508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16000" y="3645000"/>
            <a:ext cx="698508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51640" y="2349360"/>
            <a:ext cx="1368360" cy="22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3213000"/>
            <a:ext cx="86544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1547640" y="5084640"/>
            <a:ext cx="640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alse discovery rate Q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=E(V/(V+S))=E(V/R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4005360"/>
            <a:ext cx="86544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3000" y="6302520"/>
            <a:ext cx="81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Benjamini and Hochberg, 1995, Journal of the Royal Statistical Society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9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9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9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8388-68DA-4EAA-AE1F-B7D3202E2D8B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900000" y="1557360"/>
            <a:ext cx="792000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Let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e the null hypotheses and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heir corresponding p-values. Order these values in increasing order and denote them by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 For a given q, find the largest k such that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k)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kq/m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n reject (i.e. declare positive) all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i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or i = 1, …, k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2" dur="indefinite" restart="never" nodeType="tmRoot">
          <p:childTnLst>
            <p:seq>
              <p:cTn id="2023" dur="indefinite" nodeType="mainSeq">
                <p:childTnLst>
                  <p:par>
                    <p:cTn id="2024" fill="hold">
                      <p:stCondLst>
                        <p:cond delay="0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7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9087-5218-44E2-B437-DE50508FAD81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616040" y="1341360"/>
            <a:ext cx="6124680" cy="5548320"/>
            <a:chOff x="1616040" y="1341360"/>
            <a:chExt cx="6124680" cy="554832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1616040" y="1341360"/>
              <a:ext cx="6124680" cy="48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1758960" y="6165720"/>
              <a:ext cx="21430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"/>
          <p:cNvSpPr/>
          <p:nvPr/>
        </p:nvSpPr>
        <p:spPr>
          <a:xfrm>
            <a:off x="1760400" y="6669000"/>
            <a:ext cx="2087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3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3292560" cy="3528720"/>
          </a:xfrm>
          <a:prstGeom prst="rect">
            <a:avLst/>
          </a:prstGeom>
          <a:ln w="0">
            <a:noFill/>
          </a:ln>
        </p:spPr>
      </p:pic>
      <p:sp>
        <p:nvSpPr>
          <p:cNvPr id="5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6942-595A-4B3E-96DC-C7401EC1E2B4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35280" y="3141720"/>
            <a:ext cx="237672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35280" y="3716280"/>
            <a:ext cx="237672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4508640"/>
            <a:ext cx="115092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16360" y="4508640"/>
            <a:ext cx="165600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0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9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27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mReH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ALFF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51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1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6165720"/>
            <a:ext cx="1079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6124680" cy="4829040"/>
          </a:xfrm>
          <a:prstGeom prst="rect">
            <a:avLst/>
          </a:prstGeom>
          <a:ln w="0">
            <a:noFill/>
          </a:ln>
        </p:spPr>
      </p:pic>
      <p:sp>
        <p:nvSpPr>
          <p:cNvPr id="5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F0E4-D9E3-4751-851B-223315AE1150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627280" y="494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79640" y="5300640"/>
            <a:ext cx="720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fill="hold">
                      <p:stCondLst>
                        <p:cond delay="0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26920" y="145260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572000" y="2403360"/>
            <a:ext cx="3579840" cy="2681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067280" y="5300640"/>
            <a:ext cx="57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0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5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2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REST AlphaSi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156360" y="162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0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7" dur="1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0000" cy="4973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276720" y="1484280"/>
            <a:ext cx="934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06064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72360" y="3357720"/>
            <a:ext cx="107928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88000" y="148428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88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270828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4149720"/>
            <a:ext cx="41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797360"/>
            <a:ext cx="172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0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9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14280" y="907920"/>
            <a:ext cx="8505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 Size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um Prop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/Voxe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ax Freq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Alpha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597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198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96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615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1994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628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22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0478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41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9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466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27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4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689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8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7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15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26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76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87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86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0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29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5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564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4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2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8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718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2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0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2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9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7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8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498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26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9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35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5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24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0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4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67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0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85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7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54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4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33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2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7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8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86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4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4280" y="4941720"/>
            <a:ext cx="83534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fill="hold">
                      <p:stCondLst>
                        <p:cond delay="0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1" dur="1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9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906560" y="1517760"/>
            <a:ext cx="5113440" cy="4167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427640" y="508464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98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mage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alculato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0" dur="indefinite" restart="never" nodeType="tmRoot">
          <p:childTnLst>
            <p:seq>
              <p:cTn id="2201" dur="indefinite" nodeType="mainSeq">
                <p:childTnLst>
                  <p:par>
                    <p:cTn id="2202" fill="hold">
                      <p:stCondLst>
                        <p:cond delay="0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5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58920" y="328464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340000" y="3645000"/>
            <a:ext cx="41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9600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7" dur="1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050560" y="-100440"/>
            <a:ext cx="5327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798480"/>
            <a:ext cx="82803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xample expressions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a)      g1-1     Subtract 1 from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b)      g1-g2    Subtract each image in group 2 from each corresponding image in group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c)      i1-i2    Subtract image 2 from image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d)      i1&gt;100    Make a binary mask image at threshold of 100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e)      g1.*(i1&gt;100)   Make a mask and then apply to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mean(g1)   Calculate the mean image of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i1-mean(g1))./std(g1)   Calculate the z value of i1 related to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g)      corr(g1,g2,''temporal'')    Calculate the temporal correlation between two groups, i.e. one correlation coefficient between two ''time courses'' for each voxel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h)      corr(g1,g2,''spatial'')     Calculate the spatial correlation between two groups, i.e. one correlation coefficient between two images for each ''time point''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9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2920" y="515772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0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1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35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70828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122400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349360"/>
            <a:ext cx="1584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3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Power Spectru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457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56360" y="6165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6" dur="indefinite" restart="never" nodeType="tmRoot">
          <p:childTnLst>
            <p:seq>
              <p:cTn id="2287" dur="indefinite" nodeType="mainSeq">
                <p:childTnLst>
                  <p:par>
                    <p:cTn id="2288" fill="hold">
                      <p:stCondLst>
                        <p:cond delay="0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1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048360" cy="45072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50920" y="1773360"/>
            <a:ext cx="1152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2592360" cy="13766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2952720" cy="1438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8" dur="indefinite" restart="never" nodeType="tmRoot">
          <p:childTnLst>
            <p:seq>
              <p:cTn id="2309" dur="indefinite" nodeType="mainSeq">
                <p:childTnLst>
                  <p:par>
                    <p:cTn id="2310" fill="hold">
                      <p:stCondLst>
                        <p:cond delay="0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3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359160" cy="5256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68360" y="2205000"/>
            <a:ext cx="129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700360" y="4869000"/>
            <a:ext cx="28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492360" y="2203560"/>
            <a:ext cx="5651640" cy="38401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0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1" dur="1" fill="hold"/>
                                        <p:tgtEl>
                                          <p:spTgt spid="6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359160" cy="52560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1979640" y="1273320"/>
            <a:ext cx="7020000" cy="47703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95640" y="5516640"/>
            <a:ext cx="223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2" dur="indefinite" restart="never" nodeType="tmRoot">
          <p:childTnLst>
            <p:seq>
              <p:cTn id="2353" dur="indefinite" nodeType="mainSeq">
                <p:childTnLst>
                  <p:par>
                    <p:cTn id="2354" fill="hold">
                      <p:stCondLst>
                        <p:cond delay="0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7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2050920" y="1422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572000" y="444672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60360" y="189000"/>
            <a:ext cx="698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Granger Causality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63640" y="5734080"/>
            <a:ext cx="6265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ntributed by Mr. ZANG Zhen-Xiang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fill="hold">
                      <p:stCondLst>
                        <p:cond delay="0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7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1200" y="333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Theory of Granger Caus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36800" y="640548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39360" cy="39909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7848720" cy="1152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348000" y="5516640"/>
            <a:ext cx="4581720" cy="3999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050920" y="6415200"/>
            <a:ext cx="626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Granger 1969; Ding et al., 2006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6400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6692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6400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11640" y="2565360"/>
            <a:ext cx="431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Signed path coefficien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Chen et al, 2009, ISMR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48000" y="1341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32000" y="2133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0072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0072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0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3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458120" cy="8096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7515000" cy="74304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7467480" cy="7524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971640" y="3213000"/>
            <a:ext cx="7505640" cy="714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971640" y="4797360"/>
            <a:ext cx="7448400" cy="5907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1200" y="333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Theory of Granger Caus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36800" y="640548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0920" y="6415200"/>
            <a:ext cx="626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Granger 1969; Ding et al., 2006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403280" y="2492280"/>
            <a:ext cx="1656000" cy="6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03280" y="3284640"/>
            <a:ext cx="165600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92360" y="2565360"/>
            <a:ext cx="431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Residual based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0" dur="indefinite" restart="never" nodeType="tmRoot">
          <p:childTnLst>
            <p:seq>
              <p:cTn id="2411" dur="indefinite" nodeType="mainSeq">
                <p:childTnLst>
                  <p:par>
                    <p:cTn id="2412" fill="hold">
                      <p:stCondLst>
                        <p:cond delay="0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5" dur="1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rcRect l="0" t="0" r="0" b="8351"/>
          <a:stretch/>
        </p:blipFill>
        <p:spPr>
          <a:xfrm>
            <a:off x="1332000" y="0"/>
            <a:ext cx="4875120" cy="67723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411280" y="4508640"/>
            <a:ext cx="115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64000" y="4508640"/>
            <a:ext cx="244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0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6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NIfTI nii to NIfTI pair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45736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156360" y="486900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626920" y="802800"/>
            <a:ext cx="4319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NIfTI .nii to NIfTI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408720" cy="51498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2124000" y="2781360"/>
            <a:ext cx="439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43280" y="4292640"/>
            <a:ext cx="381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43280" y="4797360"/>
            <a:ext cx="1081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076720" y="4869000"/>
            <a:ext cx="9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0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3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90528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-1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zFC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7956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6100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948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724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2428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ading and Writing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14079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ad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[Data Vox Head]=rest_readfile('brodmann.nii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– 181*217*181 doubl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Vox – 1 1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Head - Structur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Process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BA20Data=(Data==20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Writ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est_WriteNiftiImage(BA20Data,Head,'BA20.img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6" dur="indefinite" restart="never" nodeType="tmRoot">
          <p:childTnLst>
            <p:seq>
              <p:cTn id="2497" dur="indefinite" nodeType="mainSeq">
                <p:childTnLst>
                  <p:par>
                    <p:cTn id="2498" fill="hold">
                      <p:stCondLst>
                        <p:cond delay="0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1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1887480"/>
            <a:ext cx="806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1. Reboot your computer and do not run any other programs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2. Enlarge your memory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3. MATLAB Version 7.1 or above is suggested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4. You can turn on the 3GB switch of Windows XP!!! Please see more details in http://msdn.microsoft.com/en-us/library/ff556232.aspx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5. If this problem remains, please install Linux, especially 64 bit Linux and Matlab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2" dur="indefinite" restart="never" nodeType="tmRoot">
          <p:childTnLst>
            <p:seq>
              <p:cTn id="2543" dur="indefinite" nodeType="mainSeq">
                <p:childTnLst>
                  <p:par>
                    <p:cTn id="2544" fill="hold">
                      <p:stCondLst>
                        <p:cond delay="0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7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4360" y="15573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nable the 3GB switch on Windows  XP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ight-click My Computer -&gt; Properties -&gt; Advanced -&gt; Startup and Recovery -&gt; Settings -&gt; Edit.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Modify the following line (maybe not exactly same)  in the boot.ini file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multi(0)disk(0)rdisk(0)partition(1)\WINDOWS="WinXP  Pro 3GB" /noexecute=optin /fastdetect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/3GB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Save and close -&gt; Restart your compute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nable the  3GB switch on Windows Vista and Windows 7 (32-bit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ight-click Command Prompt in the Accessories  program group of the Start menu. Click Run as Administrato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At the command prompt, enter "bcdedit /set  IncreaseUserVa 3072"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estart the compute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3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484360" y="28209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26920" y="2286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0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9" dur="1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Xjview Team: CUI Xu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0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5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1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898800" cy="50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4:28Z</dcterms:modified>
  <cp:revision>1997</cp:revision>
  <dc:subject/>
  <dc:title>Data Processing of Resting-State fMRI (Part 2)</dc:title>
</cp:coreProperties>
</file>