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84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D896-E298-4461-BCDE-E673D88AC5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25B-F51E-4B41-9BAD-293223E924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F17-6470-4906-838A-97EB64CB9D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37A-C5D1-46DA-9E2B-9E47F4CB49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27E-79F9-4275-A616-B4C5283D97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C32C-988F-4283-8C03-6E72E770FC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9B7C-1514-4654-B48A-2E9DBBF3E2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1B1B-B32B-4A5A-80A8-A80257C03D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9D26-0F1E-49D9-9EAA-FBE1ACAB02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EFA-CAC2-4BB7-AB08-9C63060951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393-855F-4B8D-BE36-F8A1CE10E4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CFE-3DC0-40A1-83EC-268A1E38B4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556-C46C-4A33-AB61-0AF1C586FE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975-A375-41E0-B085-6225183846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87B0-CF42-456A-9225-C13DF83163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46CF-022E-41B3-8A4C-BB242CF0F0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C21-6E16-4A3C-845C-22F3D9BC28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247-ADA7-47D1-9C81-28D2592B93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42B0-491E-40CA-8F94-BDBF4AF881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B94-1FB1-4CD2-8262-8FAC735DC5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3FBD-020F-44AA-9127-F62375FC58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927-36DC-406C-8AE3-FDFA72F972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438-861C-4A2C-8094-FC2762A283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E84-FAD9-438E-95F6-25C9AAE90F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97BE-879A-4479-B4C0-4A13CE157E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168-7083-41EE-9D33-2555F230D4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A719-A69B-45CF-9EED-C691D740F6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97B-409D-4CA5-A92B-16C87E62E4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9D99-780B-4E2E-BEA1-24578F06AE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9D9-9AC1-4DC3-A7C4-223BEAD294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FF5-FE23-4AA8-AE80-6EC293A7C7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FC8-6E79-4542-91EA-6843BD965B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A45-0B04-46FC-8745-FC9478A33E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6316-EFF0-4389-8D1C-7C3B666989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F810-1DEC-452F-8423-97D0AB4727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7FA-4FF2-4248-9230-887A0E48A3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9DE-207C-4E2C-860D-B2F1987E9B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C52F-AC1C-48F4-91AB-24B1C6A10F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B18-A65E-4350-AAF8-B4BB0BCB8C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D64-3653-41BD-8F2B-2B0F43BD1B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6777-AB2D-494E-A455-1CA37EDC2B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1F62-295C-4C70-9436-81135ABD64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D240-549A-4375-9811-F2C8C43CC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167-E682-44E1-8505-DC11EDA724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2C8-0C5D-4102-838B-1B9A6967A2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913-F03D-4898-9A1F-22E549547F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9C7C-C3EF-42FF-B3FE-286064A177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8338-36E7-4486-9BD5-090B7E27B4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388D-A3B9-45E0-A9D3-A165AE1B6C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2F24-2C0E-4CED-AB39-9AAA2CF726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4953-9781-499E-AB84-C5D6CCDEAA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E03-AFCA-4933-93B1-6DB657E59133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260-3B30-45A1-9282-E66C2409D5A1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3006-595F-4812-A569-FBCE4B8215FA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7EA4-74DC-4472-B04C-989754133572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1BF-E2A1-4928-B713-6D062BC816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762E-DB51-4B75-B0E5-69CFF863C26C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4BB-A8D1-472E-A847-F9F80C452D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7E61-FD4C-4295-B4F6-2B3117EC27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015-AA6D-4EE2-B29E-B4FA7E484C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646-320A-4C4B-8359-D8C582565A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DE5-7B28-4EC1-ABF3-E87AF86D71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159F-54A9-44E5-9B31-3BA9E0C1BB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D04-CAE0-4F5D-ADBF-E1CA6F9946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7AD-8C98-44BD-BCA8-FC5072F96E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A576-D215-480E-BB98-8E0EAE2521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193-148F-4AFF-9BA0-92AB04C3C0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9F1-349A-4B8A-A808-DE0EF52F30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B303-EBA9-4B3D-938C-DB4E0882BB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5A0F-0806-4294-9F44-2151537FE2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84B9-122B-4AB9-A445-8871A29DDE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FEC6-D77B-4364-B07F-47E63474BD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E2A-3C2B-4EBA-925C-1C40CA87CB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16B-47E9-4E37-8285-B049905CB5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DD78-ED2F-4220-A311-9869186BB2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F596-593C-4DB4-B108-9E216E1CA0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42AF-445A-452E-9491-188955C129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3A6-E50D-48D2-9D10-774EBF571B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9EC9-A6F9-45EA-B1E9-CC115AACC5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C52-BF80-4364-885B-798B8BF37D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5AC-AE36-44CE-B8DD-7CEF5F1F4A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7B4-305F-49E0-95C5-45B956E143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F333-233C-4C65-BBE9-633B80DA9C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2749ACFB-69BD-44A0-91A6-D5598DBA592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692280"/>
            <a:ext cx="8317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(Patient_1T.img&gt;Thrd)+(CON_1T.img&gt;Thrd)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(i1&gt;1.96+i2&gt;1.96)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395440" cy="4176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29440" cy="4343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87280" y="530064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349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189000"/>
            <a:ext cx="6264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 in REST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5400720" cy="5119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0828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2205000"/>
            <a:ext cx="26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 for m*-1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1 for m*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63700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5732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5661000"/>
            <a:ext cx="115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4360" y="4581360"/>
            <a:ext cx="3816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5640" y="4510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3141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508464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140976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292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85264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6019920"/>
            <a:ext cx="7634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: positive corresponds to the mean of Group 1 is greater than the mean of Group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522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Two-Sample T-Test with covariates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249228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24280"/>
            <a:ext cx="23749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宋体"/>
              </a:rPr>
              <a:t>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732720" y="5618160"/>
            <a:ext cx="2160360" cy="547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406520"/>
            <a:ext cx="5400360" cy="511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270828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2205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ituation 1 – Situation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ure th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rrespondenc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3141720"/>
            <a:ext cx="3384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7640" y="573408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0920" y="5734080"/>
            <a:ext cx="115272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or ANC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ANCOVA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2349360"/>
            <a:ext cx="143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3640" y="234936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234936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720" y="5877000"/>
            <a:ext cx="25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F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084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6335640" cy="4891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rrelation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1916280"/>
            <a:ext cx="30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he imaging measure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LFF maps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2565360"/>
            <a:ext cx="2952720" cy="93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573360"/>
            <a:ext cx="29527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3213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Traits: e.g. 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MMSE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9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5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4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…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2421000"/>
            <a:ext cx="2736720" cy="10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5516640"/>
            <a:ext cx="13669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3573360"/>
            <a:ext cx="273672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3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7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3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0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1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9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3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9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0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1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7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  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0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D394-9E3C-4E97-821B-DF1172C8901E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2863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16000" y="328464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6000" y="364500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2349360"/>
            <a:ext cx="1368360" cy="22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3213000"/>
            <a:ext cx="86544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1547640" y="5084640"/>
            <a:ext cx="640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alse discovery rate Q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E(V/(V+S))=E(V/R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4005360"/>
            <a:ext cx="8654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3000" y="630252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Benjamini and Hochberg, 1995, Journal of the Royal Statistical Societ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9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9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E6F-88D5-41C3-A994-82E33901AA2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900000" y="1557360"/>
            <a:ext cx="79200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Let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e the null hypotheses and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heir corresponding p-values. Order these values in increasing order and denote them by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 For a given q, find the largest k such that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k)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kq/m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n reject (i.e. declare positive) all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i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or i = 1, …, k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0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7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D6E-C042-4370-8026-F9541B8EB0F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16040" y="1341360"/>
            <a:ext cx="6124680" cy="5548320"/>
            <a:chOff x="1616040" y="1341360"/>
            <a:chExt cx="6124680" cy="554832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1616040" y="1341360"/>
              <a:ext cx="6124680" cy="48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1758960" y="6165720"/>
              <a:ext cx="21430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1760400" y="6669000"/>
            <a:ext cx="2087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3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92560" cy="3528720"/>
          </a:xfrm>
          <a:prstGeom prst="rect">
            <a:avLst/>
          </a:prstGeom>
          <a:ln w="0">
            <a:noFill/>
          </a:ln>
        </p:spPr>
      </p:pic>
      <p:sp>
        <p:nvSpPr>
          <p:cNvPr id="5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8053-FA56-4C0E-B6CE-4E0878BB635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3141720"/>
            <a:ext cx="23767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35280" y="3716280"/>
            <a:ext cx="237672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4508640"/>
            <a:ext cx="11509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16360" y="4508640"/>
            <a:ext cx="165600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0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9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124680" cy="4829040"/>
          </a:xfrm>
          <a:prstGeom prst="rect">
            <a:avLst/>
          </a:prstGeom>
          <a:ln w="0">
            <a:noFill/>
          </a:ln>
        </p:spPr>
      </p:pic>
      <p:sp>
        <p:nvSpPr>
          <p:cNvPr id="5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CD4-1E9A-467D-A9BF-2FDD678D362F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494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79640" y="5300640"/>
            <a:ext cx="720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0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0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5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0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7" dur="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9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0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1" dur="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9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906560" y="1517760"/>
            <a:ext cx="5113440" cy="4167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27640" y="508464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0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7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0560" y="-100440"/>
            <a:ext cx="5327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798480"/>
            <a:ext cx="8280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i1-mean(g1))./std(g1)   Calculate the z value of i1 related to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9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0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6" dur="indefinite" restart="never" nodeType="tmRoot">
          <p:childTnLst>
            <p:seq>
              <p:cTn id="2287" dur="indefinite" nodeType="mainSeq">
                <p:childTnLst>
                  <p:par>
                    <p:cTn id="2288" fill="hold">
                      <p:stCondLst>
                        <p:cond delay="0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1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048360" cy="45072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0920" y="1773360"/>
            <a:ext cx="1152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2592360" cy="1376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2952720" cy="1438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0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8360" y="2205000"/>
            <a:ext cx="129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00360" y="4869000"/>
            <a:ext cx="28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492360" y="2203560"/>
            <a:ext cx="5651640" cy="3840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1" dur="1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979640" y="1273320"/>
            <a:ext cx="7020000" cy="4770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5640" y="5516640"/>
            <a:ext cx="223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0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7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050920" y="1422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572000" y="444672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60360" y="189000"/>
            <a:ext cx="698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Granger Causality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5734080"/>
            <a:ext cx="626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ntributed by Mr. ZANG Zhen-Xiang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fill="hold">
                      <p:stCondLst>
                        <p:cond delay="0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7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39360" cy="3990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7848720" cy="1152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348000" y="5516640"/>
            <a:ext cx="4581720" cy="39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64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669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11640" y="2565360"/>
            <a:ext cx="431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Signed path coefficien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Chen et al, 2009, ISMR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48000" y="1341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0" y="2133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0072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007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3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58120" cy="8096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7515000" cy="7430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7467480" cy="752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7505640" cy="714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7448400" cy="590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03280" y="2492280"/>
            <a:ext cx="165600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03280" y="3284640"/>
            <a:ext cx="1656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92360" y="2565360"/>
            <a:ext cx="431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Residual based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5" dur="1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rcRect l="0" t="0" r="0" b="8351"/>
          <a:stretch/>
        </p:blipFill>
        <p:spPr>
          <a:xfrm>
            <a:off x="1332000" y="0"/>
            <a:ext cx="4875120" cy="67723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411280" y="4508640"/>
            <a:ext cx="115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64000" y="4508640"/>
            <a:ext cx="244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0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6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156360" y="486900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0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3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1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4. You can turn on the 3GB switch of Windows XP!!! Please see more details in http://msdn.microsoft.com/en-us/library/ff556232.a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2" dur="indefinite" restart="never" nodeType="tmRoot">
          <p:childTnLst>
            <p:seq>
              <p:cTn id="2543" dur="indefinite" nodeType="mainSeq">
                <p:childTnLst>
                  <p:par>
                    <p:cTn id="2544" fill="hold">
                      <p:stCondLst>
                        <p:cond delay="0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7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4360" y="15573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3GB switch on Windows  XP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My Computer -&gt; Properties -&gt; Advanced -&gt; Startup and Recovery -&gt; Settings -&gt; Edit.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odify the following line (maybe not exactly same)  in the boot.ini file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ulti(0)disk(0)rdisk(0)partition(1)\WINDOWS="WinXP  Pro 3GB" /noexecute=optin /fastdetect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/3GB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Save and close -&gt; Restart your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 3GB switch on Windows Vista and Windows 7 (32-bit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Command Prompt in the Accessories  program group of the Start menu. Click Run as Administrato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At the command prompt, enter "bcdedit /set  IncreaseUserVa 3072"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estart the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3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484360" y="28209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6920" y="2286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0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9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0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5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1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4:28Z</dcterms:modified>
  <cp:revision>1997</cp:revision>
  <dc:subject/>
  <dc:title>Data Processing of Resting-State fMRI (Part 2)</dc:title>
</cp:coreProperties>
</file>