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84.wmf" ContentType="image/x-wmf"/>
  <Override PartName="/ppt/media/image99.png" ContentType="image/png"/>
  <Override PartName="/ppt/media/image62.png" ContentType="image/png"/>
  <Override PartName="/ppt/media/image87.png" ContentType="image/png"/>
  <Override PartName="/ppt/media/image98.png" ContentType="image/png"/>
  <Override PartName="/ppt/media/image61.png" ContentType="image/png"/>
  <Override PartName="/ppt/media/image65.png" ContentType="image/png"/>
  <Override PartName="/ppt/media/image85.wmf" ContentType="image/x-wmf"/>
  <Override PartName="/ppt/media/image63.png" ContentType="image/png"/>
  <Override PartName="/ppt/media/image9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78.wmf" ContentType="image/x-wmf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2E54-C9A8-47B9-B5E2-03550397396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4365-C6C2-44BC-8BA0-EA4F32B915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2A72-D25A-4096-B799-267EC50238F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7D45-55F0-4641-9DFD-A2B5B55D54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0539-A32E-4301-8032-68635964C9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8A0E-F490-46C7-9B39-048FC90295C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9640-0C4C-4A22-9BE3-5AE1B0514A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D0D9-FEEF-4999-AA3E-D7C9FB80DE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0A97-6B8B-4035-ADF9-675FD96C48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A5A8-6379-4D2F-B717-CE3546168D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5289-E22A-4896-A7DC-C01A26E4CAA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5F15-9BDA-491B-A727-151D46B2BA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DE2F-333E-4108-AD53-4F1A83D72E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1064-5874-48C7-B23B-F09D873839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EEF2-5526-44EC-8EE1-6AB7B9452D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57B1-1E8E-4358-8151-191AD31F7A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1F71-D09C-460B-8D0D-D1C3D78C25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168F-0005-4AE5-AB1C-794A5068142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C5CF-65DA-44ED-AFD7-BBD556D570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989E-CBBD-412F-8873-F044B38616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7301-93E1-4BC1-9C88-430C83B3A3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263A-DF12-4418-972B-5AE34ECAF77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1A3E-80EE-4B25-B203-46449706CC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C6FC-7454-4176-B89B-3A57955497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B826-E4CA-42F9-A55C-F21DD6A3B2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B4C0-4D8A-4FEC-9347-726364BC9F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68E3-08D8-4019-85A8-7192BB5EC3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F987-2F8F-455B-8EDC-5928E93253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9050-D3A9-4187-B9CC-E897E0AB85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F2F1-D79E-4574-962B-764BE8160B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E92A-725F-4989-B89A-D7A6260B33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41E2-FAA4-4905-BE24-2BC3C0689C0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83D0-BA51-4F5D-8A09-905254003F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40DB-BDEC-45A6-8B31-22560FA0BC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F5E1-809E-4D8A-8434-7AD3B0D72A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D634-A5E7-44EB-9C27-1577B6E5C5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EE9E-10E8-4AF5-B4A2-4C646D290A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0090-C82F-4752-BBFE-64A193B2E2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8155-05AE-4B01-8F0C-3467E94E8F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D3DE-AC7D-4D9C-AEE3-17A34DED75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B607-40A6-4589-8EA7-2AE6F607AE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BCA9-0766-46D5-8D44-4A257DC1C1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A9B3-694F-4D2C-947C-67D7157FBD6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402F-2DC8-47F7-B1B2-24CBD23155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0F74-50E0-4191-B261-76B7CE40C9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344E-A33F-4B54-A098-0E21F2DE70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718E-2FD4-42E1-AF67-D67A6AED8F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1E43-DFCC-4F49-90F9-011665CC2E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02B9-256D-493F-99BC-3488AE7A75D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2E1C-E4A4-49E8-8DD4-D0E1D72679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BA35-83F7-43E5-8781-7B9796D4EC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4A59-2D9E-4365-B850-84C9DD6ACD73}" type="slidenum">
              <a:rPr b="0" lang="zh-CN" sz="1200" spc="-1" strike="noStrike">
                <a:solidFill>
                  <a:srgbClr val="b1e2f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0392-F9B9-481F-8A19-8A9A5006F672}" type="slidenum">
              <a:rPr b="0" lang="zh-CN" sz="1200" spc="-1" strike="noStrike">
                <a:solidFill>
                  <a:srgbClr val="b1e2f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6FF7-29A2-4381-B6C5-570C0FE8644C}" type="slidenum">
              <a:rPr b="0" lang="zh-CN" sz="1200" spc="-1" strike="noStrike">
                <a:solidFill>
                  <a:srgbClr val="b1e2f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9E2F-D02B-4BC5-9D32-BAE8B25546B2}" type="slidenum">
              <a:rPr b="0" lang="zh-CN" sz="1200" spc="-1" strike="noStrike">
                <a:solidFill>
                  <a:srgbClr val="b1e2f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B885-927E-4F6A-8856-8772CF1C892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FFC9-C50C-4AA3-876F-A4D41A27B23F}" type="slidenum">
              <a:rPr b="0" lang="zh-CN" sz="1200" spc="-1" strike="noStrike">
                <a:solidFill>
                  <a:srgbClr val="b1e2f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72BA-ECCC-46E4-9CCF-4F26113278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303A-9413-4628-9FE0-069BF6DC37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1E6B-E82D-4F01-9188-BC51A27592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736B-9C8B-45CE-81EB-2BF063625BF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31ED-AB17-4BA5-8D35-E536EEF805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802B-E0FA-4371-8C70-4675E676294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88E9-D671-4FD7-A567-C435B6ACA4E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BE4D-F44B-4B37-AC6B-DC966C0E69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A370-7739-4958-9DFA-FEF7CD10A4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B006-8A0D-49D0-A62E-02AFE4A15F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8DA2-785A-46CC-99F4-3801F90C24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E51D-DCFC-463B-A9E6-340583841A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FEFD-12DB-4F0C-8FE0-E86AC59665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CA57-7597-455A-8E80-F82673E1C3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AFCD-F27D-459F-9EE8-6693489BEE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C196-58BA-434E-B084-2F740B4BAF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9640-82FA-4BEF-9487-44C480D001A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8EB8-868C-4423-9C02-6B24C3C420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ACAB-C96F-49FA-ACEE-E62D42167C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FC72-DEFC-488A-83EC-474B3E7A5B9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FA4E-C337-410E-BA66-9201A511D1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FC1C-5190-4B44-AF35-B7412D1623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C7FD-1604-4C90-99C5-A37E8D9899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1192-444A-4CAB-A278-D9F4EF2BEF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2E48-B1E4-45CB-AB65-A7FC030C6F1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846B-816C-45A9-BD1C-AE016316189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8604000" y="6536880"/>
            <a:ext cx="539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footer&gt;</a:t>
            </a:r>
            <a:fld id="{9DCCF94E-D907-4B74-802A-0330102500FA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9600" y="41400"/>
            <a:ext cx="1219320" cy="12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2" name="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9360" y="2747880"/>
              <a:ext cx="9183600" cy="1420920"/>
            </a:xfrm>
            <a:custGeom>
              <a:avLst/>
              <a:gdLst/>
              <a:ahLst/>
              <a:rect l="l" t="t" r="r" b="b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8.png"/><Relationship Id="rId3" Type="http://schemas.openxmlformats.org/officeDocument/2006/relationships/image" Target="../media/image2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image" Target="../media/image101.png"/><Relationship Id="rId5" Type="http://schemas.openxmlformats.org/officeDocument/2006/relationships/image" Target="../media/image10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280" y="622440"/>
            <a:ext cx="6696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楷体_GB2312"/>
              </a:rPr>
              <a:t>Data Processing of Resting-State fMRI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楷体_GB2312"/>
              </a:rPr>
              <a:t>(Part 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9480" y="3068640"/>
            <a:ext cx="636192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AN Chao-Gan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严超赣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Ph. D.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ycg.yan@gmail.com</a:t>
            </a:r>
            <a:br>
              <a:rPr sz="2400"/>
            </a:b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State Key Laboratory of Cognitive Neuroscience and Learning,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Beijing Normal University, China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600360" cy="3016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47640" y="3933720"/>
            <a:ext cx="136872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7280" y="191628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 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5371920" cy="1342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692360" y="1844640"/>
            <a:ext cx="3238560" cy="3840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692360" y="5300640"/>
            <a:ext cx="187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195640" y="1628640"/>
            <a:ext cx="3281400" cy="3816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132000" y="3141720"/>
            <a:ext cx="273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4681800" cy="176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27640" y="3284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3635280" y="2708280"/>
            <a:ext cx="4897440" cy="1436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00720" y="335772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371628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1280" y="5661000"/>
            <a:ext cx="799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HeightthresholdT = </a:t>
            </a:r>
            <a:r>
              <a:rPr b="1" lang="zh-CN" sz="2000" spc="-1" strike="noStrike">
                <a:solidFill>
                  <a:srgbClr val="ffff00"/>
                </a:solidFill>
                <a:latin typeface="Verdana"/>
                <a:ea typeface="宋体"/>
              </a:rPr>
              <a:t>2.687659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{p&lt;0.05(FDR)}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Extentthresholdk = 10 voxel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5184720" cy="3865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4360" y="4581360"/>
            <a:ext cx="223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3500280"/>
            <a:ext cx="27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pmT_0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700360" y="2205000"/>
            <a:ext cx="5616720" cy="2654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659640" y="3213000"/>
            <a:ext cx="1512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1628640"/>
            <a:ext cx="720108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repara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ALFF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：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LF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FF: mfALF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Ho: smReHo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C: zFC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sk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920" y="692280"/>
            <a:ext cx="8317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Mask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Brain Mask 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Mask=(Patient_1T.img&gt;Thrd)+(CON_1T.img&gt;Thrd)&gt;0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5472360" cy="2604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3573360"/>
            <a:ext cx="2374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Patient_1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N_1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6000" y="3789360"/>
            <a:ext cx="1656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4508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00720" y="436572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Mask_2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515772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501336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(i1&gt;1.96+i2&gt;1.96)&gt;0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76720" y="765000"/>
            <a:ext cx="3396960" cy="5688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836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5734080"/>
            <a:ext cx="352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 or zFC*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or the two group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32720" y="5950080"/>
            <a:ext cx="22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Directory for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saving SPM.ma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80000" y="1773360"/>
            <a:ext cx="2376360" cy="79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5950080"/>
            <a:ext cx="16556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35280" y="400536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3933720"/>
            <a:ext cx="21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 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Mask_2T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321080" cy="3686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356000" y="378936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708360" y="3141720"/>
            <a:ext cx="3384720" cy="1185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708360" y="3573360"/>
            <a:ext cx="331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20000" y="35733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332000" y="1700280"/>
            <a:ext cx="3895560" cy="4903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600360" cy="3016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47640" y="3933720"/>
            <a:ext cx="136872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07280" y="220500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5371920" cy="1342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692360" y="1844640"/>
            <a:ext cx="3238560" cy="3840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692360" y="5300640"/>
            <a:ext cx="187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2124000" y="1916280"/>
            <a:ext cx="3487680" cy="4032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348000" y="3429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 -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3851280" y="2997360"/>
            <a:ext cx="4932360" cy="1155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516720" y="3645000"/>
            <a:ext cx="2158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3924360" y="3357720"/>
            <a:ext cx="4895640" cy="1114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588000" y="4005360"/>
            <a:ext cx="21592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11280" y="5661000"/>
            <a:ext cx="799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HeightthresholdT = </a:t>
            </a:r>
            <a:r>
              <a:rPr b="1" lang="zh-CN" sz="2000" spc="-1" strike="noStrike">
                <a:solidFill>
                  <a:srgbClr val="ffff00"/>
                </a:solidFill>
                <a:latin typeface="Verdana"/>
                <a:ea typeface="宋体"/>
              </a:rPr>
              <a:t>Inf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{p&lt;0.05(FDR)}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Extentthresholdk = 0 voxel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3500280"/>
            <a:ext cx="27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pmT_0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5184720" cy="3859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4360" y="4581360"/>
            <a:ext cx="223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48360" y="242100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3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5833800" cy="5905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300720" y="2133720"/>
            <a:ext cx="284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 or zFC*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or each pai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1197000"/>
            <a:ext cx="719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4867200"/>
            <a:ext cx="1655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40464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6720" y="5084640"/>
            <a:ext cx="21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1844640"/>
            <a:ext cx="143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1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2920" y="184464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5977080" cy="51832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3640" y="3282840"/>
            <a:ext cx="280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6360" y="2854440"/>
            <a:ext cx="194472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913800" cy="37306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19280" y="21337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3139920"/>
            <a:ext cx="30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1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300480" cy="6669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292720" y="1989000"/>
            <a:ext cx="107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03280" y="1484280"/>
            <a:ext cx="719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03280" y="4292640"/>
            <a:ext cx="12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2133720"/>
            <a:ext cx="93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03640" y="4149720"/>
            <a:ext cx="309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rresponding leve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3716280"/>
            <a:ext cx="1440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34920" y="476280"/>
            <a:ext cx="4751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465300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932360" y="4581360"/>
            <a:ext cx="345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Images for this group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9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87280" y="1612800"/>
            <a:ext cx="6048720" cy="5245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763640" y="3141720"/>
            <a:ext cx="280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47516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9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395440" cy="4176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5329440" cy="43434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187280" y="5300640"/>
            <a:ext cx="21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88000" y="2349360"/>
            <a:ext cx="2087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08000" y="189000"/>
            <a:ext cx="6264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tatistical Analysis in REST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9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5400720" cy="51195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-Sample T-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32000" y="2708280"/>
            <a:ext cx="1727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2205000"/>
            <a:ext cx="262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0 for m*-1 images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191880" indent="-19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1 for m* images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788000" y="2637000"/>
            <a:ext cx="122400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04000" y="5732640"/>
            <a:ext cx="2521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 Statistic Imag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56000" y="5661000"/>
            <a:ext cx="1152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84360" y="4581360"/>
            <a:ext cx="381636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75640" y="451008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24000" y="3141720"/>
            <a:ext cx="27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508464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1" dur="1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33440" y="1409760"/>
            <a:ext cx="8277120" cy="43243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-Sample T-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42920" y="2492280"/>
            <a:ext cx="1441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2852640"/>
            <a:ext cx="230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71640" y="6019920"/>
            <a:ext cx="7634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 Statistic Image: positive corresponds to the mean of Group 1 is greater than the mean of Group 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5229360"/>
            <a:ext cx="100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7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77120" cy="43243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wo-Sample T-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920" y="5805360"/>
            <a:ext cx="842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Two-Sample T-Test with covariates: e.g. gray matter proportion images (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  <a:ea typeface="宋体"/>
              </a:rPr>
              <a:t>Oakes et al., 2007, Neuroimage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08360" y="2492280"/>
            <a:ext cx="1440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40000" y="6165720"/>
            <a:ext cx="633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Other covariate can be also specified as text files. (E.g. age, brain size, IQ etc.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3640" y="2492280"/>
            <a:ext cx="1441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2924280"/>
            <a:ext cx="23749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4000" y="609300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Please make sure the correspondence between the group images and the covariate images: 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  <a:ea typeface="宋体"/>
              </a:rPr>
              <a:t>order and voxel siz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732720" y="5618160"/>
            <a:ext cx="2160360" cy="5475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3" dur="1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84360" y="1406520"/>
            <a:ext cx="5400360" cy="51181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aired T-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32000" y="2708280"/>
            <a:ext cx="1655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3640" y="2205000"/>
            <a:ext cx="27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 marL="54720" indent="-54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Situation 1 – Situation 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Please make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sure th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correspondenc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19280" y="3141720"/>
            <a:ext cx="3384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27640" y="5734080"/>
            <a:ext cx="2521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 Statistic Imag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50920" y="5734080"/>
            <a:ext cx="115272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9" dur="1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77120" cy="43243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ANOVA or ANCO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0920" y="5805360"/>
            <a:ext cx="842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ANCOVA: e.g. gray matter proportion images (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  <a:ea typeface="宋体"/>
              </a:rPr>
              <a:t>Oakes et al., 2007, Neuroimage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80000" y="2349360"/>
            <a:ext cx="143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40000" y="6165720"/>
            <a:ext cx="633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Other covariate can be also specified as text files. (E.g. age, brain size, IQ etc.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43640" y="2349360"/>
            <a:ext cx="1441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609300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Please make sure the correspondence between the group images and the covariate images: order and voxel siz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16000" y="2349360"/>
            <a:ext cx="1440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84720" y="5877000"/>
            <a:ext cx="25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F Statistic Imag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5084640"/>
            <a:ext cx="1008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1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751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tatistical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One sample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Two Sample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aired T tes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NOVA analysi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6335640" cy="48913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95280" y="189000"/>
            <a:ext cx="576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rrelation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443640" y="1916280"/>
            <a:ext cx="302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The imaging measure: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ALFF maps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9280" y="2565360"/>
            <a:ext cx="2952720" cy="93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3573360"/>
            <a:ext cx="2952720" cy="100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588000" y="3213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4000"/>
          </a:bodyPr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Traits: e.g. 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MMSE.t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19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15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23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14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23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marL="47880" indent="-47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…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9640" y="2421000"/>
            <a:ext cx="2736720" cy="107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92360" y="5516640"/>
            <a:ext cx="136692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19640" y="3573360"/>
            <a:ext cx="2736720" cy="1079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1" dur="1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2920" y="263700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7" dur="1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6920" y="1484280"/>
            <a:ext cx="720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SPM5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xjview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RIcr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Slice Viewer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3" dur="1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40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SPM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465800" cy="2044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995640" y="256536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580000" y="2060640"/>
            <a:ext cx="1616040" cy="16556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5580000" y="242100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42920" y="2133720"/>
            <a:ext cx="5362560" cy="4276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619280" y="2421000"/>
            <a:ext cx="39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780000" y="3068640"/>
            <a:ext cx="936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2556000" y="333360"/>
            <a:ext cx="4743360" cy="62006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9" dur="1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759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SPM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1616040" cy="16556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84360" y="2205000"/>
            <a:ext cx="122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3635280" y="1484280"/>
            <a:ext cx="3457800" cy="30672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84360" y="2492280"/>
            <a:ext cx="122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3348000" y="1844640"/>
            <a:ext cx="4591080" cy="33242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3" dur="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241800" cy="27828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7592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xj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3080" y="3789360"/>
            <a:ext cx="122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0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3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结果呈现—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xj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76360" y="100080"/>
            <a:ext cx="8099280" cy="67485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195640" y="5589720"/>
            <a:ext cx="576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00360" y="5950080"/>
            <a:ext cx="863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68360" y="5805360"/>
            <a:ext cx="935280" cy="14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24000" y="2997360"/>
            <a:ext cx="511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1280" y="3284640"/>
            <a:ext cx="1657080" cy="165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0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3" dur="1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23640" y="40428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Results Viewing - MRIc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5640" y="2060640"/>
            <a:ext cx="1584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48000" y="2060640"/>
            <a:ext cx="719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-36360" y="1628640"/>
            <a:ext cx="3752640" cy="15908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835280" y="227664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9075600" cy="36417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7" dur="1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77" name=""/>
          <p:cNvSpPr/>
          <p:nvPr/>
        </p:nvSpPr>
        <p:spPr>
          <a:xfrm>
            <a:off x="-108000" y="2781360"/>
            <a:ext cx="19796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ST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Slic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Viewer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156360" y="836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0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1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8066160" cy="63594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976320" y="0"/>
            <a:ext cx="1724040" cy="22766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971640" y="3500280"/>
            <a:ext cx="187164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08000" y="6424560"/>
            <a:ext cx="1079640" cy="244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71640" y="4005360"/>
            <a:ext cx="187164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71640" y="765000"/>
            <a:ext cx="1512720" cy="2890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042920" y="5300640"/>
            <a:ext cx="576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4797360"/>
            <a:ext cx="936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19280" y="5300640"/>
            <a:ext cx="43164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2916360" y="1557360"/>
            <a:ext cx="5472000" cy="39304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2987640" y="249408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87640" y="328464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987640" y="3860640"/>
            <a:ext cx="1152720" cy="287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87640" y="4653000"/>
            <a:ext cx="1152720" cy="287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0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3" dur="1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3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3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3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3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3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3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3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3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9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9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9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6800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1628640"/>
            <a:ext cx="720108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repara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ALFF: mALFF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FF: mfALFF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ReHo: smReHo-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C: zFC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921440" cy="6246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99" name=""/>
          <p:cNvSpPr/>
          <p:nvPr/>
        </p:nvSpPr>
        <p:spPr>
          <a:xfrm>
            <a:off x="1187280" y="5589720"/>
            <a:ext cx="863640" cy="4330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059280" y="1916280"/>
            <a:ext cx="5329080" cy="37954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132000" y="2565360"/>
            <a:ext cx="79236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32000" y="3284640"/>
            <a:ext cx="648000" cy="4334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132000" y="4869000"/>
            <a:ext cx="79236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0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1" dur="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1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7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7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900000" y="1557360"/>
          <a:ext cx="181620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1816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2987640" y="476280"/>
            <a:ext cx="396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For Voxel size = 3*3*3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900000" y="3284640"/>
          <a:ext cx="2171880" cy="14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284640"/>
                    <a:ext cx="217188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900000" y="4941720"/>
          <a:ext cx="2273400" cy="152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4941720"/>
                    <a:ext cx="22734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3348000" y="1773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 touch rmm=4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203640" y="3429000"/>
            <a:ext cx="57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 or edges touch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rmm=5; </a:t>
            </a:r>
            <a:r>
              <a:rPr b="1" lang="zh-CN" sz="1800" spc="-1" strike="noStrike">
                <a:solidFill>
                  <a:srgbClr val="b1e2fb"/>
                </a:solidFill>
                <a:latin typeface="Tahoma"/>
              </a:rPr>
              <a:t>SPM_Criterion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03640" y="5157720"/>
            <a:ext cx="57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Voxels are connected if their faces, edges, or corners touch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rmm=6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7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0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9" dur="1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611280" y="189000"/>
            <a:ext cx="7705440" cy="6408360"/>
            <a:chOff x="611280" y="189000"/>
            <a:chExt cx="7705440" cy="6408360"/>
          </a:xfrm>
        </p:grpSpPr>
        <p:pic>
          <p:nvPicPr>
            <p:cNvPr id="417" name="" descr=""/>
            <p:cNvPicPr/>
            <p:nvPr/>
          </p:nvPicPr>
          <p:blipFill>
            <a:blip r:embed="rId1"/>
            <a:stretch/>
          </p:blipFill>
          <p:spPr>
            <a:xfrm>
              <a:off x="611280" y="189000"/>
              <a:ext cx="7705440" cy="58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2"/>
            <a:stretch/>
          </p:blipFill>
          <p:spPr>
            <a:xfrm>
              <a:off x="829080" y="5186520"/>
              <a:ext cx="2408400" cy="141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"/>
          <p:cNvSpPr/>
          <p:nvPr/>
        </p:nvSpPr>
        <p:spPr>
          <a:xfrm>
            <a:off x="826920" y="6308640"/>
            <a:ext cx="23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9372600" cy="57722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79280" y="1125360"/>
            <a:ext cx="2808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16000" y="1700280"/>
            <a:ext cx="1440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84360" y="765000"/>
            <a:ext cx="439272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0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5" dur="1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611280" y="189000"/>
            <a:ext cx="7705440" cy="6408360"/>
            <a:chOff x="611280" y="189000"/>
            <a:chExt cx="7705440" cy="6408360"/>
          </a:xfrm>
        </p:grpSpPr>
        <p:pic>
          <p:nvPicPr>
            <p:cNvPr id="426" name="" descr=""/>
            <p:cNvPicPr/>
            <p:nvPr/>
          </p:nvPicPr>
          <p:blipFill>
            <a:blip r:embed="rId1"/>
            <a:stretch/>
          </p:blipFill>
          <p:spPr>
            <a:xfrm>
              <a:off x="611280" y="189000"/>
              <a:ext cx="7705440" cy="58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2"/>
            <a:stretch/>
          </p:blipFill>
          <p:spPr>
            <a:xfrm>
              <a:off x="829080" y="5186520"/>
              <a:ext cx="2408400" cy="141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"/>
          <p:cNvSpPr/>
          <p:nvPr/>
        </p:nvSpPr>
        <p:spPr>
          <a:xfrm>
            <a:off x="826920" y="5877000"/>
            <a:ext cx="23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2411280" y="2133720"/>
            <a:ext cx="5185080" cy="27525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2484360" y="4076640"/>
            <a:ext cx="1150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0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5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3995640" y="2708280"/>
            <a:ext cx="289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00000" y="2565360"/>
            <a:ext cx="86364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00000" y="1773360"/>
            <a:ext cx="180036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71640" y="1413000"/>
            <a:ext cx="64764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835280" y="141300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00000" y="2133720"/>
            <a:ext cx="935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763640" y="2133720"/>
            <a:ext cx="935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1835280" y="2421000"/>
            <a:ext cx="2016000" cy="711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835280" y="2637000"/>
            <a:ext cx="2016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32000" y="1197000"/>
            <a:ext cx="100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0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2268360" y="5300640"/>
            <a:ext cx="2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fill="hold">
                      <p:stCondLst>
                        <p:cond delay="0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1" dur="1" fill="hold"/>
                                        <p:tgtEl>
                                          <p:spTgt spid="4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1835280" y="580536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2708280"/>
            <a:ext cx="2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300720" y="2637000"/>
            <a:ext cx="647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4653000"/>
            <a:ext cx="2890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7777080" cy="61326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763640" y="4724280"/>
            <a:ext cx="935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826920" y="549360"/>
            <a:ext cx="7632720" cy="60181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971640" y="2637000"/>
            <a:ext cx="504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24720" y="378936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fill="hold">
                      <p:stCondLst>
                        <p:cond delay="0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7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61880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971640" y="609300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835280" y="609300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115920"/>
            <a:ext cx="8506080" cy="691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his report is based on CUI Xu's xjview. (http://www.alivelearn.net/xjview/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Revised by YAN Chao-Gan and ZHU Wei-Xuan 20091108: suitable for different Cluster Connectivity Criterion: surface connected, edge connected, corner connected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clusters found: 7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------------------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uster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voxels: 59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: 27   6 -4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 region:  // Right Cerebrum // Temporal Lobe // Superior Temporal Gyrus // White Matter // undefined // Temporal_Inf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intensity: 3.502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# voxels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TOTAL # VOXELS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Right Cerebrum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 Lob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White Matter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_Inf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Gray Matter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uperior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Fusiform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brodmann area 38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Inferior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Middle Temporal Gyr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Limbic Lobe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Uncus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Temporal_Pole_Mid_R (aal)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brodmann area 2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Sub-Gyral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----------------------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uster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Number of voxels: 98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eak MNI coordinate: -9 -78 -5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411280" y="69228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835280" y="1268280"/>
            <a:ext cx="863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195640" y="1484280"/>
            <a:ext cx="115236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79280" y="1773360"/>
            <a:ext cx="8280360" cy="4464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19280" y="2133720"/>
            <a:ext cx="7920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fill="hold">
                      <p:stCondLst>
                        <p:cond delay="0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7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0184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1619280" y="256536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2771640" y="1268280"/>
            <a:ext cx="4824720" cy="41673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2843280" y="2133720"/>
            <a:ext cx="5763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43280" y="2852640"/>
            <a:ext cx="57636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43280" y="3645000"/>
            <a:ext cx="5763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43280" y="4437000"/>
            <a:ext cx="57636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55640" y="2781360"/>
            <a:ext cx="503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fill="hold">
                      <p:stCondLst>
                        <p:cond delay="0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9" dur="1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9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rcRect l="0" t="1023" r="0" b="2245"/>
          <a:stretch/>
        </p:blipFill>
        <p:spPr>
          <a:xfrm>
            <a:off x="900000" y="115920"/>
            <a:ext cx="7626600" cy="67676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547640" y="3716280"/>
            <a:ext cx="576360" cy="21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71640" y="6354720"/>
            <a:ext cx="647640" cy="2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1042920" y="5686560"/>
            <a:ext cx="1924200" cy="117144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042920" y="6453360"/>
            <a:ext cx="1225440" cy="242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4" dur="indefinite" restart="never" nodeType="tmRoot">
          <p:childTnLst>
            <p:seq>
              <p:cTn id="1725" dur="indefinite" nodeType="mainSeq">
                <p:childTnLst>
                  <p:par>
                    <p:cTn id="1726" fill="hold">
                      <p:stCondLst>
                        <p:cond delay="0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9" dur="1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05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One sample T test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56360" y="234936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971640" y="1357200"/>
            <a:ext cx="6769080" cy="55008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3059280" y="2492280"/>
            <a:ext cx="5256000" cy="30020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6048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Create Brodmann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042920" y="4653000"/>
            <a:ext cx="172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042920" y="6381720"/>
            <a:ext cx="230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32000" y="3141720"/>
            <a:ext cx="64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500720" y="3789360"/>
            <a:ext cx="4140000" cy="1465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\brodmann.nii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\Brodmann_61x73x61.nii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2" dur="indefinite" restart="never" nodeType="tmRoot">
          <p:childTnLst>
            <p:seq>
              <p:cTn id="1753" dur="indefinite" nodeType="mainSeq">
                <p:childTnLst>
                  <p:par>
                    <p:cTn id="1754" fill="hold">
                      <p:stCondLst>
                        <p:cond delay="0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7" dur="1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769440" cy="55008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6048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Create Brodmann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64000" y="378936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484360" y="6093000"/>
            <a:ext cx="792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0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3" dur="1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6624720" cy="64659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2771640" y="220500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516720" y="5734080"/>
            <a:ext cx="115236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01" name=""/>
          <p:cNvSpPr/>
          <p:nvPr/>
        </p:nvSpPr>
        <p:spPr>
          <a:xfrm>
            <a:off x="-18108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Data Resampl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708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708360" y="4365720"/>
            <a:ext cx="388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708360" y="4797360"/>
            <a:ext cx="1727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724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443640" y="4869000"/>
            <a:ext cx="792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3645000"/>
            <a:ext cx="2987640" cy="1465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 – Nearest Neighb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– Trilinea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2- 2nd degree b-spline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708360" y="5300640"/>
            <a:ext cx="107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708360" y="5877000"/>
            <a:ext cx="266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0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9" dur="1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42920" y="350028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6" dur="indefinite" restart="never" nodeType="tmRoot">
          <p:childTnLst>
            <p:seq>
              <p:cTn id="1877" dur="indefinite" nodeType="mainSeq">
                <p:childTnLst>
                  <p:par>
                    <p:cTn id="1878" fill="hold">
                      <p:stCondLst>
                        <p:cond delay="0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1" dur="1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19528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740200" cy="43005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76364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7164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140360" y="4508640"/>
            <a:ext cx="23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92720" y="450864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340000" y="4797360"/>
            <a:ext cx="56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.95      0.95           0.95           0.95         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.95</a:t>
            </a:r>
            <a:r>
              <a:rPr b="1" lang="fr-FR" sz="2000" spc="-1" strike="noStrike" baseline="30000">
                <a:solidFill>
                  <a:srgbClr val="ffff00"/>
                </a:solidFill>
                <a:latin typeface="Times New Roman"/>
                <a:ea typeface="隶书"/>
              </a:rPr>
              <a:t>5</a:t>
            </a: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=0.774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3640" y="4437000"/>
            <a:ext cx="23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=0.0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Probability of not getting a false positive resul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- 0.05 = 0.95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0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7" dur="1" fill="hold"/>
                                        <p:tgtEl>
                                          <p:spTgt spid="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26920" y="1125360"/>
            <a:ext cx="8066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onferroni correction: 0.05/5=0.01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mily-Wise Error (FWE) correctio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False Discovery Rates (FDR) correction   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onte Carlo simulations (AlphaSim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fill="hold">
                      <p:stCondLst>
                        <p:cond delay="0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5" dur="1" fill="hold"/>
                                        <p:tgtEl>
                                          <p:spTgt spid="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2D40-34BB-4E95-AFE3-A67C24C2414F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4072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FDR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272360" cy="28638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116000" y="3284640"/>
            <a:ext cx="6985080" cy="360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116000" y="3645000"/>
            <a:ext cx="6985080" cy="360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651640" y="2349360"/>
            <a:ext cx="1368360" cy="2232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867280" y="3213000"/>
            <a:ext cx="865440" cy="432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4" name="Rectangle 2"/>
          <p:cNvSpPr/>
          <p:nvPr/>
        </p:nvSpPr>
        <p:spPr>
          <a:xfrm>
            <a:off x="1547640" y="5084640"/>
            <a:ext cx="640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False discovery rate Q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=E(V/(V+S))=E(V/R)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4005360"/>
            <a:ext cx="86544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33000" y="6302520"/>
            <a:ext cx="81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Benjamini and Hochberg, 1995, Journal of the Royal Statistical Society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4" dur="indefinite" restart="never" nodeType="tmRoot">
          <p:childTnLst>
            <p:seq>
              <p:cTn id="1975" dur="indefinite" nodeType="mainSeq">
                <p:childTnLst>
                  <p:par>
                    <p:cTn id="1976" fill="hold">
                      <p:stCondLst>
                        <p:cond delay="0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9" dur="1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9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9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0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9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CE13-C908-46A9-BAB4-7C628A2E5B0B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900000" y="1557360"/>
            <a:ext cx="7920000" cy="36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Let H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, …, H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e the null hypotheses and P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, …, P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their corresponding p-values. Order these values in increasing order and denote them by P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, …, P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(m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. For a given q, find the largest k such that P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(k)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kq/m.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n reject (i.e. declare positive) all H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(i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or i = 1, …, k.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4072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FDR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2" dur="indefinite" restart="never" nodeType="tmRoot">
          <p:childTnLst>
            <p:seq>
              <p:cTn id="2023" dur="indefinite" nodeType="mainSeq">
                <p:childTnLst>
                  <p:par>
                    <p:cTn id="2024" fill="hold">
                      <p:stCondLst>
                        <p:cond delay="0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7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B7E2-EBFF-4E81-9CD8-0ACB43DAE382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4072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FDR in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616040" y="1341360"/>
            <a:ext cx="6124680" cy="5548320"/>
            <a:chOff x="1616040" y="1341360"/>
            <a:chExt cx="6124680" cy="5548320"/>
          </a:xfrm>
        </p:grpSpPr>
        <p:pic>
          <p:nvPicPr>
            <p:cNvPr id="545" name="" descr=""/>
            <p:cNvPicPr/>
            <p:nvPr/>
          </p:nvPicPr>
          <p:blipFill>
            <a:blip r:embed="rId1"/>
            <a:stretch/>
          </p:blipFill>
          <p:spPr>
            <a:xfrm>
              <a:off x="1616040" y="1341360"/>
              <a:ext cx="6124680" cy="48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" descr=""/>
            <p:cNvPicPr/>
            <p:nvPr/>
          </p:nvPicPr>
          <p:blipFill>
            <a:blip r:embed="rId2"/>
            <a:stretch/>
          </p:blipFill>
          <p:spPr>
            <a:xfrm>
              <a:off x="1758960" y="6165720"/>
              <a:ext cx="214308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7" name=""/>
          <p:cNvSpPr/>
          <p:nvPr/>
        </p:nvSpPr>
        <p:spPr>
          <a:xfrm>
            <a:off x="1760400" y="6669000"/>
            <a:ext cx="208764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0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3" dur="1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3203640" y="1916280"/>
            <a:ext cx="3292560" cy="3528720"/>
          </a:xfrm>
          <a:prstGeom prst="rect">
            <a:avLst/>
          </a:prstGeom>
          <a:ln w="0">
            <a:noFill/>
          </a:ln>
        </p:spPr>
      </p:pic>
      <p:sp>
        <p:nvSpPr>
          <p:cNvPr id="55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6A20-CB2D-4F4D-A44C-1964018B04E1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4072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FDR in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35280" y="3141720"/>
            <a:ext cx="237672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635280" y="3716280"/>
            <a:ext cx="2376720" cy="432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492360" y="4508640"/>
            <a:ext cx="115092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716360" y="4508640"/>
            <a:ext cx="165600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4" dur="indefinite" restart="never" nodeType="tmRoot">
          <p:childTnLst>
            <p:seq>
              <p:cTn id="2035" dur="indefinite" nodeType="mainSeq">
                <p:childTnLst>
                  <p:par>
                    <p:cTn id="2036" fill="hold">
                      <p:stCondLst>
                        <p:cond delay="0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9" dur="1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4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6481440" cy="6597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11280" y="5084640"/>
            <a:ext cx="410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6000" y="2276640"/>
            <a:ext cx="16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mReH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ALFF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1557360"/>
            <a:ext cx="1800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1916280"/>
            <a:ext cx="41054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5589720"/>
            <a:ext cx="316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6093000"/>
            <a:ext cx="122400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5516640"/>
            <a:ext cx="16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g1-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6165720"/>
            <a:ext cx="107928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6124680" cy="4829040"/>
          </a:xfrm>
          <a:prstGeom prst="rect">
            <a:avLst/>
          </a:prstGeom>
          <a:ln w="0">
            <a:noFill/>
          </a:ln>
        </p:spPr>
      </p:pic>
      <p:sp>
        <p:nvSpPr>
          <p:cNvPr id="55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043C-27A9-437B-88D7-A7B61BCD58FA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4072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FDR in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627280" y="4941720"/>
            <a:ext cx="792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79640" y="5300640"/>
            <a:ext cx="72072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4" dur="indefinite" restart="never" nodeType="tmRoot">
          <p:childTnLst>
            <p:seq>
              <p:cTn id="2075" dur="indefinite" nodeType="mainSeq">
                <p:childTnLst>
                  <p:par>
                    <p:cTn id="2076" fill="hold">
                      <p:stCondLst>
                        <p:cond delay="0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9" dur="1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327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ultiple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26920" y="1452600"/>
            <a:ext cx="806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onte Carlo simulations (AlphaSim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3527640" cy="264168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572000" y="2403360"/>
            <a:ext cx="3579840" cy="268128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4067280" y="5300640"/>
            <a:ext cx="574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?</a:t>
            </a:r>
            <a:endParaRPr b="0" lang="en-US" sz="4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0" dur="indefinite" restart="never" nodeType="tmRoot">
          <p:childTnLst>
            <p:seq>
              <p:cTn id="2091" dur="indefinite" nodeType="mainSeq">
                <p:childTnLst>
                  <p:par>
                    <p:cTn id="2092" fill="hold">
                      <p:stCondLst>
                        <p:cond delay="0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5" dur="1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72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REST AlphaSim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6156360" y="162864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2" dur="indefinite" restart="never" nodeType="tmRoot">
          <p:childTnLst>
            <p:seq>
              <p:cTn id="2103" dur="indefinite" nodeType="mainSeq">
                <p:childTnLst>
                  <p:par>
                    <p:cTn id="2104" fill="hold">
                      <p:stCondLst>
                        <p:cond delay="0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7" dur="1" fill="hold"/>
                                        <p:tgtEl>
                                          <p:spTgt spid="5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60000" cy="49737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3276720" y="1484280"/>
            <a:ext cx="9349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2060640"/>
            <a:ext cx="934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372360" y="3357720"/>
            <a:ext cx="1079280" cy="50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588000" y="1484280"/>
            <a:ext cx="8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588000" y="2060640"/>
            <a:ext cx="8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348000" y="2708280"/>
            <a:ext cx="403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76720" y="4149720"/>
            <a:ext cx="41749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76720" y="4797360"/>
            <a:ext cx="172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4" dur="indefinite" restart="never" nodeType="tmRoot">
          <p:childTnLst>
            <p:seq>
              <p:cTn id="2125" dur="indefinite" nodeType="mainSeq">
                <p:childTnLst>
                  <p:par>
                    <p:cTn id="2126" fill="hold">
                      <p:stCondLst>
                        <p:cond delay="0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9" dur="1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314280" y="907920"/>
            <a:ext cx="8505720" cy="542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l Size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Frequency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Cum Prop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p/Voxe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Max Freq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Alpha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597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6198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96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615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81994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628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229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0478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413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594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4666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27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47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6893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8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78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150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26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76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877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86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0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299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58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8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564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40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2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29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8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718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27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80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9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82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19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7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67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883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13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498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26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9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0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35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5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6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24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70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4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6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167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79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2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106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856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76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1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1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54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4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1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33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6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22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7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1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8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10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3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999997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5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.00000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0000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0.001000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786280" y="907920"/>
            <a:ext cx="792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14280" y="907920"/>
            <a:ext cx="792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4280" y="4941720"/>
            <a:ext cx="835344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6" dur="indefinite" restart="never" nodeType="tmRoot">
          <p:childTnLst>
            <p:seq>
              <p:cTn id="2177" dur="indefinite" nodeType="mainSeq">
                <p:childTnLst>
                  <p:par>
                    <p:cTn id="2178" fill="hold">
                      <p:stCondLst>
                        <p:cond delay="0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1" dur="1" fill="hold"/>
                                        <p:tgtEl>
                                          <p:spTgt spid="5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2920" y="436392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0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9" dur="1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906560" y="1517760"/>
            <a:ext cx="5113440" cy="41670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4427640" y="508464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98" name=""/>
          <p:cNvSpPr/>
          <p:nvPr/>
        </p:nvSpPr>
        <p:spPr>
          <a:xfrm>
            <a:off x="-108000" y="2781360"/>
            <a:ext cx="19796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S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Image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alculator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6156360" y="234936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0" dur="indefinite" restart="never" nodeType="tmRoot">
          <p:childTnLst>
            <p:seq>
              <p:cTn id="2201" dur="indefinite" nodeType="mainSeq">
                <p:childTnLst>
                  <p:par>
                    <p:cTn id="2202" fill="hold">
                      <p:stCondLst>
                        <p:cond delay="0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5" dur="1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T Image Calcul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6481440" cy="659772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2411280" y="5084640"/>
            <a:ext cx="410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258920" y="1557360"/>
            <a:ext cx="1800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411280" y="1916280"/>
            <a:ext cx="410544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11280" y="5589720"/>
            <a:ext cx="316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411280" y="6093000"/>
            <a:ext cx="122400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258920" y="3284640"/>
            <a:ext cx="172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340000" y="3645000"/>
            <a:ext cx="417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96000" y="558972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0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7" dur="1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050560" y="-100440"/>
            <a:ext cx="53276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ST Image Calcul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4360" y="798480"/>
            <a:ext cx="82803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Example expressions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a)      g1-1     Subtract 1 from each image in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b)      g1-g2    Subtract each image in group 2 from each corresponding image in group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c)      i1-i2    Subtract image 2 from image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d)      i1&gt;100    Make a binary mask image at threshold of 100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e)      g1.*(i1&gt;100)   Make a mask and then apply to each image in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00"/>
              </a:buClr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mean(g1)   Calculate the mean image of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00"/>
              </a:buClr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i1-mean(g1))./std(g1)   Calculate the z value of i1 related to group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g)      corr(g1,g2,''temporal'')    Calculate the temporal correlation between two groups, i.e. one correlation coefficient between two ''time courses'' for each voxel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(h)      corr(g1,g2,''spatial'')     Calculate the spatial correlation between two groups, i.e. one correlation coefficient between two images for each ''time point''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4" dur="indefinite" restart="never" nodeType="tmRoot">
          <p:childTnLst>
            <p:seq>
              <p:cTn id="2275" dur="indefinite" nodeType="mainSeq">
                <p:childTnLst>
                  <p:par>
                    <p:cTn id="2276" fill="hold">
                      <p:stCondLst>
                        <p:cond delay="0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9" dur="1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00000" y="155736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tistical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View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ultiple Comparis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ST Image Calculator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ther Function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42920" y="515772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0" dur="indefinite" restart="never" nodeType="tmRoot">
          <p:childTnLst>
            <p:seq>
              <p:cTn id="2281" dur="indefinite" nodeType="mainSeq">
                <p:childTnLst>
                  <p:par>
                    <p:cTn id="2282" fill="hold">
                      <p:stCondLst>
                        <p:cond delay="0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5" dur="1" fill="hold"/>
                                        <p:tgtEl>
                                          <p:spTgt spid="6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09080" cy="4356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4319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6720" y="2708280"/>
            <a:ext cx="21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2349360"/>
            <a:ext cx="122400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1280" y="2349360"/>
            <a:ext cx="158436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5113440" cy="41673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23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Power Spectrum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245736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156360" y="616572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6" dur="indefinite" restart="never" nodeType="tmRoot">
          <p:childTnLst>
            <p:seq>
              <p:cTn id="2287" dur="indefinite" nodeType="mainSeq">
                <p:childTnLst>
                  <p:par>
                    <p:cTn id="2288" fill="hold">
                      <p:stCondLst>
                        <p:cond delay="0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1" dur="1" fill="hold"/>
                                        <p:tgtEl>
                                          <p:spTgt spid="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048360" cy="45072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555640" y="188640"/>
            <a:ext cx="4319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ower Spectr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050920" y="1773360"/>
            <a:ext cx="11527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1763640" y="2349360"/>
            <a:ext cx="2592360" cy="137664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2195640" y="2349360"/>
            <a:ext cx="2952720" cy="14385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8" dur="indefinite" restart="never" nodeType="tmRoot">
          <p:childTnLst>
            <p:seq>
              <p:cTn id="2309" dur="indefinite" nodeType="mainSeq">
                <p:childTnLst>
                  <p:par>
                    <p:cTn id="2310" fill="hold">
                      <p:stCondLst>
                        <p:cond delay="0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3" dur="1" fill="hold"/>
                                        <p:tgtEl>
                                          <p:spTgt spid="6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3359160" cy="5256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555640" y="188640"/>
            <a:ext cx="4319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ower Spectr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68360" y="2205000"/>
            <a:ext cx="1295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700360" y="4869000"/>
            <a:ext cx="28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3492360" y="2203560"/>
            <a:ext cx="5651640" cy="38401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6" dur="indefinite" restart="never" nodeType="tmRoot">
          <p:childTnLst>
            <p:seq>
              <p:cTn id="2337" dur="indefinite" nodeType="mainSeq">
                <p:childTnLst>
                  <p:par>
                    <p:cTn id="2338" fill="hold">
                      <p:stCondLst>
                        <p:cond delay="0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1" dur="1" fill="hold"/>
                                        <p:tgtEl>
                                          <p:spTgt spid="6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3359160" cy="52560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1979640" y="1273320"/>
            <a:ext cx="7020000" cy="477036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555640" y="188640"/>
            <a:ext cx="4319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ower Spectr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195640" y="5516640"/>
            <a:ext cx="223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2" dur="indefinite" restart="never" nodeType="tmRoot">
          <p:childTnLst>
            <p:seq>
              <p:cTn id="2353" dur="indefinite" nodeType="mainSeq">
                <p:childTnLst>
                  <p:par>
                    <p:cTn id="2354" fill="hold">
                      <p:stCondLst>
                        <p:cond delay="0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7" dur="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2050920" y="1422360"/>
            <a:ext cx="5113440" cy="41673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4572000" y="444672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260360" y="189000"/>
            <a:ext cx="698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Granger Causality Analysi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763640" y="5734080"/>
            <a:ext cx="6265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ntributed by Mr. ZANG Zhen-Xiang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2" dur="indefinite" restart="never" nodeType="tmRoot">
          <p:childTnLst>
            <p:seq>
              <p:cTn id="2363" dur="indefinite" nodeType="mainSeq">
                <p:childTnLst>
                  <p:par>
                    <p:cTn id="2364" fill="hold">
                      <p:stCondLst>
                        <p:cond delay="0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7" dur="1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41200" y="33300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Theory of Granger Caus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936800" y="6405480"/>
            <a:ext cx="1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839360" cy="399096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826920" y="5013360"/>
            <a:ext cx="7848720" cy="115236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3348000" y="5516640"/>
            <a:ext cx="4581720" cy="39996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2050920" y="6415200"/>
            <a:ext cx="6266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Granger 1969; Ding et al., 2006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357336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64000" y="357336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266920" y="436572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564000" y="436572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211640" y="2565360"/>
            <a:ext cx="431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ahoma"/>
              </a:rPr>
              <a:t>Signed path coefficient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ahoma"/>
              </a:rPr>
              <a:t>Chen et al, 2009, ISMRM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348000" y="134136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132000" y="213372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500720" y="357336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500720" y="436572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8" dur="indefinite" restart="never" nodeType="tmRoot">
          <p:childTnLst>
            <p:seq>
              <p:cTn id="2369" dur="indefinite" nodeType="mainSeq">
                <p:childTnLst>
                  <p:par>
                    <p:cTn id="2370" fill="hold">
                      <p:stCondLst>
                        <p:cond delay="0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3" dur="1" fill="hold"/>
                                        <p:tgtEl>
                                          <p:spTgt spid="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458120" cy="80964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7515000" cy="74304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3"/>
          <a:stretch/>
        </p:blipFill>
        <p:spPr>
          <a:xfrm>
            <a:off x="971640" y="4005360"/>
            <a:ext cx="7467480" cy="75240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4"/>
          <a:stretch/>
        </p:blipFill>
        <p:spPr>
          <a:xfrm>
            <a:off x="971640" y="3213000"/>
            <a:ext cx="7505640" cy="7146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5"/>
          <a:stretch/>
        </p:blipFill>
        <p:spPr>
          <a:xfrm>
            <a:off x="971640" y="4797360"/>
            <a:ext cx="7448400" cy="5907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41200" y="33300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隶书"/>
              </a:rPr>
              <a:t>Theory of Granger Caus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936800" y="6405480"/>
            <a:ext cx="1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050920" y="6415200"/>
            <a:ext cx="6266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Granger 1969; Ding et al., 2006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403280" y="2492280"/>
            <a:ext cx="1656000" cy="649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03280" y="3284640"/>
            <a:ext cx="165600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492360" y="2565360"/>
            <a:ext cx="431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ahoma"/>
              </a:rPr>
              <a:t>Residual based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6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0" dur="indefinite" restart="never" nodeType="tmRoot">
          <p:childTnLst>
            <p:seq>
              <p:cTn id="2411" dur="indefinite" nodeType="mainSeq">
                <p:childTnLst>
                  <p:par>
                    <p:cTn id="2412" fill="hold">
                      <p:stCondLst>
                        <p:cond delay="0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5" dur="1" fill="hold"/>
                                        <p:tgtEl>
                                          <p:spTgt spid="6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" descr=""/>
          <p:cNvPicPr/>
          <p:nvPr/>
        </p:nvPicPr>
        <p:blipFill>
          <a:blip r:embed="rId1"/>
          <a:srcRect l="0" t="0" r="0" b="8351"/>
          <a:stretch/>
        </p:blipFill>
        <p:spPr>
          <a:xfrm>
            <a:off x="1332000" y="0"/>
            <a:ext cx="4875120" cy="677232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2411280" y="4508640"/>
            <a:ext cx="1152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64000" y="4508640"/>
            <a:ext cx="244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2" dur="indefinite" restart="never" nodeType="tmRoot">
          <p:childTnLst>
            <p:seq>
              <p:cTn id="2433" dur="indefinite" nodeType="mainSeq">
                <p:childTnLst>
                  <p:par>
                    <p:cTn id="2434" fill="hold">
                      <p:stCondLst>
                        <p:cond delay="0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7" dur="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5113440" cy="416736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86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Tahoma"/>
              </a:rPr>
              <a:t>NIfTI nii to NIfTI pair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245736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156360" y="486900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6" dur="indefinite" restart="never" nodeType="tmRoot">
          <p:childTnLst>
            <p:seq>
              <p:cTn id="2447" dur="indefinite" nodeType="mainSeq">
                <p:childTnLst>
                  <p:par>
                    <p:cTn id="2448" fill="hold">
                      <p:stCondLst>
                        <p:cond delay="0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1" dur="1" fill="hold"/>
                                        <p:tgtEl>
                                          <p:spTgt spid="6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626920" y="802800"/>
            <a:ext cx="43196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NIfTI .nii to NIfTI pai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6408720" cy="514980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2124000" y="2781360"/>
            <a:ext cx="4392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43280" y="4292640"/>
            <a:ext cx="3816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843280" y="4797360"/>
            <a:ext cx="1081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076720" y="4869000"/>
            <a:ext cx="9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8" dur="indefinite" restart="never" nodeType="tmRoot">
          <p:childTnLst>
            <p:seq>
              <p:cTn id="2469" dur="indefinite" nodeType="mainSeq">
                <p:childTnLst>
                  <p:par>
                    <p:cTn id="2470" fill="hold">
                      <p:stCondLst>
                        <p:cond delay="0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3" dur="1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fill="hold">
                      <p:stCondLst>
                        <p:cond delay="indefinite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3673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835280" y="1484280"/>
            <a:ext cx="3905280" cy="4897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3789360"/>
            <a:ext cx="12258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2852640"/>
            <a:ext cx="31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m*-1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zFC imag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277956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661000"/>
            <a:ext cx="288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Directory for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aving 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594828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8000" y="4724280"/>
            <a:ext cx="3816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724280"/>
            <a:ext cx="31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Brain Mask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Reading and Writing fun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4360" y="1407960"/>
            <a:ext cx="806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Read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[Data Vox Head]=rest_readfile('brodmann.nii'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– 181*217*181 doubl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Vox – 1 1 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Head - Structure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Process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BA20Data=(Data==20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Writing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rest_WriteNiftiImage(BA20Data,Head,'BA20.img');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6" dur="indefinite" restart="never" nodeType="tmRoot">
          <p:childTnLst>
            <p:seq>
              <p:cTn id="2497" dur="indefinite" nodeType="mainSeq">
                <p:childTnLst>
                  <p:par>
                    <p:cTn id="2498" fill="hold">
                      <p:stCondLst>
                        <p:cond delay="0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1" dur="1" fill="hold"/>
                                        <p:tgtEl>
                                          <p:spTgt spid="6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2" fill="hold">
                      <p:stCondLst>
                        <p:cond delay="indefinite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6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2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7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0" dur="500" fill="hold"/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6" dur="500" fill="hold"/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olve Problem "Out Of Memory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1887480"/>
            <a:ext cx="8065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1. Reboot your computer and do not run any other programs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2. Enlarge your memory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3. MATLAB Version 7.1 or above is suggested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4. You can turn on the 3GB switch of Windows XP!!! Please see more details in http://msdn.microsoft.com/en-us/library/ff556232.aspx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5. If this problem remains, please install Linux, especially 64 bit Linux and Matlab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2" dur="indefinite" restart="never" nodeType="tmRoot">
          <p:childTnLst>
            <p:seq>
              <p:cTn id="2543" dur="indefinite" nodeType="mainSeq">
                <p:childTnLst>
                  <p:par>
                    <p:cTn id="2544" fill="hold">
                      <p:stCondLst>
                        <p:cond delay="0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7" dur="1" fill="hold"/>
                                        <p:tgtEl>
                                          <p:spTgt spid="7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olve Problem "Out Of Memory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84360" y="1557360"/>
            <a:ext cx="806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Enable the 3GB switch on Windows  XP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* Right-click My Computer -&gt; Properties -&gt; Advanced -&gt; Startup and Recovery -&gt; Settings -&gt; Edit. 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Modify the following line (maybe not exactly same)  in the boot.ini file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multi(0)disk(0)rdisk(0)partition(1)\WINDOWS="WinXP  Pro 3GB" /noexecute=optin /fastdetect </a:t>
            </a: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/3GB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* Save and close -&gt; Restart your computer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Enable the  3GB switch on Windows Vista and Windows 7 (32-bit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* Right-click Command Prompt in the Accessories  program group of the Start menu. Click Run as Administrator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* At the command prompt, enter "bcdedit /set  IncreaseUserVa 3072"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* Restart the computer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8" dur="indefinite" restart="never" nodeType="tmRoot">
          <p:childTnLst>
            <p:seq>
              <p:cTn id="2549" dur="indefinite" nodeType="mainSeq">
                <p:childTnLst>
                  <p:par>
                    <p:cTn id="2550" fill="hold">
                      <p:stCondLst>
                        <p:cond delay="0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3" dur="1" fill="hold"/>
                                        <p:tgtEl>
                                          <p:spTgt spid="7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484360" y="282096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ww.restfmri.ne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Hel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26920" y="228600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questions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4" dur="indefinite" restart="never" nodeType="tmRoot">
          <p:childTnLst>
            <p:seq>
              <p:cTn id="2555" dur="indefinite" nodeType="mainSeq">
                <p:childTnLst>
                  <p:par>
                    <p:cTn id="2556" fill="hold">
                      <p:stCondLst>
                        <p:cond delay="0"/>
                      </p:stCondLst>
                      <p:childTnLst>
                        <p:par>
                          <p:cTn id="2557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9" dur="1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hank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331640" y="1412640"/>
            <a:ext cx="287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DONG Zhang-Y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GUO Xiao-Ju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HE Y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LONG Xiang-Yu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ONG Xiao-We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YAO L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ANG Yu-Fe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ANG H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U Chao-Zh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OU Qi-H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UO Xi-Ni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"/>
          <p:cNvSpPr/>
          <p:nvPr/>
        </p:nvSpPr>
        <p:spPr>
          <a:xfrm>
            <a:off x="5003640" y="5084640"/>
            <a:ext cx="345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All the group members!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76720" y="1341360"/>
            <a:ext cx="35989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PM Team: Wellcome Department of Imaging Neuroscience, UCL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MRIcroN Team: Chris RORDEN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Xjview Team: CUI Xu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0" dur="indefinite" restart="never" nodeType="tmRoot">
          <p:childTnLst>
            <p:seq>
              <p:cTn id="2561" dur="indefinite" nodeType="mainSeq">
                <p:childTnLst>
                  <p:par>
                    <p:cTn id="2562" fill="hold">
                      <p:stCondLst>
                        <p:cond delay="0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5" dur="1" fill="hold"/>
                                        <p:tgtEl>
                                          <p:spTgt spid="7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71640" y="2997000"/>
            <a:ext cx="77976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Thanks for your attention!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1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898800" cy="5003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4321080" cy="3686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356000" y="3789360"/>
            <a:ext cx="1368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708360" y="3141720"/>
            <a:ext cx="3384720" cy="1185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708360" y="3573360"/>
            <a:ext cx="3311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35733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The generat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pm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896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One sample T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3:17:48Z</dcterms:created>
  <dc:creator>YAN Chao-Gan</dc:creator>
  <dc:description/>
  <dc:language>en-US</dc:language>
  <cp:lastModifiedBy>YAN Chao-Gan</cp:lastModifiedBy>
  <dcterms:modified xsi:type="dcterms:W3CDTF">2012-10-21T03:54:28Z</dcterms:modified>
  <cp:revision>1997</cp:revision>
  <dc:subject/>
  <dc:title>Data Processing of Resting-State fMRI (Part 2)</dc:title>
</cp:coreProperties>
</file>